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23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8"/>
          <p:cNvGrpSpPr/>
          <p:nvPr/>
        </p:nvGrpSpPr>
        <p:grpSpPr>
          <a:xfrm>
            <a:off x="277920" y="1111320"/>
            <a:ext cx="8570880" cy="4097160"/>
            <a:chOff x="277920" y="1111320"/>
            <a:chExt cx="8570880" cy="4097160"/>
          </a:xfrm>
        </p:grpSpPr>
        <p:sp>
          <p:nvSpPr>
            <p:cNvPr id="40" name="Rectangle 3"/>
            <p:cNvSpPr/>
            <p:nvPr/>
          </p:nvSpPr>
          <p:spPr>
            <a:xfrm>
              <a:off x="322920" y="1111320"/>
              <a:ext cx="8498160" cy="93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3600" spc="-1" strike="noStrike">
                  <a:solidFill>
                    <a:srgbClr val="000000"/>
                  </a:solidFill>
                  <a:latin typeface="Arial"/>
                </a:rPr>
                <a:t>ГЛОМЕРУЛОНЕФРИТИС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НЕФРОТСКИ СИНДР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Line 4"/>
            <p:cNvSpPr/>
            <p:nvPr/>
          </p:nvSpPr>
          <p:spPr>
            <a:xfrm>
              <a:off x="277920" y="2106720"/>
              <a:ext cx="8570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12"/>
            <p:cNvSpPr/>
            <p:nvPr/>
          </p:nvSpPr>
          <p:spPr>
            <a:xfrm>
              <a:off x="446040" y="446724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. ДР ДЕЈАН 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Group 104"/>
          <p:cNvGrpSpPr/>
          <p:nvPr/>
        </p:nvGrpSpPr>
        <p:grpSpPr>
          <a:xfrm>
            <a:off x="257040" y="977760"/>
            <a:ext cx="8622000" cy="4700880"/>
            <a:chOff x="257040" y="977760"/>
            <a:chExt cx="8622000" cy="4700880"/>
          </a:xfrm>
        </p:grpSpPr>
        <p:sp>
          <p:nvSpPr>
            <p:cNvPr id="156" name="Rectangle 2"/>
            <p:cNvSpPr/>
            <p:nvPr/>
          </p:nvSpPr>
          <p:spPr>
            <a:xfrm>
              <a:off x="257040" y="977760"/>
              <a:ext cx="862200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ПЕРКОАГУЛАБИЛНОСТ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НЕФРОТСКО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НДРОМУ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Line 4"/>
            <p:cNvSpPr/>
            <p:nvPr/>
          </p:nvSpPr>
          <p:spPr>
            <a:xfrm flipV="1">
              <a:off x="310320" y="1495800"/>
              <a:ext cx="843336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8" name="Group 102"/>
            <p:cNvGrpSpPr/>
            <p:nvPr/>
          </p:nvGrpSpPr>
          <p:grpSpPr>
            <a:xfrm>
              <a:off x="692640" y="1706400"/>
              <a:ext cx="7641720" cy="3972240"/>
              <a:chOff x="692640" y="1706400"/>
              <a:chExt cx="7641720" cy="3972240"/>
            </a:xfrm>
          </p:grpSpPr>
          <p:sp>
            <p:nvSpPr>
              <p:cNvPr id="159" name="Rectangle 7"/>
              <p:cNvSpPr/>
              <p:nvPr/>
            </p:nvSpPr>
            <p:spPr>
              <a:xfrm>
                <a:off x="3562200" y="1814040"/>
                <a:ext cx="1924200" cy="4824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ХИПОАЛБУМИНЕМ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7"/>
              <p:cNvSpPr/>
              <p:nvPr/>
            </p:nvSpPr>
            <p:spPr>
              <a:xfrm>
                <a:off x="3419280" y="4291200"/>
                <a:ext cx="2209680" cy="4824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ХИПЕРКОАГУЛАБИЛНОС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Straight Arrow Connector 86"/>
              <p:cNvCxnSpPr>
                <a:stCxn id="159" idx="2"/>
                <a:endCxn id="160" idx="0"/>
              </p:cNvCxnSpPr>
              <p:nvPr/>
            </p:nvCxnSpPr>
            <p:spPr>
              <a:xfrm flipH="1">
                <a:off x="4523040" y="2297160"/>
                <a:ext cx="2160" cy="19947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62" name="Rectangle 7"/>
              <p:cNvSpPr/>
              <p:nvPr/>
            </p:nvSpPr>
            <p:spPr>
              <a:xfrm>
                <a:off x="3571560" y="5196240"/>
                <a:ext cx="192420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ДИУРЕТИЦ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Line 16"/>
              <p:cNvSpPr/>
              <p:nvPr/>
            </p:nvSpPr>
            <p:spPr>
              <a:xfrm>
                <a:off x="4525920" y="4773960"/>
                <a:ext cx="0" cy="422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7"/>
              <p:cNvSpPr/>
              <p:nvPr/>
            </p:nvSpPr>
            <p:spPr>
              <a:xfrm>
                <a:off x="818640" y="1706400"/>
                <a:ext cx="197172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овећан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ропустљивост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гломеру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5" name="Straight Arrow Connector 97"/>
              <p:cNvCxnSpPr>
                <a:stCxn id="159" idx="1"/>
              </p:cNvCxnSpPr>
              <p:nvPr/>
            </p:nvCxnSpPr>
            <p:spPr>
              <a:xfrm flipH="1">
                <a:off x="2789640" y="2055240"/>
                <a:ext cx="77220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66" name="Straight Arrow Connector 99"/>
              <p:cNvCxnSpPr/>
              <p:nvPr/>
            </p:nvCxnSpPr>
            <p:spPr>
              <a:xfrm flipH="1">
                <a:off x="5495400" y="2055240"/>
                <a:ext cx="7624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167" name="Rectangle 7"/>
              <p:cNvSpPr/>
              <p:nvPr/>
            </p:nvSpPr>
            <p:spPr>
              <a:xfrm>
                <a:off x="4695840" y="2849400"/>
                <a:ext cx="156204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агрегац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тромбоцит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Rectangle 7"/>
              <p:cNvSpPr/>
              <p:nvPr/>
            </p:nvSpPr>
            <p:spPr>
              <a:xfrm>
                <a:off x="2264040" y="2849400"/>
                <a:ext cx="209772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синтез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фибриноге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фактор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коагулације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липопротеи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Rectangle 7"/>
              <p:cNvSpPr/>
              <p:nvPr/>
            </p:nvSpPr>
            <p:spPr>
              <a:xfrm>
                <a:off x="818640" y="3782880"/>
                <a:ext cx="197172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овећа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губитак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нхибитор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тромбозе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,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лазминоге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Rectangle 7"/>
              <p:cNvSpPr/>
              <p:nvPr/>
            </p:nvSpPr>
            <p:spPr>
              <a:xfrm>
                <a:off x="6257880" y="1706400"/>
                <a:ext cx="197172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стицање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течност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з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васкуларног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ростор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1" name="Elbow Connector 48"/>
              <p:cNvCxnSpPr/>
              <p:nvPr/>
            </p:nvCxnSpPr>
            <p:spPr>
              <a:xfrm rot="5400000">
                <a:off x="3547080" y="2311200"/>
                <a:ext cx="552960" cy="524160"/>
              </a:xfrm>
              <a:prstGeom prst="bentConnector3">
                <a:avLst>
                  <a:gd name="adj1" fmla="val 49967"/>
                </a:avLst>
              </a:prstGeom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172" name="Elbow Connector 52"/>
              <p:cNvCxnSpPr>
                <a:endCxn id="167" idx="0"/>
              </p:cNvCxnSpPr>
              <p:nvPr/>
            </p:nvCxnSpPr>
            <p:spPr>
              <a:xfrm flipH="1" rot="16200000">
                <a:off x="4948200" y="2320200"/>
                <a:ext cx="552960" cy="505440"/>
              </a:xfrm>
              <a:prstGeom prst="bentConnector3">
                <a:avLst>
                  <a:gd name="adj1" fmla="val 49967"/>
                </a:avLst>
              </a:prstGeom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173" name="Elbow Connector 60"/>
              <p:cNvCxnSpPr/>
              <p:nvPr/>
            </p:nvCxnSpPr>
            <p:spPr>
              <a:xfrm flipH="1" rot="16200000">
                <a:off x="3456000" y="3662640"/>
                <a:ext cx="734040" cy="524160"/>
              </a:xfrm>
              <a:prstGeom prst="bentConnector3">
                <a:avLst>
                  <a:gd name="adj1" fmla="val 50000"/>
                </a:avLst>
              </a:prstGeom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174" name="Elbow Connector 61"/>
              <p:cNvCxnSpPr>
                <a:stCxn id="167" idx="2"/>
              </p:cNvCxnSpPr>
              <p:nvPr/>
            </p:nvCxnSpPr>
            <p:spPr>
              <a:xfrm rot="5400000">
                <a:off x="4876200" y="3678120"/>
                <a:ext cx="734040" cy="467280"/>
              </a:xfrm>
              <a:prstGeom prst="bentConnector3">
                <a:avLst>
                  <a:gd name="adj1" fmla="val 50000"/>
                </a:avLst>
              </a:prstGeom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</p:cxnSp>
          <p:cxnSp>
            <p:nvCxnSpPr>
              <p:cNvPr id="175" name="Straight Arrow Connector 64"/>
              <p:cNvCxnSpPr>
                <a:stCxn id="169" idx="3"/>
                <a:endCxn id="160" idx="1"/>
              </p:cNvCxnSpPr>
              <p:nvPr/>
            </p:nvCxnSpPr>
            <p:spPr>
              <a:xfrm>
                <a:off x="2790360" y="4130280"/>
                <a:ext cx="629280" cy="4021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76" name="Straight Arrow Connector 66"/>
              <p:cNvCxnSpPr/>
              <p:nvPr/>
            </p:nvCxnSpPr>
            <p:spPr>
              <a:xfrm>
                <a:off x="1799640" y="2401200"/>
                <a:ext cx="1080" cy="138204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77" name="Rectangle 7"/>
              <p:cNvSpPr/>
              <p:nvPr/>
            </p:nvSpPr>
            <p:spPr>
              <a:xfrm>
                <a:off x="6124680" y="4291200"/>
                <a:ext cx="220968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бубрежн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роток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крв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Rectangle 7"/>
              <p:cNvSpPr/>
              <p:nvPr/>
            </p:nvSpPr>
            <p:spPr>
              <a:xfrm>
                <a:off x="6303240" y="2947680"/>
                <a:ext cx="187632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хемоконцентрац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9" name="Straight Arrow Connector 70"/>
              <p:cNvCxnSpPr/>
              <p:nvPr/>
            </p:nvCxnSpPr>
            <p:spPr>
              <a:xfrm>
                <a:off x="7237800" y="2401200"/>
                <a:ext cx="1080" cy="5464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0" name="Straight Arrow Connector 73"/>
              <p:cNvCxnSpPr/>
              <p:nvPr/>
            </p:nvCxnSpPr>
            <p:spPr>
              <a:xfrm>
                <a:off x="7237800" y="3431160"/>
                <a:ext cx="1080" cy="8611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181" name="Straight Arrow Connector 76"/>
              <p:cNvCxnSpPr/>
              <p:nvPr/>
            </p:nvCxnSpPr>
            <p:spPr>
              <a:xfrm flipH="1">
                <a:off x="5628600" y="4532040"/>
                <a:ext cx="49572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2" name="Rectangle 7"/>
              <p:cNvSpPr/>
              <p:nvPr/>
            </p:nvSpPr>
            <p:spPr>
              <a:xfrm>
                <a:off x="6124680" y="5186520"/>
                <a:ext cx="220968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мун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ско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оштећењ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мембраноз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ефропатиј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Rectangle 7"/>
              <p:cNvSpPr/>
              <p:nvPr/>
            </p:nvSpPr>
            <p:spPr>
              <a:xfrm>
                <a:off x="692640" y="5186520"/>
                <a:ext cx="220968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Терапиј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стероидим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Straight Connector 85"/>
              <p:cNvSpPr/>
              <p:nvPr/>
            </p:nvSpPr>
            <p:spPr>
              <a:xfrm flipV="1">
                <a:off x="1797480" y="4992840"/>
                <a:ext cx="0" cy="19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Straight Connector 90"/>
              <p:cNvSpPr/>
              <p:nvPr/>
            </p:nvSpPr>
            <p:spPr>
              <a:xfrm>
                <a:off x="1800000" y="4992840"/>
                <a:ext cx="2513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6" name="Straight Arrow Connector 93"/>
              <p:cNvCxnSpPr/>
              <p:nvPr/>
            </p:nvCxnSpPr>
            <p:spPr>
              <a:xfrm flipH="1" flipV="1">
                <a:off x="4314600" y="4774320"/>
                <a:ext cx="1080" cy="2203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87" name="Straight Connector 94"/>
              <p:cNvSpPr/>
              <p:nvPr/>
            </p:nvSpPr>
            <p:spPr>
              <a:xfrm flipV="1">
                <a:off x="7238160" y="4993560"/>
                <a:ext cx="0" cy="193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Straight Connector 96"/>
              <p:cNvSpPr/>
              <p:nvPr/>
            </p:nvSpPr>
            <p:spPr>
              <a:xfrm>
                <a:off x="4725000" y="4994640"/>
                <a:ext cx="25138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89" name="Straight Arrow Connector 100"/>
              <p:cNvCxnSpPr/>
              <p:nvPr/>
            </p:nvCxnSpPr>
            <p:spPr>
              <a:xfrm flipH="1" flipV="1">
                <a:off x="4724280" y="4774320"/>
                <a:ext cx="1080" cy="2203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Group 3"/>
          <p:cNvGrpSpPr/>
          <p:nvPr/>
        </p:nvGrpSpPr>
        <p:grpSpPr>
          <a:xfrm>
            <a:off x="334800" y="1044720"/>
            <a:ext cx="8433000" cy="5522760"/>
            <a:chOff x="334800" y="1044720"/>
            <a:chExt cx="8433000" cy="5522760"/>
          </a:xfrm>
        </p:grpSpPr>
        <p:sp>
          <p:nvSpPr>
            <p:cNvPr id="191" name="Line 4"/>
            <p:cNvSpPr/>
            <p:nvPr/>
          </p:nvSpPr>
          <p:spPr>
            <a:xfrm flipV="1">
              <a:off x="334800" y="114768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Rectangle 7"/>
            <p:cNvSpPr/>
            <p:nvPr/>
          </p:nvSpPr>
          <p:spPr>
            <a:xfrm>
              <a:off x="469440" y="1044720"/>
              <a:ext cx="8128440" cy="55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РЕМЕЋАЈ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ЕФРОТСКОМ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ИНДРОМ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1. Поремећај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нхибитор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едостатак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нтитромби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едостатак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отеи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едостатак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отеи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2. Поремећај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ункциј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ромбоцит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већа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пособност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грегације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тромбоцит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раст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1" i="1" lang="sr-Latn-C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тромбоглобулин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3. Поремећај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ункциј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ромболитичког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исте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sr-C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-антиплазми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мање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лазминоге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лазм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нтиплазми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ктиватора - </a:t>
              </a:r>
              <a:r>
                <a:rPr b="1" i="1" lang="sr-C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sr-C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-макроглобул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зак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нтиплазми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ктиватор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C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1" i="1" lang="sr-CS" sz="14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-антитрипс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лазминоге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ктиватор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нхибитор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PAI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4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ибриноген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лазм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5. Поремећај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факторим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мање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XI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XII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фактор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VII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фактор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већа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иво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VIII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фактор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6. Повећан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количин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коагулантних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атер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18"/>
          <p:cNvGrpSpPr/>
          <p:nvPr/>
        </p:nvGrpSpPr>
        <p:grpSpPr>
          <a:xfrm>
            <a:off x="174600" y="1103400"/>
            <a:ext cx="8780400" cy="5573520"/>
            <a:chOff x="174600" y="1103400"/>
            <a:chExt cx="8780400" cy="5573520"/>
          </a:xfrm>
        </p:grpSpPr>
        <p:sp>
          <p:nvSpPr>
            <p:cNvPr id="194" name="Rectangle 3"/>
            <p:cNvSpPr/>
            <p:nvPr/>
          </p:nvSpPr>
          <p:spPr>
            <a:xfrm>
              <a:off x="223560" y="1103400"/>
              <a:ext cx="8622000" cy="54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900" spc="-1" strike="noStrike">
                  <a:solidFill>
                    <a:srgbClr val="000000"/>
                  </a:solidFill>
                  <a:latin typeface="Arial"/>
                </a:rPr>
                <a:t>ЛЕЧЕЊЕ</a:t>
              </a:r>
              <a:r>
                <a:rPr b="1" lang="sr-Latn-C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900" spc="-1" strike="noStrike">
                  <a:solidFill>
                    <a:srgbClr val="000000"/>
                  </a:solidFill>
                  <a:latin typeface="Arial"/>
                </a:rPr>
                <a:t>ПОРЕМЕЋАЈА</a:t>
              </a:r>
              <a:r>
                <a:rPr b="1" lang="sr-Latn-C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900" spc="-1" strike="noStrike">
                  <a:solidFill>
                    <a:srgbClr val="000000"/>
                  </a:solidFill>
                  <a:latin typeface="Arial"/>
                </a:rPr>
                <a:t>КОАГУЛАЦИЈЕ</a:t>
              </a:r>
              <a:r>
                <a:rPr b="1" lang="sr-Latn-C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9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900" spc="-1" strike="noStrike">
                  <a:solidFill>
                    <a:srgbClr val="000000"/>
                  </a:solidFill>
                  <a:latin typeface="Arial"/>
                </a:rPr>
                <a:t>НЕФРОТСКОМ</a:t>
              </a:r>
              <a:r>
                <a:rPr b="1" lang="sr-Latn-CS" sz="1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900" spc="-1" strike="noStrike">
                  <a:solidFill>
                    <a:srgbClr val="000000"/>
                  </a:solidFill>
                  <a:latin typeface="Arial"/>
                </a:rPr>
                <a:t>СИНДРОМУ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Line 5"/>
            <p:cNvSpPr/>
            <p:nvPr/>
          </p:nvSpPr>
          <p:spPr>
            <a:xfrm>
              <a:off x="174600" y="154620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31"/>
            <p:cNvGrpSpPr/>
            <p:nvPr/>
          </p:nvGrpSpPr>
          <p:grpSpPr>
            <a:xfrm>
              <a:off x="855360" y="1816200"/>
              <a:ext cx="7418160" cy="4005360"/>
              <a:chOff x="855360" y="1816200"/>
              <a:chExt cx="7418160" cy="4005360"/>
            </a:xfrm>
          </p:grpSpPr>
          <p:sp>
            <p:nvSpPr>
              <p:cNvPr id="197" name="Rectangle 7"/>
              <p:cNvSpPr/>
              <p:nvPr/>
            </p:nvSpPr>
            <p:spPr>
              <a:xfrm>
                <a:off x="855360" y="1816200"/>
                <a:ext cx="7418160" cy="39204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РИМЕНА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ПРОФИЛАКТИЧКЕ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АНТИКОАГУЛАНТНЕ</a:t>
                </a:r>
                <a:r>
                  <a:rPr b="1" lang="sr-Latn-CS" sz="1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ffffff"/>
                    </a:solidFill>
                    <a:latin typeface="Arial"/>
                  </a:rPr>
                  <a:t>ТЕРАПИЈЕ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8" name="Group 8"/>
              <p:cNvGrpSpPr/>
              <p:nvPr/>
            </p:nvGrpSpPr>
            <p:grpSpPr>
              <a:xfrm>
                <a:off x="855360" y="2208240"/>
                <a:ext cx="7417800" cy="698400"/>
                <a:chOff x="855360" y="2208240"/>
                <a:chExt cx="7417800" cy="698400"/>
              </a:xfrm>
            </p:grpSpPr>
            <p:sp>
              <p:nvSpPr>
                <p:cNvPr id="199" name="Rectangle 9"/>
                <p:cNvSpPr/>
                <p:nvPr/>
              </p:nvSpPr>
              <p:spPr>
                <a:xfrm>
                  <a:off x="855360" y="2208240"/>
                  <a:ext cx="828000" cy="349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1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Rectangle 10"/>
                <p:cNvSpPr/>
                <p:nvPr/>
              </p:nvSpPr>
              <p:spPr>
                <a:xfrm>
                  <a:off x="1683360" y="2208240"/>
                  <a:ext cx="6589800" cy="349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Природ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основне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болест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бубрег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мембраноз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нефропат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Rectangle 11"/>
                <p:cNvSpPr/>
                <p:nvPr/>
              </p:nvSpPr>
              <p:spPr>
                <a:xfrm>
                  <a:off x="855360" y="2557440"/>
                  <a:ext cx="828000" cy="349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2.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Rectangle 12"/>
                <p:cNvSpPr/>
                <p:nvPr/>
              </p:nvSpPr>
              <p:spPr>
                <a:xfrm>
                  <a:off x="1683360" y="2557440"/>
                  <a:ext cx="6589800" cy="349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Тежи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нефротског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синдром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лбум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серуму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2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g/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Rectangle 14"/>
              <p:cNvSpPr/>
              <p:nvPr/>
            </p:nvSpPr>
            <p:spPr>
              <a:xfrm>
                <a:off x="855360" y="2906640"/>
                <a:ext cx="828000" cy="77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3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Rectangle 15"/>
              <p:cNvSpPr/>
              <p:nvPr/>
            </p:nvSpPr>
            <p:spPr>
              <a:xfrm>
                <a:off x="1683360" y="2906640"/>
                <a:ext cx="6590160" cy="7700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рисуств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редиспонирајућих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фактор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мобилизац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гојазност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, застојна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рча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лабос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зитив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родич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намнез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з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тромбофилиј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Rectangle 16"/>
              <p:cNvSpPr/>
              <p:nvPr/>
            </p:nvSpPr>
            <p:spPr>
              <a:xfrm>
                <a:off x="855360" y="3676680"/>
                <a:ext cx="828000" cy="349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4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ectangle 17"/>
              <p:cNvSpPr/>
              <p:nvPr/>
            </p:nvSpPr>
            <p:spPr>
              <a:xfrm>
                <a:off x="1683360" y="3676680"/>
                <a:ext cx="6590160" cy="349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зитив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лич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намнез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з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тромбоз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ectangle 19"/>
              <p:cNvSpPr/>
              <p:nvPr/>
            </p:nvSpPr>
            <p:spPr>
              <a:xfrm>
                <a:off x="855360" y="4025880"/>
                <a:ext cx="828000" cy="10479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5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ectangle 20"/>
              <p:cNvSpPr/>
              <p:nvPr/>
            </p:nvSpPr>
            <p:spPr>
              <a:xfrm>
                <a:off x="1683360" y="4025880"/>
                <a:ext cx="6590160" cy="10479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Ризик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д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нтикоагулац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штећењ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CNS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намнестичк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датак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з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гастроинтестинал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рварењ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дмакл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годин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тарост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ectangle 30"/>
              <p:cNvSpPr/>
              <p:nvPr/>
            </p:nvSpPr>
            <p:spPr>
              <a:xfrm>
                <a:off x="855360" y="5124600"/>
                <a:ext cx="7414920" cy="69696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ЦИЉН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НИВ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INR-a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: 1.8-2.0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НТИКОАГУЛАНТН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ТЕРАП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: в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арфарин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per os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Rectangle 7"/>
            <p:cNvSpPr/>
            <p:nvPr/>
          </p:nvSpPr>
          <p:spPr>
            <a:xfrm>
              <a:off x="174600" y="1625400"/>
              <a:ext cx="8780400" cy="5051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62"/>
          <p:cNvGrpSpPr/>
          <p:nvPr/>
        </p:nvGrpSpPr>
        <p:grpSpPr>
          <a:xfrm>
            <a:off x="243000" y="920880"/>
            <a:ext cx="8621640" cy="5798880"/>
            <a:chOff x="243000" y="920880"/>
            <a:chExt cx="8621640" cy="5798880"/>
          </a:xfrm>
        </p:grpSpPr>
        <p:sp>
          <p:nvSpPr>
            <p:cNvPr id="212" name="Rectangle 2"/>
            <p:cNvSpPr/>
            <p:nvPr/>
          </p:nvSpPr>
          <p:spPr>
            <a:xfrm>
              <a:off x="243000" y="920880"/>
              <a:ext cx="8621640" cy="62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ПЕРЛИПИДЕМИЈА У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НЕФРОТСКО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НДРОМУ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Line 4"/>
            <p:cNvSpPr/>
            <p:nvPr/>
          </p:nvSpPr>
          <p:spPr>
            <a:xfrm flipV="1">
              <a:off x="325440" y="1405440"/>
              <a:ext cx="843300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4" name="Group 161"/>
            <p:cNvGrpSpPr/>
            <p:nvPr/>
          </p:nvGrpSpPr>
          <p:grpSpPr>
            <a:xfrm>
              <a:off x="757080" y="1492200"/>
              <a:ext cx="7539120" cy="5227560"/>
              <a:chOff x="757080" y="1492200"/>
              <a:chExt cx="7539120" cy="5227560"/>
            </a:xfrm>
          </p:grpSpPr>
          <p:sp>
            <p:nvSpPr>
              <p:cNvPr id="215" name="Rectangle 7"/>
              <p:cNvSpPr/>
              <p:nvPr/>
            </p:nvSpPr>
            <p:spPr>
              <a:xfrm>
                <a:off x="2685240" y="1492200"/>
                <a:ext cx="3566880" cy="448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овећан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ропустљивост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гломерул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7"/>
              <p:cNvSpPr/>
              <p:nvPr/>
            </p:nvSpPr>
            <p:spPr>
              <a:xfrm>
                <a:off x="3509640" y="2349360"/>
                <a:ext cx="192888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овећа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фитрац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ротеи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лазм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16"/>
              <p:cNvSpPr/>
              <p:nvPr/>
            </p:nvSpPr>
            <p:spPr>
              <a:xfrm>
                <a:off x="4462200" y="1940400"/>
                <a:ext cx="0" cy="39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Rectangle 7"/>
              <p:cNvSpPr/>
              <p:nvPr/>
            </p:nvSpPr>
            <p:spPr>
              <a:xfrm>
                <a:off x="3509640" y="4320720"/>
                <a:ext cx="1923840" cy="482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АЛБУМИНУР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9" name="Straight Arrow Connector 86"/>
              <p:cNvCxnSpPr/>
              <p:nvPr/>
            </p:nvCxnSpPr>
            <p:spPr>
              <a:xfrm>
                <a:off x="4474800" y="2831400"/>
                <a:ext cx="1080" cy="14886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20" name="Rectangle 7"/>
              <p:cNvSpPr/>
              <p:nvPr/>
            </p:nvSpPr>
            <p:spPr>
              <a:xfrm>
                <a:off x="3519360" y="5225400"/>
                <a:ext cx="1923840" cy="4824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ХИПОАЛБУМИНЕМ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16"/>
              <p:cNvSpPr/>
              <p:nvPr/>
            </p:nvSpPr>
            <p:spPr>
              <a:xfrm>
                <a:off x="4471920" y="4804920"/>
                <a:ext cx="0" cy="3981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Rectangle 7"/>
              <p:cNvSpPr/>
              <p:nvPr/>
            </p:nvSpPr>
            <p:spPr>
              <a:xfrm>
                <a:off x="766440" y="2241360"/>
                <a:ext cx="197172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Губитак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ротеи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осач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хормо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метал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витами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3" name="Straight Arrow Connector 97"/>
              <p:cNvCxnSpPr/>
              <p:nvPr/>
            </p:nvCxnSpPr>
            <p:spPr>
              <a:xfrm flipH="1">
                <a:off x="2737440" y="2588400"/>
                <a:ext cx="77220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24" name="Rectangle 7"/>
              <p:cNvSpPr/>
              <p:nvPr/>
            </p:nvSpPr>
            <p:spPr>
              <a:xfrm>
                <a:off x="6205680" y="2241360"/>
                <a:ext cx="156204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овећан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губитак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муноглобули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5" name="Straight Arrow Connector 99"/>
              <p:cNvCxnSpPr>
                <a:stCxn id="224" idx="1"/>
              </p:cNvCxnSpPr>
              <p:nvPr/>
            </p:nvCxnSpPr>
            <p:spPr>
              <a:xfrm flipH="1">
                <a:off x="5443200" y="2588400"/>
                <a:ext cx="76248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</p:cxnSp>
          <p:cxnSp>
            <p:nvCxnSpPr>
              <p:cNvPr id="226" name="Shape 101"/>
              <p:cNvCxnSpPr/>
              <p:nvPr/>
            </p:nvCxnSpPr>
            <p:spPr>
              <a:xfrm>
                <a:off x="5433480" y="2695320"/>
                <a:ext cx="772200" cy="708480"/>
              </a:xfrm>
              <a:prstGeom prst="bentConnector3">
                <a:avLst>
                  <a:gd name="adj1" fmla="val 50000"/>
                </a:avLst>
              </a:prstGeom>
              <a:ln w="3240">
                <a:solidFill>
                  <a:srgbClr val="000000"/>
                </a:solidFill>
                <a:round/>
                <a:tailEnd len="med" type="triangle" w="med"/>
              </a:ln>
            </p:spPr>
          </p:cxnSp>
          <p:sp>
            <p:nvSpPr>
              <p:cNvPr id="227" name="Rectangle 7"/>
              <p:cNvSpPr/>
              <p:nvPr/>
            </p:nvSpPr>
            <p:spPr>
              <a:xfrm>
                <a:off x="6205680" y="3069720"/>
                <a:ext cx="156204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мањен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ћелијск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мунит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Rectangle 7"/>
              <p:cNvSpPr/>
              <p:nvPr/>
            </p:nvSpPr>
            <p:spPr>
              <a:xfrm rot="16200000">
                <a:off x="7284240" y="2752920"/>
                <a:ext cx="1523880" cy="5000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ИНФЕКЦ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29" name="Shape 101"/>
              <p:cNvCxnSpPr/>
              <p:nvPr/>
            </p:nvCxnSpPr>
            <p:spPr>
              <a:xfrm flipV="1">
                <a:off x="2737800" y="2688480"/>
                <a:ext cx="772200" cy="591120"/>
              </a:xfrm>
              <a:prstGeom prst="bentConnector3">
                <a:avLst>
                  <a:gd name="adj1" fmla="val 50000"/>
                </a:avLst>
              </a:prstGeom>
              <a:ln w="3240">
                <a:solidFill>
                  <a:srgbClr val="000000"/>
                </a:solidFill>
                <a:round/>
                <a:headEnd len="med" type="triangle" w="med"/>
              </a:ln>
            </p:spPr>
          </p:cxnSp>
          <p:sp>
            <p:nvSpPr>
              <p:cNvPr id="230" name="Rectangle 7"/>
              <p:cNvSpPr/>
              <p:nvPr/>
            </p:nvSpPr>
            <p:spPr>
              <a:xfrm>
                <a:off x="1176120" y="3069720"/>
                <a:ext cx="156204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змењен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фактор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коагулациј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Rectangle 7"/>
              <p:cNvSpPr/>
              <p:nvPr/>
            </p:nvSpPr>
            <p:spPr>
              <a:xfrm>
                <a:off x="766440" y="4212720"/>
                <a:ext cx="197172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овећа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тубулск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реапсорпциј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филтрованих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ротеи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2" name="Straight Arrow Connector 113"/>
              <p:cNvCxnSpPr/>
              <p:nvPr/>
            </p:nvCxnSpPr>
            <p:spPr>
              <a:xfrm flipH="1">
                <a:off x="2737440" y="4560120"/>
                <a:ext cx="77220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3" name="Rectangle 7"/>
              <p:cNvSpPr/>
              <p:nvPr/>
            </p:nvSpPr>
            <p:spPr>
              <a:xfrm>
                <a:off x="1766520" y="5117400"/>
                <a:ext cx="97128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разградњ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ротеи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тубулим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4" name="Straight Arrow Connector 115"/>
              <p:cNvCxnSpPr/>
              <p:nvPr/>
            </p:nvCxnSpPr>
            <p:spPr>
              <a:xfrm flipH="1" flipV="1">
                <a:off x="2737440" y="5464080"/>
                <a:ext cx="781560" cy="10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235" name="Rectangle 7"/>
              <p:cNvSpPr/>
              <p:nvPr/>
            </p:nvSpPr>
            <p:spPr>
              <a:xfrm>
                <a:off x="757080" y="5117400"/>
                <a:ext cx="97128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оштећење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тубул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6" name="Straight Arrow Connector 120"/>
              <p:cNvCxnSpPr/>
              <p:nvPr/>
            </p:nvCxnSpPr>
            <p:spPr>
              <a:xfrm>
                <a:off x="1242360" y="4910400"/>
                <a:ext cx="1080" cy="2052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37" name="Straight Arrow Connector 123"/>
              <p:cNvCxnSpPr/>
              <p:nvPr/>
            </p:nvCxnSpPr>
            <p:spPr>
              <a:xfrm>
                <a:off x="2249640" y="4910040"/>
                <a:ext cx="1080" cy="20772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38" name="Rectangle 7"/>
              <p:cNvSpPr/>
              <p:nvPr/>
            </p:nvSpPr>
            <p:spPr>
              <a:xfrm>
                <a:off x="757080" y="6024600"/>
                <a:ext cx="971280" cy="6951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поремећај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функције</a:t>
                </a:r>
                <a:r>
                  <a:rPr b="1" lang="sr-Latn-C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ffffff"/>
                    </a:solidFill>
                    <a:latin typeface="Arial"/>
                  </a:rPr>
                  <a:t>тубул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39" name="Straight Arrow Connector 125"/>
              <p:cNvCxnSpPr>
                <a:stCxn id="235" idx="2"/>
              </p:cNvCxnSpPr>
              <p:nvPr/>
            </p:nvCxnSpPr>
            <p:spPr>
              <a:xfrm>
                <a:off x="1242360" y="5812560"/>
                <a:ext cx="1080" cy="209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0" name="Rectangle 7"/>
              <p:cNvSpPr/>
              <p:nvPr/>
            </p:nvSpPr>
            <p:spPr>
              <a:xfrm>
                <a:off x="6215040" y="4689000"/>
                <a:ext cx="1562040" cy="6951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Повећа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интез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липопротеина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јетр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Rectangle 7"/>
              <p:cNvSpPr/>
              <p:nvPr/>
            </p:nvSpPr>
            <p:spPr>
              <a:xfrm>
                <a:off x="6215040" y="5517720"/>
                <a:ext cx="1562040" cy="69516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</a:rPr>
                  <a:t>ЕДЕМ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2" name="Straight Arrow Connector 129"/>
              <p:cNvCxnSpPr>
                <a:stCxn id="220" idx="3"/>
                <a:endCxn id="240" idx="1"/>
              </p:cNvCxnSpPr>
              <p:nvPr/>
            </p:nvCxnSpPr>
            <p:spPr>
              <a:xfrm flipV="1">
                <a:off x="5443200" y="5036400"/>
                <a:ext cx="772200" cy="43056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43" name="Straight Arrow Connector 131"/>
              <p:cNvCxnSpPr>
                <a:stCxn id="220" idx="3"/>
                <a:endCxn id="241" idx="1"/>
              </p:cNvCxnSpPr>
              <p:nvPr/>
            </p:nvCxnSpPr>
            <p:spPr>
              <a:xfrm>
                <a:off x="5443200" y="5466960"/>
                <a:ext cx="772200" cy="398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44" name="Rectangle 7"/>
              <p:cNvSpPr/>
              <p:nvPr/>
            </p:nvSpPr>
            <p:spPr>
              <a:xfrm>
                <a:off x="6031080" y="4265280"/>
                <a:ext cx="1929960" cy="2142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100" spc="-1" strike="noStrike">
                    <a:solidFill>
                      <a:srgbClr val="ffffff"/>
                    </a:solidFill>
                    <a:latin typeface="Arial"/>
                  </a:rPr>
                  <a:t>хиперлипопротеинемиј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5" name="Straight Arrow Connector 133"/>
              <p:cNvCxnSpPr>
                <a:endCxn id="240" idx="0"/>
              </p:cNvCxnSpPr>
              <p:nvPr/>
            </p:nvCxnSpPr>
            <p:spPr>
              <a:xfrm>
                <a:off x="6995880" y="4479120"/>
                <a:ext cx="1080" cy="209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246" name="Rectangle 7"/>
              <p:cNvSpPr/>
              <p:nvPr/>
            </p:nvSpPr>
            <p:spPr>
              <a:xfrm>
                <a:off x="6217560" y="3841560"/>
                <a:ext cx="1562040" cy="2142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100" spc="-1" strike="noStrike">
                    <a:solidFill>
                      <a:srgbClr val="000000"/>
                    </a:solidFill>
                    <a:latin typeface="Arial"/>
                  </a:rPr>
                  <a:t>липидуриј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7" name="Straight Arrow Connector 135"/>
              <p:cNvCxnSpPr>
                <a:endCxn id="244" idx="0"/>
              </p:cNvCxnSpPr>
              <p:nvPr/>
            </p:nvCxnSpPr>
            <p:spPr>
              <a:xfrm>
                <a:off x="6995880" y="4055400"/>
                <a:ext cx="1080" cy="20988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headEnd len="med" type="triangle" w="med"/>
              </a:ln>
            </p:spPr>
          </p:cxnSp>
          <p:sp>
            <p:nvSpPr>
              <p:cNvPr id="248" name="Rectangle 7"/>
              <p:cNvSpPr/>
              <p:nvPr/>
            </p:nvSpPr>
            <p:spPr>
              <a:xfrm>
                <a:off x="4574520" y="3551040"/>
                <a:ext cx="1562040" cy="21420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100" spc="-1" strike="noStrike">
                    <a:solidFill>
                      <a:srgbClr val="ffffff"/>
                    </a:solidFill>
                    <a:latin typeface="Arial"/>
                  </a:rPr>
                  <a:t>малнутриција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49" name="Straight Arrow Connector 138"/>
              <p:cNvCxnSpPr>
                <a:stCxn id="218" idx="0"/>
                <a:endCxn id="248" idx="2"/>
              </p:cNvCxnSpPr>
              <p:nvPr/>
            </p:nvCxnSpPr>
            <p:spPr>
              <a:xfrm flipV="1">
                <a:off x="4471920" y="3764520"/>
                <a:ext cx="884160" cy="5562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50" name="Rectangle 7"/>
              <p:cNvSpPr/>
              <p:nvPr/>
            </p:nvSpPr>
            <p:spPr>
              <a:xfrm>
                <a:off x="2802600" y="3555720"/>
                <a:ext cx="1562040" cy="20952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100" spc="-1" strike="noStrike">
                    <a:solidFill>
                      <a:srgbClr val="ffffff"/>
                    </a:solidFill>
                    <a:latin typeface="Arial"/>
                  </a:rPr>
                  <a:t>тромбоемболизам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Straight Connector 150"/>
              <p:cNvSpPr/>
              <p:nvPr/>
            </p:nvSpPr>
            <p:spPr>
              <a:xfrm>
                <a:off x="2738160" y="3403080"/>
                <a:ext cx="83808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52" name="Straight Arrow Connector 157"/>
              <p:cNvCxnSpPr/>
              <p:nvPr/>
            </p:nvCxnSpPr>
            <p:spPr>
              <a:xfrm flipH="1">
                <a:off x="3578040" y="3402720"/>
                <a:ext cx="1080" cy="153000"/>
              </a:xfrm>
              <a:prstGeom prst="straightConnector1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</p:cxn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Group 40"/>
          <p:cNvGrpSpPr/>
          <p:nvPr/>
        </p:nvGrpSpPr>
        <p:grpSpPr>
          <a:xfrm>
            <a:off x="165240" y="1227240"/>
            <a:ext cx="8780400" cy="4487760"/>
            <a:chOff x="165240" y="1227240"/>
            <a:chExt cx="8780400" cy="4487760"/>
          </a:xfrm>
        </p:grpSpPr>
        <p:sp>
          <p:nvSpPr>
            <p:cNvPr id="254" name="Rectangle 3"/>
            <p:cNvSpPr/>
            <p:nvPr/>
          </p:nvSpPr>
          <p:spPr>
            <a:xfrm>
              <a:off x="223920" y="1227240"/>
              <a:ext cx="8636040" cy="55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РЕМЕЋАЈ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ТАБОЛИЗМ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ПИД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РОТСКОМ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ДРОМУ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4"/>
            <p:cNvSpPr/>
            <p:nvPr/>
          </p:nvSpPr>
          <p:spPr>
            <a:xfrm>
              <a:off x="165240" y="176760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3"/>
            <p:cNvGrpSpPr/>
            <p:nvPr/>
          </p:nvGrpSpPr>
          <p:grpSpPr>
            <a:xfrm>
              <a:off x="266760" y="1879200"/>
              <a:ext cx="8574120" cy="3835800"/>
              <a:chOff x="266760" y="1879200"/>
              <a:chExt cx="8574120" cy="3835800"/>
            </a:xfrm>
          </p:grpSpPr>
          <p:grpSp>
            <p:nvGrpSpPr>
              <p:cNvPr id="257" name="Group 17"/>
              <p:cNvGrpSpPr/>
              <p:nvPr/>
            </p:nvGrpSpPr>
            <p:grpSpPr>
              <a:xfrm>
                <a:off x="266760" y="1879200"/>
                <a:ext cx="8574120" cy="802440"/>
                <a:chOff x="266760" y="1879200"/>
                <a:chExt cx="8574120" cy="802440"/>
              </a:xfrm>
            </p:grpSpPr>
            <p:sp>
              <p:nvSpPr>
                <p:cNvPr id="258" name="Rectangle 12"/>
                <p:cNvSpPr/>
                <p:nvPr/>
              </p:nvSpPr>
              <p:spPr>
                <a:xfrm>
                  <a:off x="266760" y="2280240"/>
                  <a:ext cx="2857320" cy="40140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ffffff"/>
                      </a:solidFill>
                      <a:latin typeface="Arial"/>
                    </a:rPr>
                    <a:t>ПОВЕЋАНА</a:t>
                  </a:r>
                  <a:r>
                    <a:rPr b="1" lang="sr-Latn-CS" sz="16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Rectangle 14"/>
                <p:cNvSpPr/>
                <p:nvPr/>
              </p:nvSpPr>
              <p:spPr>
                <a:xfrm>
                  <a:off x="3124080" y="2280240"/>
                  <a:ext cx="2857320" cy="40140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ffffff"/>
                      </a:solidFill>
                      <a:latin typeface="Arial"/>
                    </a:rPr>
                    <a:t>НЕПРОМЕЊЕ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Rectangle 15"/>
                <p:cNvSpPr/>
                <p:nvPr/>
              </p:nvSpPr>
              <p:spPr>
                <a:xfrm>
                  <a:off x="5981400" y="2280240"/>
                  <a:ext cx="2857320" cy="40140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ffffff"/>
                      </a:solidFill>
                      <a:latin typeface="Arial"/>
                    </a:rPr>
                    <a:t>СМАЊЕН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Rectangle 16"/>
                <p:cNvSpPr/>
                <p:nvPr/>
              </p:nvSpPr>
              <p:spPr>
                <a:xfrm>
                  <a:off x="266760" y="1879200"/>
                  <a:ext cx="8574120" cy="40140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ffffff"/>
                      </a:solidFill>
                      <a:latin typeface="Arial"/>
                    </a:rPr>
                    <a:t>КОНЦЕНТРАЦИЈА</a:t>
                  </a:r>
                  <a:r>
                    <a:rPr b="1" lang="sr-Latn-C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sr-CS" sz="1800" spc="-1" strike="noStrike">
                      <a:solidFill>
                        <a:srgbClr val="ffffff"/>
                      </a:solidFill>
                      <a:latin typeface="Arial"/>
                    </a:rPr>
                    <a:t>У</a:t>
                  </a:r>
                  <a:r>
                    <a:rPr b="1" lang="sr-Latn-C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r>
                    <a:rPr b="1" lang="sr-CS" sz="1800" spc="-1" strike="noStrike">
                      <a:solidFill>
                        <a:srgbClr val="ffffff"/>
                      </a:solidFill>
                      <a:latin typeface="Arial"/>
                    </a:rPr>
                    <a:t>ПЛАЗМИ</a:t>
                  </a:r>
                  <a:r>
                    <a:rPr b="1" lang="sr-Latn-CS" sz="1800" spc="-1" strike="noStrike">
                      <a:solidFill>
                        <a:srgbClr val="ffffff"/>
                      </a:solidFill>
                      <a:latin typeface="Arial"/>
                    </a:rPr>
                    <a:t>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Group 22"/>
              <p:cNvGrpSpPr/>
              <p:nvPr/>
            </p:nvGrpSpPr>
            <p:grpSpPr>
              <a:xfrm>
                <a:off x="266760" y="2684160"/>
                <a:ext cx="8571960" cy="345240"/>
                <a:chOff x="266760" y="2684160"/>
                <a:chExt cx="8571960" cy="345240"/>
              </a:xfrm>
            </p:grpSpPr>
            <p:sp>
              <p:nvSpPr>
                <p:cNvPr id="263" name="Rectangle 18"/>
                <p:cNvSpPr/>
                <p:nvPr/>
              </p:nvSpPr>
              <p:spPr>
                <a:xfrm>
                  <a:off x="266760" y="26841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VLD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липопротеи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Rectangle 19"/>
                <p:cNvSpPr/>
                <p:nvPr/>
              </p:nvSpPr>
              <p:spPr>
                <a:xfrm>
                  <a:off x="3124080" y="26841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полипопроте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1" lang="sr-Latn-C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0"/>
                <p:cNvSpPr/>
                <p:nvPr/>
              </p:nvSpPr>
              <p:spPr>
                <a:xfrm>
                  <a:off x="5981400" y="26841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HDL</a:t>
                  </a:r>
                  <a:r>
                    <a:rPr b="1" i="1" lang="sr-Latn-C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липопротеи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6" name="Group 23"/>
              <p:cNvGrpSpPr/>
              <p:nvPr/>
            </p:nvGrpSpPr>
            <p:grpSpPr>
              <a:xfrm>
                <a:off x="266760" y="3029760"/>
                <a:ext cx="8571960" cy="345240"/>
                <a:chOff x="266760" y="3029760"/>
                <a:chExt cx="8571960" cy="345240"/>
              </a:xfrm>
            </p:grpSpPr>
            <p:sp>
              <p:nvSpPr>
                <p:cNvPr id="267" name="Rectangle 24"/>
                <p:cNvSpPr/>
                <p:nvPr/>
              </p:nvSpPr>
              <p:spPr>
                <a:xfrm>
                  <a:off x="266760" y="30297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D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липопротеи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25"/>
                <p:cNvSpPr/>
                <p:nvPr/>
              </p:nvSpPr>
              <p:spPr>
                <a:xfrm>
                  <a:off x="3124080" y="30297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полипопроте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</a:t>
                  </a:r>
                  <a:r>
                    <a:rPr b="1" lang="sr-Latn-C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Rectangle 26"/>
                <p:cNvSpPr/>
                <p:nvPr/>
              </p:nvSpPr>
              <p:spPr>
                <a:xfrm>
                  <a:off x="5981400" y="30297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0" name="Group 27"/>
              <p:cNvGrpSpPr/>
              <p:nvPr/>
            </p:nvGrpSpPr>
            <p:grpSpPr>
              <a:xfrm>
                <a:off x="266760" y="3375360"/>
                <a:ext cx="8571960" cy="345240"/>
                <a:chOff x="266760" y="3375360"/>
                <a:chExt cx="8571960" cy="345240"/>
              </a:xfrm>
            </p:grpSpPr>
            <p:sp>
              <p:nvSpPr>
                <p:cNvPr id="271" name="Rectangle 28"/>
                <p:cNvSpPr/>
                <p:nvPr/>
              </p:nvSpPr>
              <p:spPr>
                <a:xfrm>
                  <a:off x="266760" y="33753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DL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липопротеи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Rectangle 29"/>
                <p:cNvSpPr/>
                <p:nvPr/>
              </p:nvSpPr>
              <p:spPr>
                <a:xfrm>
                  <a:off x="3124080" y="33753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полипопроте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lang="sr-Latn-C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30"/>
                <p:cNvSpPr/>
                <p:nvPr/>
              </p:nvSpPr>
              <p:spPr>
                <a:xfrm>
                  <a:off x="5981400" y="33753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Group 31"/>
              <p:cNvGrpSpPr/>
              <p:nvPr/>
            </p:nvGrpSpPr>
            <p:grpSpPr>
              <a:xfrm>
                <a:off x="266760" y="3720960"/>
                <a:ext cx="8571960" cy="345240"/>
                <a:chOff x="266760" y="3720960"/>
                <a:chExt cx="8571960" cy="345240"/>
              </a:xfrm>
            </p:grpSpPr>
            <p:sp>
              <p:nvSpPr>
                <p:cNvPr id="275" name="Rectangle 32"/>
                <p:cNvSpPr/>
                <p:nvPr/>
              </p:nvSpPr>
              <p:spPr>
                <a:xfrm>
                  <a:off x="266760" y="37209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полипопроте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B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Rectangle 33"/>
                <p:cNvSpPr/>
                <p:nvPr/>
              </p:nvSpPr>
              <p:spPr>
                <a:xfrm>
                  <a:off x="3124080" y="37209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Rectangle 34"/>
                <p:cNvSpPr/>
                <p:nvPr/>
              </p:nvSpPr>
              <p:spPr>
                <a:xfrm>
                  <a:off x="5981400" y="372096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8" name="Group 35"/>
              <p:cNvGrpSpPr/>
              <p:nvPr/>
            </p:nvGrpSpPr>
            <p:grpSpPr>
              <a:xfrm>
                <a:off x="266760" y="4066200"/>
                <a:ext cx="8571960" cy="345240"/>
                <a:chOff x="266760" y="4066200"/>
                <a:chExt cx="8571960" cy="345240"/>
              </a:xfrm>
            </p:grpSpPr>
            <p:sp>
              <p:nvSpPr>
                <p:cNvPr id="279" name="Rectangle 36"/>
                <p:cNvSpPr/>
                <p:nvPr/>
              </p:nvSpPr>
              <p:spPr>
                <a:xfrm>
                  <a:off x="266760" y="40662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полипопроте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i="1" lang="sr-Latn-C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Rectangle 37"/>
                <p:cNvSpPr/>
                <p:nvPr/>
              </p:nvSpPr>
              <p:spPr>
                <a:xfrm>
                  <a:off x="3124080" y="40662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Rectangle 38"/>
                <p:cNvSpPr/>
                <p:nvPr/>
              </p:nvSpPr>
              <p:spPr>
                <a:xfrm>
                  <a:off x="5981400" y="40662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Group 39"/>
              <p:cNvGrpSpPr/>
              <p:nvPr/>
            </p:nvGrpSpPr>
            <p:grpSpPr>
              <a:xfrm>
                <a:off x="266760" y="4411800"/>
                <a:ext cx="8571960" cy="345240"/>
                <a:chOff x="266760" y="4411800"/>
                <a:chExt cx="8571960" cy="345240"/>
              </a:xfrm>
            </p:grpSpPr>
            <p:sp>
              <p:nvSpPr>
                <p:cNvPr id="283" name="Rectangle 40"/>
                <p:cNvSpPr/>
                <p:nvPr/>
              </p:nvSpPr>
              <p:spPr>
                <a:xfrm>
                  <a:off x="266760" y="44118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HDL</a:t>
                  </a:r>
                  <a:r>
                    <a:rPr b="1" i="1" lang="sr-Latn-C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-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липопротеин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Rectangle 41"/>
                <p:cNvSpPr/>
                <p:nvPr/>
              </p:nvSpPr>
              <p:spPr>
                <a:xfrm>
                  <a:off x="3124080" y="44118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Rectangle 42"/>
                <p:cNvSpPr/>
                <p:nvPr/>
              </p:nvSpPr>
              <p:spPr>
                <a:xfrm>
                  <a:off x="5981400" y="44118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Group 43"/>
              <p:cNvGrpSpPr/>
              <p:nvPr/>
            </p:nvGrpSpPr>
            <p:grpSpPr>
              <a:xfrm>
                <a:off x="266760" y="4757400"/>
                <a:ext cx="8571960" cy="345240"/>
                <a:chOff x="266760" y="4757400"/>
                <a:chExt cx="8571960" cy="345240"/>
              </a:xfrm>
            </p:grpSpPr>
            <p:sp>
              <p:nvSpPr>
                <p:cNvPr id="287" name="Rectangle 44"/>
                <p:cNvSpPr/>
                <p:nvPr/>
              </p:nvSpPr>
              <p:spPr>
                <a:xfrm>
                  <a:off x="266760" y="47574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Липопротеи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(a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Rectangle 45"/>
                <p:cNvSpPr/>
                <p:nvPr/>
              </p:nvSpPr>
              <p:spPr>
                <a:xfrm>
                  <a:off x="3124080" y="47574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46"/>
                <p:cNvSpPr/>
                <p:nvPr/>
              </p:nvSpPr>
              <p:spPr>
                <a:xfrm>
                  <a:off x="5981400" y="47574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0" name="Group 47"/>
              <p:cNvGrpSpPr/>
              <p:nvPr/>
            </p:nvGrpSpPr>
            <p:grpSpPr>
              <a:xfrm>
                <a:off x="266760" y="5103000"/>
                <a:ext cx="8571960" cy="612000"/>
                <a:chOff x="266760" y="5103000"/>
                <a:chExt cx="8571960" cy="612000"/>
              </a:xfrm>
            </p:grpSpPr>
            <p:sp>
              <p:nvSpPr>
                <p:cNvPr id="291" name="Rectangle 48"/>
                <p:cNvSpPr/>
                <p:nvPr/>
              </p:nvSpPr>
              <p:spPr>
                <a:xfrm>
                  <a:off x="266760" y="5369760"/>
                  <a:ext cx="340740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Триглицериди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(</a:t>
                  </a:r>
                  <a:r>
                    <a:rPr b="1" lang="sr-CS" sz="1000" spc="-1" strike="noStrike">
                      <a:solidFill>
                        <a:srgbClr val="000000"/>
                      </a:solidFill>
                      <a:latin typeface="Arial"/>
                    </a:rPr>
                    <a:t>албумин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000" spc="-1" strike="noStrike">
                      <a:solidFill>
                        <a:srgbClr val="000000"/>
                      </a:solidFill>
                      <a:latin typeface="Arial"/>
                    </a:rPr>
                    <a:t>у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000" spc="-1" strike="noStrike">
                      <a:solidFill>
                        <a:srgbClr val="000000"/>
                      </a:solidFill>
                      <a:latin typeface="Arial"/>
                    </a:rPr>
                    <a:t>серуму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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 20 </a:t>
                  </a:r>
                  <a:r>
                    <a:rPr b="1" i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g/l</a:t>
                  </a:r>
                  <a:r>
                    <a:rPr b="1" lang="sr-Latn-CS" sz="10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2" name="Rectangle 50"/>
                <p:cNvSpPr/>
                <p:nvPr/>
              </p:nvSpPr>
              <p:spPr>
                <a:xfrm>
                  <a:off x="5981400" y="5103000"/>
                  <a:ext cx="2857320" cy="34524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93" name="Rectangle 48"/>
          <p:cNvSpPr/>
          <p:nvPr/>
        </p:nvSpPr>
        <p:spPr>
          <a:xfrm>
            <a:off x="266760" y="5054760"/>
            <a:ext cx="2857320" cy="345960"/>
          </a:xfrm>
          <a:prstGeom prst="rect">
            <a:avLst/>
          </a:prstGeom>
          <a:noFill/>
          <a:ln w="3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купни холестер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4" name="Group 19"/>
          <p:cNvGrpSpPr/>
          <p:nvPr/>
        </p:nvGrpSpPr>
        <p:grpSpPr>
          <a:xfrm>
            <a:off x="237960" y="1222200"/>
            <a:ext cx="8637840" cy="5308920"/>
            <a:chOff x="237960" y="1222200"/>
            <a:chExt cx="8637840" cy="5308920"/>
          </a:xfrm>
        </p:grpSpPr>
        <p:grpSp>
          <p:nvGrpSpPr>
            <p:cNvPr id="295" name="Group 57"/>
            <p:cNvGrpSpPr/>
            <p:nvPr/>
          </p:nvGrpSpPr>
          <p:grpSpPr>
            <a:xfrm>
              <a:off x="237960" y="1222200"/>
              <a:ext cx="8637840" cy="5308920"/>
              <a:chOff x="237960" y="1222200"/>
              <a:chExt cx="8637840" cy="5308920"/>
            </a:xfrm>
          </p:grpSpPr>
          <p:sp>
            <p:nvSpPr>
              <p:cNvPr id="296" name="Rectangle 3"/>
              <p:cNvSpPr/>
              <p:nvPr/>
            </p:nvSpPr>
            <p:spPr>
              <a:xfrm>
                <a:off x="344520" y="1222200"/>
                <a:ext cx="8412120" cy="37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ЛЕЧЕЊЕ ХИПЕРЛИПИДЕМИЈЕ У НЕФРОТСКОМ СИНДРОМУ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Line 4"/>
              <p:cNvSpPr/>
              <p:nvPr/>
            </p:nvSpPr>
            <p:spPr>
              <a:xfrm>
                <a:off x="287280" y="1601640"/>
                <a:ext cx="8552880" cy="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Rectangle 6"/>
              <p:cNvSpPr/>
              <p:nvPr/>
            </p:nvSpPr>
            <p:spPr>
              <a:xfrm>
                <a:off x="237960" y="1633680"/>
                <a:ext cx="8637840" cy="489744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Group 19"/>
            <p:cNvGrpSpPr/>
            <p:nvPr/>
          </p:nvGrpSpPr>
          <p:grpSpPr>
            <a:xfrm>
              <a:off x="414000" y="1709280"/>
              <a:ext cx="8344440" cy="2743200"/>
              <a:chOff x="414000" y="1709280"/>
              <a:chExt cx="8344440" cy="2743200"/>
            </a:xfrm>
          </p:grpSpPr>
          <p:grpSp>
            <p:nvGrpSpPr>
              <p:cNvPr id="300" name="Group 65"/>
              <p:cNvGrpSpPr/>
              <p:nvPr/>
            </p:nvGrpSpPr>
            <p:grpSpPr>
              <a:xfrm>
                <a:off x="414000" y="2166480"/>
                <a:ext cx="8344440" cy="2286000"/>
                <a:chOff x="414000" y="2166480"/>
                <a:chExt cx="8344440" cy="2286000"/>
              </a:xfrm>
            </p:grpSpPr>
            <p:sp>
              <p:nvSpPr>
                <p:cNvPr id="301" name="Rectangle 51"/>
                <p:cNvSpPr/>
                <p:nvPr/>
              </p:nvSpPr>
              <p:spPr>
                <a:xfrm>
                  <a:off x="414000" y="2166480"/>
                  <a:ext cx="245736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Ловастат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52"/>
                <p:cNvSpPr/>
                <p:nvPr/>
              </p:nvSpPr>
              <p:spPr>
                <a:xfrm>
                  <a:off x="2871360" y="2166480"/>
                  <a:ext cx="588672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10-2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једном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невно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максимал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оз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80 </a:t>
                  </a:r>
                  <a:r>
                    <a:rPr b="1" i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53"/>
                <p:cNvSpPr/>
                <p:nvPr/>
              </p:nvSpPr>
              <p:spPr>
                <a:xfrm>
                  <a:off x="414000" y="2623680"/>
                  <a:ext cx="245736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Симвастат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54"/>
                <p:cNvSpPr/>
                <p:nvPr/>
              </p:nvSpPr>
              <p:spPr>
                <a:xfrm>
                  <a:off x="2871720" y="2623680"/>
                  <a:ext cx="588672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20-4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једном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невно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максималн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a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оз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80 mg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55"/>
                <p:cNvSpPr/>
                <p:nvPr/>
              </p:nvSpPr>
              <p:spPr>
                <a:xfrm>
                  <a:off x="414000" y="3080880"/>
                  <a:ext cx="245736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Правастат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Rectangle 56"/>
                <p:cNvSpPr/>
                <p:nvPr/>
              </p:nvSpPr>
              <p:spPr>
                <a:xfrm>
                  <a:off x="2871720" y="3080880"/>
                  <a:ext cx="588672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10-2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једном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невно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максимал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оз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80 </a:t>
                  </a:r>
                  <a:r>
                    <a:rPr b="1" i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Rectangle 57"/>
                <p:cNvSpPr/>
                <p:nvPr/>
              </p:nvSpPr>
              <p:spPr>
                <a:xfrm>
                  <a:off x="414000" y="3538080"/>
                  <a:ext cx="245736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Флувастат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Rectangle 58"/>
                <p:cNvSpPr/>
                <p:nvPr/>
              </p:nvSpPr>
              <p:spPr>
                <a:xfrm>
                  <a:off x="2871720" y="3538080"/>
                  <a:ext cx="588672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20-4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једном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невно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максимал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оз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80 </a:t>
                  </a:r>
                  <a:r>
                    <a:rPr b="1" i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61"/>
                <p:cNvSpPr/>
                <p:nvPr/>
              </p:nvSpPr>
              <p:spPr>
                <a:xfrm>
                  <a:off x="414000" y="3995280"/>
                  <a:ext cx="245736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Аторвастатин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62"/>
                <p:cNvSpPr/>
                <p:nvPr/>
              </p:nvSpPr>
              <p:spPr>
                <a:xfrm>
                  <a:off x="2871720" y="3995280"/>
                  <a:ext cx="5886720" cy="4572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10-4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једном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невно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(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максимал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оз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80 </a:t>
                  </a:r>
                  <a:r>
                    <a:rPr b="1" i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на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4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11" name="Rectangle 51"/>
              <p:cNvSpPr/>
              <p:nvPr/>
            </p:nvSpPr>
            <p:spPr>
              <a:xfrm>
                <a:off x="414000" y="1709280"/>
                <a:ext cx="2457360" cy="45720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ffffff"/>
                    </a:solidFill>
                    <a:latin typeface="Arial"/>
                  </a:rPr>
                  <a:t>ЛЕ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Rectangle 52"/>
              <p:cNvSpPr/>
              <p:nvPr/>
            </p:nvSpPr>
            <p:spPr>
              <a:xfrm>
                <a:off x="2871360" y="1709280"/>
                <a:ext cx="5887080" cy="45720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ffffff"/>
                    </a:solidFill>
                    <a:latin typeface="Arial"/>
                  </a:rPr>
                  <a:t>ДОЗ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4"/>
          <p:cNvGrpSpPr/>
          <p:nvPr/>
        </p:nvGrpSpPr>
        <p:grpSpPr>
          <a:xfrm>
            <a:off x="247680" y="1187280"/>
            <a:ext cx="8621640" cy="4340520"/>
            <a:chOff x="247680" y="1187280"/>
            <a:chExt cx="8621640" cy="4340520"/>
          </a:xfrm>
        </p:grpSpPr>
        <p:sp>
          <p:nvSpPr>
            <p:cNvPr id="314" name="Rectangle 3"/>
            <p:cNvSpPr/>
            <p:nvPr/>
          </p:nvSpPr>
          <p:spPr>
            <a:xfrm>
              <a:off x="247680" y="1187280"/>
              <a:ext cx="86216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5"/>
            <p:cNvSpPr/>
            <p:nvPr/>
          </p:nvSpPr>
          <p:spPr>
            <a:xfrm flipV="1">
              <a:off x="320400" y="201420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6"/>
            <p:cNvSpPr/>
            <p:nvPr/>
          </p:nvSpPr>
          <p:spPr>
            <a:xfrm>
              <a:off x="446040" y="478656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Р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Ј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7" name="Group 6"/>
          <p:cNvGrpSpPr/>
          <p:nvPr/>
        </p:nvGrpSpPr>
        <p:grpSpPr>
          <a:xfrm>
            <a:off x="257040" y="1166760"/>
            <a:ext cx="8622000" cy="4338720"/>
            <a:chOff x="257040" y="1166760"/>
            <a:chExt cx="8622000" cy="4338720"/>
          </a:xfrm>
        </p:grpSpPr>
        <p:sp>
          <p:nvSpPr>
            <p:cNvPr id="318" name="Rectangle 3"/>
            <p:cNvSpPr/>
            <p:nvPr/>
          </p:nvSpPr>
          <p:spPr>
            <a:xfrm>
              <a:off x="257040" y="1166760"/>
              <a:ext cx="86220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inimal change nephrotic syndrome (Nephrosis lipoidali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5"/>
            <p:cNvSpPr/>
            <p:nvPr/>
          </p:nvSpPr>
          <p:spPr>
            <a:xfrm flipV="1">
              <a:off x="320400" y="195588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45680" y="1918080"/>
              <a:ext cx="8128440" cy="358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 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суств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рфолошк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м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и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 светлосној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 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каз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ме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1" name="Group 9"/>
          <p:cNvGrpSpPr/>
          <p:nvPr/>
        </p:nvGrpSpPr>
        <p:grpSpPr>
          <a:xfrm>
            <a:off x="237960" y="1122480"/>
            <a:ext cx="8659800" cy="5089320"/>
            <a:chOff x="237960" y="1122480"/>
            <a:chExt cx="8659800" cy="5089320"/>
          </a:xfrm>
        </p:grpSpPr>
        <p:sp>
          <p:nvSpPr>
            <p:cNvPr id="322" name="Rectangle 3"/>
            <p:cNvSpPr/>
            <p:nvPr/>
          </p:nvSpPr>
          <p:spPr>
            <a:xfrm>
              <a:off x="275760" y="1122480"/>
              <a:ext cx="8622000" cy="79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5"/>
            <p:cNvSpPr/>
            <p:nvPr/>
          </p:nvSpPr>
          <p:spPr>
            <a:xfrm flipV="1">
              <a:off x="320400" y="198000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329760" y="2061360"/>
              <a:ext cx="8423640" cy="10303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</a:rPr>
                <a:t>ЕТИ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ПРИМАРНИ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НЕФРОТСКИ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СИНДРОМ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СА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МАЛНИМ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ХИСТОЛОШКИМ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ПРОМЕНА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СЕКУНДАРНИ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НЕФРОТСКИ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СИНДРОМ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СА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МИНИМАЛНИМ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ХИСТОЛОШКИМ</a:t>
              </a:r>
              <a:r>
                <a:rPr b="1" lang="sr-Latn-CS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ffffff"/>
                  </a:solidFill>
                  <a:latin typeface="Arial"/>
                </a:rPr>
                <a:t>ПРОМЕНА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237960" y="3008160"/>
              <a:ext cx="8645760" cy="320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ЗРОЦИ СЕКУНДАРНО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О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000000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ODGK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ON-HODGK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ИМФОМ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3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ОЛИД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УМОРИ: к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рцином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бубрег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лућ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оло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анкреас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остат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IgA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5.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ИЈАБЕТЕ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ЛИТУ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6.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ЕКОВИ: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нестероидн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антиинфламаторн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леков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нтерферо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метимазол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ифампи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Oval 6"/>
            <p:cNvSpPr/>
            <p:nvPr/>
          </p:nvSpPr>
          <p:spPr>
            <a:xfrm>
              <a:off x="237960" y="3556080"/>
              <a:ext cx="328320" cy="32832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Oval 7"/>
            <p:cNvSpPr/>
            <p:nvPr/>
          </p:nvSpPr>
          <p:spPr>
            <a:xfrm>
              <a:off x="240840" y="3921120"/>
              <a:ext cx="326880" cy="32688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8"/>
            <p:cNvSpPr/>
            <p:nvPr/>
          </p:nvSpPr>
          <p:spPr>
            <a:xfrm>
              <a:off x="242640" y="4283280"/>
              <a:ext cx="328320" cy="328320"/>
            </a:xfrm>
            <a:prstGeom prst="ellipse">
              <a:avLst/>
            </a:prstGeom>
            <a:noFill/>
            <a:ln w="255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Group 5"/>
          <p:cNvGrpSpPr/>
          <p:nvPr/>
        </p:nvGrpSpPr>
        <p:grpSpPr>
          <a:xfrm>
            <a:off x="318960" y="1087560"/>
            <a:ext cx="8434440" cy="5429160"/>
            <a:chOff x="318960" y="1087560"/>
            <a:chExt cx="8434440" cy="5429160"/>
          </a:xfrm>
        </p:grpSpPr>
        <p:sp>
          <p:nvSpPr>
            <p:cNvPr id="330" name="Line 5"/>
            <p:cNvSpPr/>
            <p:nvPr/>
          </p:nvSpPr>
          <p:spPr>
            <a:xfrm flipV="1">
              <a:off x="320040" y="191592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Rectangle 7"/>
            <p:cNvSpPr/>
            <p:nvPr/>
          </p:nvSpPr>
          <p:spPr>
            <a:xfrm>
              <a:off x="469440" y="1646280"/>
              <a:ext cx="8128080" cy="487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а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гене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ханиза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ремећај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броја и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унк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имф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ротеин који повећава пропустљивост зида капилар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штећењ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исцералн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пителн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ћелија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гломерули изгледају непромењен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блага пролиферација мезангијумск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лаз негатив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бит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опаласт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дужета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536400" indent="-79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вој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л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леж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пољн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ран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BM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Rectangle 7"/>
            <p:cNvSpPr/>
            <p:nvPr/>
          </p:nvSpPr>
          <p:spPr>
            <a:xfrm>
              <a:off x="318960" y="1087560"/>
              <a:ext cx="837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0"/>
          <p:cNvGrpSpPr/>
          <p:nvPr/>
        </p:nvGrpSpPr>
        <p:grpSpPr>
          <a:xfrm>
            <a:off x="247680" y="1114560"/>
            <a:ext cx="8621640" cy="5279760"/>
            <a:chOff x="247680" y="1114560"/>
            <a:chExt cx="8621640" cy="5279760"/>
          </a:xfrm>
        </p:grpSpPr>
        <p:sp>
          <p:nvSpPr>
            <p:cNvPr id="44" name="Rectangle 2"/>
            <p:cNvSpPr/>
            <p:nvPr/>
          </p:nvSpPr>
          <p:spPr>
            <a:xfrm>
              <a:off x="247680" y="1114560"/>
              <a:ext cx="86216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32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32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Syndroma nephroticu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Line 4"/>
            <p:cNvSpPr/>
            <p:nvPr/>
          </p:nvSpPr>
          <p:spPr>
            <a:xfrm flipV="1">
              <a:off x="291960" y="200016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5"/>
            <p:cNvSpPr/>
            <p:nvPr/>
          </p:nvSpPr>
          <p:spPr>
            <a:xfrm>
              <a:off x="291960" y="1790640"/>
              <a:ext cx="8433000" cy="460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ДЕФИНИЦИЈА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КЛИНИЧКИ СИНДРОМ КОЈИ СЕ ОДЛИКУЈЕ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ротеинуријом (≥ 3.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/24h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ипопротеинемијом (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5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/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ипоалбуминемијом (</a:t>
              </a:r>
              <a:r>
                <a:rPr b="1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2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g/l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појавом оток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иперлипидемиј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хиперкоагулабилношћ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Rectangle 2"/>
          <p:cNvSpPr/>
          <p:nvPr/>
        </p:nvSpPr>
        <p:spPr>
          <a:xfrm>
            <a:off x="291960" y="4924440"/>
            <a:ext cx="8622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ТЕЖАК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НЕФРОТС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СИНДР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797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жена хипоалбуминемија (</a:t>
            </a:r>
            <a:r>
              <a:rPr b="1" lang="sr-C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20 </a:t>
            </a:r>
            <a:r>
              <a:rPr b="1" i="1" lang="sr-Latn-RS" sz="2000" spc="-1" strike="noStrike">
                <a:solidFill>
                  <a:srgbClr val="000000"/>
                </a:solidFill>
                <a:latin typeface="Arial"/>
              </a:rPr>
              <a:t>g/l</a:t>
            </a:r>
            <a:r>
              <a:rPr b="1" lang="sr-Latn-RS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6"/>
          <p:cNvSpPr/>
          <p:nvPr/>
        </p:nvSpPr>
        <p:spPr>
          <a:xfrm>
            <a:off x="291960" y="2066760"/>
            <a:ext cx="8433000" cy="454356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3" name="Group 5"/>
          <p:cNvGrpSpPr/>
          <p:nvPr/>
        </p:nvGrpSpPr>
        <p:grpSpPr>
          <a:xfrm>
            <a:off x="247680" y="1174680"/>
            <a:ext cx="8621640" cy="5037120"/>
            <a:chOff x="247680" y="1174680"/>
            <a:chExt cx="8621640" cy="5037120"/>
          </a:xfrm>
        </p:grpSpPr>
        <p:grpSp>
          <p:nvGrpSpPr>
            <p:cNvPr id="334" name="Group 3"/>
            <p:cNvGrpSpPr/>
            <p:nvPr/>
          </p:nvGrpSpPr>
          <p:grpSpPr>
            <a:xfrm>
              <a:off x="247680" y="1174680"/>
              <a:ext cx="8621640" cy="5037120"/>
              <a:chOff x="247680" y="1174680"/>
              <a:chExt cx="8621640" cy="5037120"/>
            </a:xfrm>
          </p:grpSpPr>
          <p:sp>
            <p:nvSpPr>
              <p:cNvPr id="335" name="Rectangle 3"/>
              <p:cNvSpPr/>
              <p:nvPr/>
            </p:nvSpPr>
            <p:spPr>
              <a:xfrm>
                <a:off x="247680" y="1174680"/>
                <a:ext cx="8621640" cy="80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ГЛОМЕРУЛОНЕФРИТИС</a:t>
                </a:r>
                <a:r>
                  <a:rPr b="1" lang="sr-Latn-C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ХИСТОЛОШК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МИНИМАЛНИМ</a:t>
                </a:r>
                <a:r>
                  <a:rPr b="1" lang="sr-Latn-CS" sz="2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ПРОМЕНАМ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Rectangle 7"/>
              <p:cNvSpPr/>
              <p:nvPr/>
            </p:nvSpPr>
            <p:spPr>
              <a:xfrm>
                <a:off x="274320" y="1965240"/>
                <a:ext cx="8534520" cy="424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КЛИНИЧКА СЛ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најчешће се испољава клиничком сликом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н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ефротског синдро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од 10-30% одраслих болесника може се јавити микрохемат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од 20-25% одраслих болесника може се јавити акутно оштећење бубрег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болест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бичн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спољ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јаво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т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o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а (неочекивана и брза појава оток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отоц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у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чест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веом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зражени: асцитес, плеуралн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зливи, анасарк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фаз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горшањ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могу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јавит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тромбоемболијск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омпликације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инфекције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Line 5"/>
            <p:cNvSpPr/>
            <p:nvPr/>
          </p:nvSpPr>
          <p:spPr>
            <a:xfrm flipV="1">
              <a:off x="291600" y="197460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8" name="Group 3"/>
          <p:cNvGrpSpPr/>
          <p:nvPr/>
        </p:nvGrpSpPr>
        <p:grpSpPr>
          <a:xfrm>
            <a:off x="247680" y="1131840"/>
            <a:ext cx="8621640" cy="5326200"/>
            <a:chOff x="247680" y="1131840"/>
            <a:chExt cx="8621640" cy="5326200"/>
          </a:xfrm>
        </p:grpSpPr>
        <p:sp>
          <p:nvSpPr>
            <p:cNvPr id="339" name="Rectangle 3"/>
            <p:cNvSpPr/>
            <p:nvPr/>
          </p:nvSpPr>
          <p:spPr>
            <a:xfrm>
              <a:off x="247680" y="1131840"/>
              <a:ext cx="8621640" cy="8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7"/>
            <p:cNvSpPr/>
            <p:nvPr/>
          </p:nvSpPr>
          <p:spPr>
            <a:xfrm>
              <a:off x="274320" y="1967760"/>
              <a:ext cx="8534520" cy="449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амнеза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ојава ед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изикални преглед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исуство едем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наци плеуралног излив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знаци асцитес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абораторија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протеинурија ≥ 3.5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g/24h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нефротски синдром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хиперлипидемија: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укупни холестерол,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LDL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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триглицериди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хипоалбуминемија: &lt; 25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g/l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(&lt; 20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g/l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хипопротеинемија: укупни протеини &lt; 55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g/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концентрација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и 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400" spc="-1" strike="noStrike" baseline="-25000">
                  <a:solidFill>
                    <a:srgbClr val="000000"/>
                  </a:solidFill>
                  <a:latin typeface="Arial"/>
                </a:rPr>
                <a:t>4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у серуму нормалн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иопсија бубрега (златни стандард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светлосна микроскопија: гломерули изгледају непромењен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имунофлуоресцентна микроскопија: налаз негатива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електронска микроскопија: губитак стопаластих продужетака подоцит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Line 5"/>
          <p:cNvSpPr/>
          <p:nvPr/>
        </p:nvSpPr>
        <p:spPr>
          <a:xfrm flipV="1">
            <a:off x="291960" y="1929960"/>
            <a:ext cx="8433000" cy="32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Group 25"/>
          <p:cNvGrpSpPr/>
          <p:nvPr/>
        </p:nvGrpSpPr>
        <p:grpSpPr>
          <a:xfrm>
            <a:off x="174600" y="1089000"/>
            <a:ext cx="8763120" cy="5192640"/>
            <a:chOff x="174600" y="1089000"/>
            <a:chExt cx="8763120" cy="5192640"/>
          </a:xfrm>
        </p:grpSpPr>
        <p:sp>
          <p:nvSpPr>
            <p:cNvPr id="343" name="Line 5"/>
            <p:cNvSpPr/>
            <p:nvPr/>
          </p:nvSpPr>
          <p:spPr>
            <a:xfrm flipV="1">
              <a:off x="247320" y="188856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3"/>
            <p:cNvSpPr/>
            <p:nvPr/>
          </p:nvSpPr>
          <p:spPr>
            <a:xfrm>
              <a:off x="202680" y="1089000"/>
              <a:ext cx="86223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22"/>
            <p:cNvSpPr/>
            <p:nvPr/>
          </p:nvSpPr>
          <p:spPr>
            <a:xfrm>
              <a:off x="182520" y="1792080"/>
              <a:ext cx="2109240" cy="10522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23"/>
            <p:cNvSpPr/>
            <p:nvPr/>
          </p:nvSpPr>
          <p:spPr>
            <a:xfrm>
              <a:off x="2278080" y="1995840"/>
              <a:ext cx="6591240" cy="4132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3.5 </a:t>
              </a:r>
              <a:r>
                <a:rPr b="1" i="1" lang="sr-Latn-CS" sz="1300" spc="-1" strike="noStrike">
                  <a:solidFill>
                    <a:srgbClr val="000000"/>
                  </a:solidFill>
                  <a:latin typeface="Arial"/>
                </a:rPr>
                <a:t>g/24h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без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имптом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знаков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з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ефритички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11"/>
            <p:cNvSpPr/>
            <p:nvPr/>
          </p:nvSpPr>
          <p:spPr>
            <a:xfrm>
              <a:off x="181800" y="2510280"/>
              <a:ext cx="2110680" cy="537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КОМПЛЕТН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ЕМИС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12"/>
            <p:cNvSpPr/>
            <p:nvPr/>
          </p:nvSpPr>
          <p:spPr>
            <a:xfrm>
              <a:off x="2278440" y="2481120"/>
              <a:ext cx="6659280" cy="3049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0.2 g/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ок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р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застопн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а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13"/>
            <p:cNvSpPr/>
            <p:nvPr/>
          </p:nvSpPr>
          <p:spPr>
            <a:xfrm>
              <a:off x="181800" y="2916720"/>
              <a:ext cx="2110680" cy="5389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АРЦИЈАЛН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ЕМИС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14"/>
            <p:cNvSpPr/>
            <p:nvPr/>
          </p:nvSpPr>
          <p:spPr>
            <a:xfrm>
              <a:off x="2278440" y="2945880"/>
              <a:ext cx="6659280" cy="3193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између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0.21-3.4 </a:t>
              </a:r>
              <a:r>
                <a:rPr b="1" i="1" lang="sr-Latn-C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код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одраслих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току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три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узастопн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да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17"/>
            <p:cNvSpPr/>
            <p:nvPr/>
          </p:nvSpPr>
          <p:spPr>
            <a:xfrm>
              <a:off x="181800" y="3514680"/>
              <a:ext cx="2110680" cy="5371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ЕЛАПС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ОТЕИНУРИЈ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19"/>
            <p:cNvSpPr/>
            <p:nvPr/>
          </p:nvSpPr>
          <p:spPr>
            <a:xfrm>
              <a:off x="2278440" y="3483720"/>
              <a:ext cx="6659280" cy="5378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0.2 </a:t>
              </a:r>
              <a:r>
                <a:rPr b="1" i="1" lang="sr-Latn-C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 току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ајмање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једне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едеље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код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болесник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остигнутом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комплетном ремисијо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3" name="Group 26"/>
            <p:cNvGrpSpPr/>
            <p:nvPr/>
          </p:nvGrpSpPr>
          <p:grpSpPr>
            <a:xfrm>
              <a:off x="181800" y="4021920"/>
              <a:ext cx="8699760" cy="565920"/>
              <a:chOff x="181800" y="4021920"/>
              <a:chExt cx="8699760" cy="565920"/>
            </a:xfrm>
          </p:grpSpPr>
          <p:sp>
            <p:nvSpPr>
              <p:cNvPr id="354" name="Rectangle 20"/>
              <p:cNvSpPr/>
              <p:nvPr/>
            </p:nvSpPr>
            <p:spPr>
              <a:xfrm>
                <a:off x="181800" y="4050720"/>
                <a:ext cx="2110680" cy="5371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РЕЛАПС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Rectangle 21"/>
              <p:cNvSpPr/>
              <p:nvPr/>
            </p:nvSpPr>
            <p:spPr>
              <a:xfrm>
                <a:off x="2278440" y="4021920"/>
                <a:ext cx="6603120" cy="538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ротеинуриј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3.5 </a:t>
                </a:r>
                <a:r>
                  <a:rPr b="1" i="1" lang="sr-Latn-C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у ток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ајмањ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једн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дељ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код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болесник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остигнутом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комплетном или парцијалном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ремисијом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6" name="Group 27"/>
            <p:cNvGrpSpPr/>
            <p:nvPr/>
          </p:nvGrpSpPr>
          <p:grpSpPr>
            <a:xfrm>
              <a:off x="181800" y="4631400"/>
              <a:ext cx="8699760" cy="568080"/>
              <a:chOff x="181800" y="4631400"/>
              <a:chExt cx="8699760" cy="568080"/>
            </a:xfrm>
          </p:grpSpPr>
          <p:sp>
            <p:nvSpPr>
              <p:cNvPr id="357" name="Rectangle 28"/>
              <p:cNvSpPr/>
              <p:nvPr/>
            </p:nvSpPr>
            <p:spPr>
              <a:xfrm>
                <a:off x="181800" y="4660200"/>
                <a:ext cx="1834920" cy="539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ЧЕСТ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РЕЛАПС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Rectangle 29"/>
              <p:cNvSpPr/>
              <p:nvPr/>
            </p:nvSpPr>
            <p:spPr>
              <a:xfrm>
                <a:off x="2278080" y="4631400"/>
                <a:ext cx="6603480" cy="538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Болесници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≥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2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епизод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ток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месеци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или ≥ 4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епизод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ток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12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месеци од постизања ремисије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Group 30"/>
            <p:cNvGrpSpPr/>
            <p:nvPr/>
          </p:nvGrpSpPr>
          <p:grpSpPr>
            <a:xfrm>
              <a:off x="181800" y="5213160"/>
              <a:ext cx="8699760" cy="568080"/>
              <a:chOff x="181800" y="5213160"/>
              <a:chExt cx="8699760" cy="568080"/>
            </a:xfrm>
          </p:grpSpPr>
          <p:sp>
            <p:nvSpPr>
              <p:cNvPr id="360" name="Rectangle 31"/>
              <p:cNvSpPr/>
              <p:nvPr/>
            </p:nvSpPr>
            <p:spPr>
              <a:xfrm>
                <a:off x="181800" y="5241960"/>
                <a:ext cx="2111040" cy="539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ТЕРОИД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ЗАВИСАН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ЕФРОТСК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ИНДРОМ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32"/>
              <p:cNvSpPr/>
              <p:nvPr/>
            </p:nvSpPr>
            <p:spPr>
              <a:xfrm>
                <a:off x="2278440" y="5213160"/>
                <a:ext cx="6603120" cy="538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оновно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јављањ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унутар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дв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дељ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осл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мањењ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рекидањ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лечењ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кортикостероидима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2" name="Rectangle 31"/>
            <p:cNvSpPr/>
            <p:nvPr/>
          </p:nvSpPr>
          <p:spPr>
            <a:xfrm>
              <a:off x="174600" y="5742720"/>
              <a:ext cx="2111040" cy="5389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ТЕРОИД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ЕЗИСТЕНТАН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2"/>
            <p:cNvSpPr/>
            <p:nvPr/>
          </p:nvSpPr>
          <p:spPr>
            <a:xfrm>
              <a:off x="2271240" y="5728320"/>
              <a:ext cx="6666480" cy="4518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емогућност постизања ремисије у току 16 недеља примене кортикостероид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ваки или сваки други да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4" name="Group 26"/>
          <p:cNvGrpSpPr/>
          <p:nvPr/>
        </p:nvGrpSpPr>
        <p:grpSpPr>
          <a:xfrm>
            <a:off x="247680" y="1060560"/>
            <a:ext cx="8621640" cy="4903560"/>
            <a:chOff x="247680" y="1060560"/>
            <a:chExt cx="8621640" cy="4903560"/>
          </a:xfrm>
        </p:grpSpPr>
        <p:sp>
          <p:nvSpPr>
            <p:cNvPr id="365" name="Line 5"/>
            <p:cNvSpPr/>
            <p:nvPr/>
          </p:nvSpPr>
          <p:spPr>
            <a:xfrm flipV="1">
              <a:off x="291960" y="1845360"/>
              <a:ext cx="843300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"/>
            <p:cNvSpPr/>
            <p:nvPr/>
          </p:nvSpPr>
          <p:spPr>
            <a:xfrm>
              <a:off x="247680" y="1060560"/>
              <a:ext cx="8621640" cy="77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ХИСТОЛОШК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ИНИМАЛНИ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М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22"/>
            <p:cNvSpPr/>
            <p:nvPr/>
          </p:nvSpPr>
          <p:spPr>
            <a:xfrm>
              <a:off x="297720" y="1964880"/>
              <a:ext cx="18216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2"/>
            <p:cNvSpPr/>
            <p:nvPr/>
          </p:nvSpPr>
          <p:spPr>
            <a:xfrm>
              <a:off x="2119320" y="1964880"/>
              <a:ext cx="500148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еж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2"/>
            <p:cNvSpPr/>
            <p:nvPr/>
          </p:nvSpPr>
          <p:spPr>
            <a:xfrm>
              <a:off x="7121160" y="1964880"/>
              <a:ext cx="16038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емисиј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2"/>
            <p:cNvSpPr/>
            <p:nvPr/>
          </p:nvSpPr>
          <p:spPr>
            <a:xfrm>
              <a:off x="297720" y="2380680"/>
              <a:ext cx="842724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ицијална епизода без контраиндикација за стерои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2"/>
            <p:cNvSpPr/>
            <p:nvPr/>
          </p:nvSpPr>
          <p:spPr>
            <a:xfrm>
              <a:off x="291960" y="2797200"/>
              <a:ext cx="1828440" cy="108684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Predniso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22"/>
            <p:cNvSpPr/>
            <p:nvPr/>
          </p:nvSpPr>
          <p:spPr>
            <a:xfrm>
              <a:off x="2119680" y="2797200"/>
              <a:ext cx="5001480" cy="108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дан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макс. 8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/дан или 2.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сваки други дан) у току најмање 4 недеље, максимално 16 недеља. После ремисије дозу постепено смањивати у току 24 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22"/>
            <p:cNvSpPr/>
            <p:nvPr/>
          </p:nvSpPr>
          <p:spPr>
            <a:xfrm>
              <a:off x="7121160" y="2797200"/>
              <a:ext cx="1603800" cy="1086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-9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2"/>
            <p:cNvSpPr/>
            <p:nvPr/>
          </p:nvSpPr>
          <p:spPr>
            <a:xfrm>
              <a:off x="291960" y="3884040"/>
              <a:ext cx="842724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ицијална епизода са контраиндикација за стерои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2"/>
            <p:cNvSpPr/>
            <p:nvPr/>
          </p:nvSpPr>
          <p:spPr>
            <a:xfrm>
              <a:off x="291960" y="4300200"/>
              <a:ext cx="18216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YC p.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22"/>
            <p:cNvSpPr/>
            <p:nvPr/>
          </p:nvSpPr>
          <p:spPr>
            <a:xfrm>
              <a:off x="2113560" y="4300200"/>
              <a:ext cx="500148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-2.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дан у току 8 недељ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2"/>
            <p:cNvSpPr/>
            <p:nvPr/>
          </p:nvSpPr>
          <p:spPr>
            <a:xfrm>
              <a:off x="7115400" y="4300200"/>
              <a:ext cx="16038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22"/>
            <p:cNvSpPr/>
            <p:nvPr/>
          </p:nvSpPr>
          <p:spPr>
            <a:xfrm>
              <a:off x="291960" y="4716360"/>
              <a:ext cx="18216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yclospor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22"/>
            <p:cNvSpPr/>
            <p:nvPr/>
          </p:nvSpPr>
          <p:spPr>
            <a:xfrm>
              <a:off x="2113560" y="4716360"/>
              <a:ext cx="500148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-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дан у току 1-2 годи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2"/>
            <p:cNvSpPr/>
            <p:nvPr/>
          </p:nvSpPr>
          <p:spPr>
            <a:xfrm>
              <a:off x="7115400" y="4716360"/>
              <a:ext cx="16038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5%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22"/>
            <p:cNvSpPr/>
            <p:nvPr/>
          </p:nvSpPr>
          <p:spPr>
            <a:xfrm>
              <a:off x="291960" y="5132160"/>
              <a:ext cx="18216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acrolim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22"/>
            <p:cNvSpPr/>
            <p:nvPr/>
          </p:nvSpPr>
          <p:spPr>
            <a:xfrm>
              <a:off x="2113560" y="5132160"/>
              <a:ext cx="500148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05-0.1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дан у току 1-2 годи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22"/>
            <p:cNvSpPr/>
            <p:nvPr/>
          </p:nvSpPr>
          <p:spPr>
            <a:xfrm>
              <a:off x="7115400" y="5132160"/>
              <a:ext cx="1603800" cy="415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n.p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2"/>
            <p:cNvSpPr/>
            <p:nvPr/>
          </p:nvSpPr>
          <p:spPr>
            <a:xfrm>
              <a:off x="297720" y="5548320"/>
              <a:ext cx="84214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YC 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циклофосфамид</a:t>
              </a: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, n.p.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- није познато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Group 4"/>
          <p:cNvGrpSpPr/>
          <p:nvPr/>
        </p:nvGrpSpPr>
        <p:grpSpPr>
          <a:xfrm>
            <a:off x="247680" y="1130400"/>
            <a:ext cx="8621640" cy="4340160"/>
            <a:chOff x="247680" y="1130400"/>
            <a:chExt cx="8621640" cy="4340160"/>
          </a:xfrm>
        </p:grpSpPr>
        <p:sp>
          <p:nvSpPr>
            <p:cNvPr id="386" name="Rectangle 3"/>
            <p:cNvSpPr/>
            <p:nvPr/>
          </p:nvSpPr>
          <p:spPr>
            <a:xfrm>
              <a:off x="247680" y="1130400"/>
              <a:ext cx="8621640" cy="5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ЕГМЕНТН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5"/>
            <p:cNvSpPr/>
            <p:nvPr/>
          </p:nvSpPr>
          <p:spPr>
            <a:xfrm flipV="1">
              <a:off x="320400" y="168120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6"/>
            <p:cNvSpPr/>
            <p:nvPr/>
          </p:nvSpPr>
          <p:spPr>
            <a:xfrm>
              <a:off x="446040" y="472932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Р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Ј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Group 4"/>
          <p:cNvGrpSpPr/>
          <p:nvPr/>
        </p:nvGrpSpPr>
        <p:grpSpPr>
          <a:xfrm>
            <a:off x="257040" y="1152360"/>
            <a:ext cx="8622000" cy="4397400"/>
            <a:chOff x="257040" y="1152360"/>
            <a:chExt cx="8622000" cy="4397400"/>
          </a:xfrm>
        </p:grpSpPr>
        <p:sp>
          <p:nvSpPr>
            <p:cNvPr id="390" name="Rectangle 3"/>
            <p:cNvSpPr/>
            <p:nvPr/>
          </p:nvSpPr>
          <p:spPr>
            <a:xfrm>
              <a:off x="257040" y="1152360"/>
              <a:ext cx="86220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ЕГМЕНТН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Glomerulosclerosis focalis et segmentali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5"/>
            <p:cNvSpPr/>
            <p:nvPr/>
          </p:nvSpPr>
          <p:spPr>
            <a:xfrm flipV="1">
              <a:off x="320400" y="202860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6"/>
            <p:cNvSpPr/>
            <p:nvPr/>
          </p:nvSpPr>
          <p:spPr>
            <a:xfrm>
              <a:off x="445680" y="1962000"/>
              <a:ext cx="8128440" cy="358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окалн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гмент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осклероз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брег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се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рфолош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окалн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гментн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клероз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 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окал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гмент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оскле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Line 5"/>
          <p:cNvSpPr/>
          <p:nvPr/>
        </p:nvSpPr>
        <p:spPr>
          <a:xfrm flipV="1">
            <a:off x="320760" y="1122480"/>
            <a:ext cx="843264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6"/>
          <p:cNvSpPr/>
          <p:nvPr/>
        </p:nvSpPr>
        <p:spPr>
          <a:xfrm>
            <a:off x="320760" y="1171440"/>
            <a:ext cx="8432640" cy="91296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ffffff"/>
                </a:solidFill>
                <a:latin typeface="Arial"/>
              </a:rPr>
              <a:t>ЕТИОЛОГ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ИДИОПАТСКА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ФОКАЛНО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ЕГМЕНТНА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ЛОМЕРУЛОСКЛЕРОЗА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ЕКУНДАРНА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ФОКАЛНО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СЕГМЕНТНА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ffffff"/>
                </a:solidFill>
                <a:latin typeface="Arial"/>
              </a:rPr>
              <a:t>ГЛОМЕРУЛОСКЛЕР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8"/>
          <p:cNvSpPr/>
          <p:nvPr/>
        </p:nvSpPr>
        <p:spPr>
          <a:xfrm>
            <a:off x="469800" y="2398680"/>
            <a:ext cx="8128080" cy="43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КУНДАРН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ФОКАЛН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ГМЕНТН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ЛОМЕРУЛОСКЛЕРОЗ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ФАМИЛИЈАРНИ ИЛИ ГЕНЕТСКИ ТИ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979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утације гена специфичних за подоцит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НФЕКТИВ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ОЛЕ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иру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ума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унодефицијен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рвовирус</a:t>
            </a: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 B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цитомегало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Epstein-Barr</a:t>
            </a:r>
            <a:r>
              <a:rPr b="1" i="1" lang="sr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ов</a:t>
            </a:r>
            <a:r>
              <a:rPr b="1" i="1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вир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ЕКОВ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РО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естероид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тиреуматиц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налгетиц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интерферони:</a:t>
            </a:r>
            <a:r>
              <a:rPr b="1" i="1" lang="sr-RS" sz="18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sr-RS" sz="18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i="1" lang="sr-RS" sz="18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еро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литију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амидронат (бифосфона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7480" indent="-26028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иролим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Line 5"/>
          <p:cNvSpPr/>
          <p:nvPr/>
        </p:nvSpPr>
        <p:spPr>
          <a:xfrm flipV="1">
            <a:off x="320760" y="1122480"/>
            <a:ext cx="843264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8"/>
          <p:cNvSpPr/>
          <p:nvPr/>
        </p:nvSpPr>
        <p:spPr>
          <a:xfrm>
            <a:off x="469800" y="1123920"/>
            <a:ext cx="8128080" cy="55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УНДАРНА ФОКАЛН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ГМЕНТ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ГЛОМЕРУЛОСКЛЕ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. НОРМАЛ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литу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ипертензив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ртериосклеро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гојазност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BMI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8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30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kg/m</a:t>
            </a:r>
            <a:r>
              <a:rPr b="1" i="1" lang="sr-Latn-C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утни или хронични вазо-оклузивни проце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АЊЕ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илатералн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генезиј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везико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ретерални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ефлук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локалем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убрег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хируршко одстрањивање бубре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АЛИГНЕ БОЛЕ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Hodgkin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ов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nonHodgkin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ов лимф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леукемије: </a:t>
            </a: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CLL</a:t>
            </a:r>
            <a:r>
              <a:rPr b="1" lang="sr-Latn-R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sr-Latn-RS" sz="1800" spc="-1" strike="noStrike">
                <a:solidFill>
                  <a:srgbClr val="000000"/>
                </a:solidFill>
                <a:latin typeface="Arial"/>
              </a:rPr>
              <a:t>A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800" spc="-1" strike="noStrike">
                <a:solidFill>
                  <a:srgbClr val="000000"/>
                </a:solidFill>
                <a:latin typeface="Arial"/>
              </a:rPr>
              <a:t>солидни тумори: карцином плућа, тим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Group 4"/>
          <p:cNvGrpSpPr/>
          <p:nvPr/>
        </p:nvGrpSpPr>
        <p:grpSpPr>
          <a:xfrm>
            <a:off x="318960" y="1087560"/>
            <a:ext cx="8434440" cy="5559480"/>
            <a:chOff x="318960" y="1087560"/>
            <a:chExt cx="8434440" cy="5559480"/>
          </a:xfrm>
        </p:grpSpPr>
        <p:sp>
          <p:nvSpPr>
            <p:cNvPr id="399" name="Line 5"/>
            <p:cNvSpPr/>
            <p:nvPr/>
          </p:nvSpPr>
          <p:spPr>
            <a:xfrm flipV="1">
              <a:off x="320040" y="150948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7"/>
            <p:cNvSpPr/>
            <p:nvPr/>
          </p:nvSpPr>
          <p:spPr>
            <a:xfrm>
              <a:off x="469440" y="1511280"/>
              <a:ext cx="8128440" cy="51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а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гене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ханиза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теин који повећава пропустљивост зида капилар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штећењ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исцералн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пителн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ћелија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битак стопаластих продужетака под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окално сегментна склероз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трофија туб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жиљавање тубулоинтерстициј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лаз негатив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гментно или глобално повећање мезангијумског матрикс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бит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опаласт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дужета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трофија туб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жиљавање интерстицијума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7"/>
            <p:cNvSpPr/>
            <p:nvPr/>
          </p:nvSpPr>
          <p:spPr>
            <a:xfrm>
              <a:off x="318960" y="1087560"/>
              <a:ext cx="83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 СЕГМЕНТНА 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2" name="Group 3"/>
          <p:cNvGrpSpPr/>
          <p:nvPr/>
        </p:nvGrpSpPr>
        <p:grpSpPr>
          <a:xfrm>
            <a:off x="262080" y="971640"/>
            <a:ext cx="8621640" cy="5037120"/>
            <a:chOff x="262080" y="971640"/>
            <a:chExt cx="8621640" cy="5037120"/>
          </a:xfrm>
        </p:grpSpPr>
        <p:sp>
          <p:nvSpPr>
            <p:cNvPr id="403" name="Rectangle 3"/>
            <p:cNvSpPr/>
            <p:nvPr/>
          </p:nvSpPr>
          <p:spPr>
            <a:xfrm>
              <a:off x="262080" y="971640"/>
              <a:ext cx="862164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 СЕГМЕНТНА 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7"/>
            <p:cNvSpPr/>
            <p:nvPr/>
          </p:nvSpPr>
          <p:spPr>
            <a:xfrm>
              <a:off x="288720" y="1762200"/>
              <a:ext cx="853452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КЛИНИЧКА СЛ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 се испољава клиничком сликом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н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фротског синдрома (70-9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д 10-30% болесника: асимптоматска протеинурија и микрохемат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акроскопска хематурија (ретк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рзо-прогресивни облик (секундарни брзопрогресивни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N)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ретк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ронична прогресивна болест бубрега (завршни стадијум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BB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бичн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јав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пертензија се јавља код 30-50%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тоц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гу бити и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ражени: асцитес, плеурал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зли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аз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горшањ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г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ав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ромбоемболијск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мплика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фек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болест се веома често јавља на пресађени бубрег (стопа рекурентности: 4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Line 5"/>
          <p:cNvSpPr/>
          <p:nvPr/>
        </p:nvSpPr>
        <p:spPr>
          <a:xfrm flipV="1">
            <a:off x="306360" y="1611360"/>
            <a:ext cx="843300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26"/>
          <p:cNvSpPr/>
          <p:nvPr/>
        </p:nvSpPr>
        <p:spPr>
          <a:xfrm>
            <a:off x="306360" y="6284880"/>
            <a:ext cx="8516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гломерулонефритис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BB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ронична болест бубре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Line 4"/>
          <p:cNvSpPr/>
          <p:nvPr/>
        </p:nvSpPr>
        <p:spPr>
          <a:xfrm flipV="1">
            <a:off x="339840" y="1595520"/>
            <a:ext cx="843264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349200" y="1638360"/>
            <a:ext cx="8433000" cy="36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МАРН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ЕФРОТСКИ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ИНДР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диопатск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нефротски синдром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1. ГН са хистолошки минималним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промен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2. фокално-сегментна гломерулосклеро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3. мембранозни гломерулонеф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4. мембранопролиферативни гломерулонеф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5. мезангиопролиферативни гломерулонефри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6. брзо-прогресивни гломерулонефритис (ретко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237960" y="1057320"/>
            <a:ext cx="86220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ЕТИОЛОГИЈА НЕФРОТСКОГ</a:t>
            </a:r>
            <a:r>
              <a:rPr b="1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СИНДР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4"/>
          <p:cNvSpPr/>
          <p:nvPr/>
        </p:nvSpPr>
        <p:spPr>
          <a:xfrm>
            <a:off x="819000" y="2562120"/>
            <a:ext cx="324000" cy="32400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5"/>
          <p:cNvSpPr/>
          <p:nvPr/>
        </p:nvSpPr>
        <p:spPr>
          <a:xfrm>
            <a:off x="819000" y="2933640"/>
            <a:ext cx="324000" cy="32400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/>
          <p:cNvSpPr/>
          <p:nvPr/>
        </p:nvSpPr>
        <p:spPr>
          <a:xfrm>
            <a:off x="819000" y="3305160"/>
            <a:ext cx="324000" cy="32400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7"/>
          <p:cNvSpPr/>
          <p:nvPr/>
        </p:nvSpPr>
        <p:spPr>
          <a:xfrm>
            <a:off x="819000" y="3666960"/>
            <a:ext cx="324000" cy="324000"/>
          </a:xfrm>
          <a:prstGeom prst="ellipse">
            <a:avLst/>
          </a:prstGeom>
          <a:noFill/>
          <a:ln w="255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8"/>
          <p:cNvSpPr/>
          <p:nvPr/>
        </p:nvSpPr>
        <p:spPr>
          <a:xfrm>
            <a:off x="339840" y="1666800"/>
            <a:ext cx="8432640" cy="492444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7" name="Group 5"/>
          <p:cNvGrpSpPr/>
          <p:nvPr/>
        </p:nvGrpSpPr>
        <p:grpSpPr>
          <a:xfrm>
            <a:off x="247680" y="841320"/>
            <a:ext cx="8621640" cy="5486400"/>
            <a:chOff x="247680" y="841320"/>
            <a:chExt cx="8621640" cy="5486400"/>
          </a:xfrm>
        </p:grpSpPr>
        <p:grpSp>
          <p:nvGrpSpPr>
            <p:cNvPr id="408" name="Group 3"/>
            <p:cNvGrpSpPr/>
            <p:nvPr/>
          </p:nvGrpSpPr>
          <p:grpSpPr>
            <a:xfrm>
              <a:off x="247680" y="841320"/>
              <a:ext cx="8621640" cy="5486400"/>
              <a:chOff x="247680" y="841320"/>
              <a:chExt cx="8621640" cy="5486400"/>
            </a:xfrm>
          </p:grpSpPr>
          <p:sp>
            <p:nvSpPr>
              <p:cNvPr id="409" name="Rectangle 3"/>
              <p:cNvSpPr/>
              <p:nvPr/>
            </p:nvSpPr>
            <p:spPr>
              <a:xfrm>
                <a:off x="247680" y="841320"/>
                <a:ext cx="8621640" cy="8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ФОКАЛНО СЕГМЕНТНА ГЛОМЕРУЛОСКЛЕРОЗ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Rectangle 7"/>
              <p:cNvSpPr/>
              <p:nvPr/>
            </p:nvSpPr>
            <p:spPr>
              <a:xfrm>
                <a:off x="274320" y="1750320"/>
                <a:ext cx="8534520" cy="4577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анамнез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јава еде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физикални преглед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исуство еде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знаци плеуралног изли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знаци асцитес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лабораториј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 ≥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нефротски синдром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иперлипидемија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укупни холестерол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LD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триглицерид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ипоалбуминемија: &lt; 2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l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&lt; 20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ипопротеинемија: укупни протеини &lt; 5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ремећаји функције тубула: гликозурија, аминоацидурија, фосфатур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спитивања имунског систе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концентрација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и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у серуму нормална 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одсуство активације комплемента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имунски комплекси у циркулацији (10-30% болесник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5"/>
            <p:cNvSpPr/>
            <p:nvPr/>
          </p:nvSpPr>
          <p:spPr>
            <a:xfrm flipV="1">
              <a:off x="291600" y="148608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Rectangle 26"/>
          <p:cNvSpPr/>
          <p:nvPr/>
        </p:nvSpPr>
        <p:spPr>
          <a:xfrm>
            <a:off x="320760" y="6327720"/>
            <a:ext cx="8516880" cy="4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И - тубулоинтерстицијум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Group 4"/>
          <p:cNvGrpSpPr/>
          <p:nvPr/>
        </p:nvGrpSpPr>
        <p:grpSpPr>
          <a:xfrm>
            <a:off x="318960" y="1087560"/>
            <a:ext cx="8434440" cy="5559480"/>
            <a:chOff x="318960" y="1087560"/>
            <a:chExt cx="8434440" cy="5559480"/>
          </a:xfrm>
        </p:grpSpPr>
        <p:sp>
          <p:nvSpPr>
            <p:cNvPr id="414" name="Line 5"/>
            <p:cNvSpPr/>
            <p:nvPr/>
          </p:nvSpPr>
          <p:spPr>
            <a:xfrm flipV="1">
              <a:off x="320040" y="150948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7"/>
            <p:cNvSpPr/>
            <p:nvPr/>
          </p:nvSpPr>
          <p:spPr>
            <a:xfrm>
              <a:off x="469440" y="1511280"/>
              <a:ext cx="8128440" cy="513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БИОПСИЈА БУБРЕГА (ЗЛАТНИ СТАНДАРД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фокално сегментна склероз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трофија туб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жиљавање тубулоинтерстициј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лаз негатива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егментно или глобално повећање мезангијумског матрикс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бит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опаласт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дужета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оцит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трофија туб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жиљавање интерстицијума бубрег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"/>
            <p:cNvSpPr/>
            <p:nvPr/>
          </p:nvSpPr>
          <p:spPr>
            <a:xfrm>
              <a:off x="318960" y="1087560"/>
              <a:ext cx="83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 СЕГМЕНТНА 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Group 24"/>
          <p:cNvGrpSpPr/>
          <p:nvPr/>
        </p:nvGrpSpPr>
        <p:grpSpPr>
          <a:xfrm>
            <a:off x="174600" y="958680"/>
            <a:ext cx="8763120" cy="5062680"/>
            <a:chOff x="174600" y="958680"/>
            <a:chExt cx="8763120" cy="5062680"/>
          </a:xfrm>
        </p:grpSpPr>
        <p:sp>
          <p:nvSpPr>
            <p:cNvPr id="418" name="Line 5"/>
            <p:cNvSpPr/>
            <p:nvPr/>
          </p:nvSpPr>
          <p:spPr>
            <a:xfrm flipV="1">
              <a:off x="247320" y="156960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3"/>
            <p:cNvSpPr/>
            <p:nvPr/>
          </p:nvSpPr>
          <p:spPr>
            <a:xfrm>
              <a:off x="202680" y="958680"/>
              <a:ext cx="86223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 СЕГМЕНТНА 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Rectangle 22"/>
            <p:cNvSpPr/>
            <p:nvPr/>
          </p:nvSpPr>
          <p:spPr>
            <a:xfrm>
              <a:off x="182520" y="1720440"/>
              <a:ext cx="2109240" cy="4132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Rectangle 23"/>
            <p:cNvSpPr/>
            <p:nvPr/>
          </p:nvSpPr>
          <p:spPr>
            <a:xfrm>
              <a:off x="2278080" y="1705680"/>
              <a:ext cx="6591240" cy="4132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3.5 </a:t>
              </a:r>
              <a:r>
                <a:rPr b="1" i="1" lang="sr-Latn-CS" sz="1300" spc="-1" strike="noStrike">
                  <a:solidFill>
                    <a:srgbClr val="000000"/>
                  </a:solidFill>
                  <a:latin typeface="Arial"/>
                </a:rPr>
                <a:t>g/24h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без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имптом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знаков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з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ефритички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Rectangle 11"/>
            <p:cNvSpPr/>
            <p:nvPr/>
          </p:nvSpPr>
          <p:spPr>
            <a:xfrm>
              <a:off x="181800" y="2220480"/>
              <a:ext cx="2110680" cy="5374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КОМПЛЕТН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ЕМИС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12"/>
            <p:cNvSpPr/>
            <p:nvPr/>
          </p:nvSpPr>
          <p:spPr>
            <a:xfrm>
              <a:off x="2278440" y="2147760"/>
              <a:ext cx="6659280" cy="30528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0.2 g/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оку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р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узастопн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а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13"/>
            <p:cNvSpPr/>
            <p:nvPr/>
          </p:nvSpPr>
          <p:spPr>
            <a:xfrm>
              <a:off x="181800" y="2626920"/>
              <a:ext cx="2110680" cy="5389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АРЦИЈАЛНА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ЕМИСИЈ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Rectangle 14"/>
            <p:cNvSpPr/>
            <p:nvPr/>
          </p:nvSpPr>
          <p:spPr>
            <a:xfrm>
              <a:off x="2278440" y="2656080"/>
              <a:ext cx="6659280" cy="3193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између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0.21-3.4 </a:t>
              </a:r>
              <a:r>
                <a:rPr b="1" i="1" lang="sr-Latn-C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код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одраслих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току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три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узастопн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дан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Rectangle 17"/>
            <p:cNvSpPr/>
            <p:nvPr/>
          </p:nvSpPr>
          <p:spPr>
            <a:xfrm>
              <a:off x="181800" y="3196080"/>
              <a:ext cx="2110680" cy="5371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РЕЛАПС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ОТЕИНУРИЈЕ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Rectangle 19"/>
            <p:cNvSpPr/>
            <p:nvPr/>
          </p:nvSpPr>
          <p:spPr>
            <a:xfrm>
              <a:off x="2278440" y="3165120"/>
              <a:ext cx="6659280" cy="5378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ротеинуриј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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0.2 </a:t>
              </a:r>
              <a:r>
                <a:rPr b="1" i="1" lang="sr-Latn-CS" sz="13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дан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у току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ајмање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једне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едеље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код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болесник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а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постигнутом</a:t>
              </a:r>
              <a:r>
                <a:rPr b="1" lang="sr-Latn-CS" sz="13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комплетном ремисијом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8" name="Group 26"/>
            <p:cNvGrpSpPr/>
            <p:nvPr/>
          </p:nvGrpSpPr>
          <p:grpSpPr>
            <a:xfrm>
              <a:off x="181800" y="3732480"/>
              <a:ext cx="8699760" cy="565920"/>
              <a:chOff x="181800" y="3732480"/>
              <a:chExt cx="8699760" cy="565920"/>
            </a:xfrm>
          </p:grpSpPr>
          <p:sp>
            <p:nvSpPr>
              <p:cNvPr id="429" name="Rectangle 20"/>
              <p:cNvSpPr/>
              <p:nvPr/>
            </p:nvSpPr>
            <p:spPr>
              <a:xfrm>
                <a:off x="181800" y="3761280"/>
                <a:ext cx="2110680" cy="53712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РЕЛАПС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Rectangle 21"/>
              <p:cNvSpPr/>
              <p:nvPr/>
            </p:nvSpPr>
            <p:spPr>
              <a:xfrm>
                <a:off x="2278440" y="3732480"/>
                <a:ext cx="6603120" cy="538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ротеинуриј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3.5 </a:t>
                </a:r>
                <a:r>
                  <a:rPr b="1" i="1" lang="sr-Latn-CS" sz="13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у ток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ајмањ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једн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дељ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код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болесник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остигнутом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комплетном или парцијалном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ремисијом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1" name="Group 27"/>
            <p:cNvGrpSpPr/>
            <p:nvPr/>
          </p:nvGrpSpPr>
          <p:grpSpPr>
            <a:xfrm>
              <a:off x="181800" y="4341960"/>
              <a:ext cx="8699760" cy="568080"/>
              <a:chOff x="181800" y="4341960"/>
              <a:chExt cx="8699760" cy="568080"/>
            </a:xfrm>
          </p:grpSpPr>
          <p:sp>
            <p:nvSpPr>
              <p:cNvPr id="432" name="Rectangle 28"/>
              <p:cNvSpPr/>
              <p:nvPr/>
            </p:nvSpPr>
            <p:spPr>
              <a:xfrm>
                <a:off x="181800" y="4370760"/>
                <a:ext cx="1834920" cy="539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ЧЕСТ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РЕЛАПС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Rectangle 29"/>
              <p:cNvSpPr/>
              <p:nvPr/>
            </p:nvSpPr>
            <p:spPr>
              <a:xfrm>
                <a:off x="2278080" y="4341960"/>
                <a:ext cx="6603480" cy="538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Болесници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≥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 2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епизод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ток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300" spc="-1" strike="noStrike">
                    <a:solidFill>
                      <a:srgbClr val="000000"/>
                    </a:solidFill>
                    <a:latin typeface="Arial"/>
                  </a:rPr>
                  <a:t>6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месеци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или ≥ 4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епизод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току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12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месеци од постизања ремисије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4" name="Group 30"/>
            <p:cNvGrpSpPr/>
            <p:nvPr/>
          </p:nvGrpSpPr>
          <p:grpSpPr>
            <a:xfrm>
              <a:off x="181800" y="4923720"/>
              <a:ext cx="8699760" cy="568080"/>
              <a:chOff x="181800" y="4923720"/>
              <a:chExt cx="8699760" cy="568080"/>
            </a:xfrm>
          </p:grpSpPr>
          <p:sp>
            <p:nvSpPr>
              <p:cNvPr id="435" name="Rectangle 31"/>
              <p:cNvSpPr/>
              <p:nvPr/>
            </p:nvSpPr>
            <p:spPr>
              <a:xfrm>
                <a:off x="181800" y="4952520"/>
                <a:ext cx="2111040" cy="53928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ТЕРОИД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ЗАВИСАН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ЕФРОТСКИ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СИНДРОМ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Rectangle 32"/>
              <p:cNvSpPr/>
              <p:nvPr/>
            </p:nvSpPr>
            <p:spPr>
              <a:xfrm>
                <a:off x="2278440" y="4923720"/>
                <a:ext cx="6603120" cy="538200"/>
              </a:xfrm>
              <a:prstGeom prst="rect">
                <a:avLst/>
              </a:prstGeom>
              <a:noFill/>
              <a:ln w="324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оновно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јављањ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фротског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индром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унутар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дв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недељ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осле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мањењ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прекидањ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лечењ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са</a:t>
                </a:r>
                <a:r>
                  <a:rPr b="1" lang="sr-Latn-CS" sz="13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300" spc="-1" strike="noStrike">
                    <a:solidFill>
                      <a:srgbClr val="000000"/>
                    </a:solidFill>
                    <a:latin typeface="Arial"/>
                  </a:rPr>
                  <a:t>кортикостероидима</a:t>
                </a:r>
                <a:endParaRPr b="0" lang="en-US" sz="1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7" name="Rectangle 31"/>
            <p:cNvSpPr/>
            <p:nvPr/>
          </p:nvSpPr>
          <p:spPr>
            <a:xfrm>
              <a:off x="174600" y="5482440"/>
              <a:ext cx="2111040" cy="53892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ТЕРОИД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РЕЗИСТЕНТАН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32"/>
            <p:cNvSpPr/>
            <p:nvPr/>
          </p:nvSpPr>
          <p:spPr>
            <a:xfrm>
              <a:off x="2271240" y="5468040"/>
              <a:ext cx="6666480" cy="45180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Немогућност постизања ремисије у току 16 недеља примене кортикостероида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300" spc="-1" strike="noStrike">
                  <a:solidFill>
                    <a:srgbClr val="000000"/>
                  </a:solidFill>
                  <a:latin typeface="Arial"/>
                </a:rPr>
                <a:t>сваки или сваки други дан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9" name="Group 29"/>
          <p:cNvGrpSpPr/>
          <p:nvPr/>
        </p:nvGrpSpPr>
        <p:grpSpPr>
          <a:xfrm>
            <a:off x="247680" y="928800"/>
            <a:ext cx="8621640" cy="4701960"/>
            <a:chOff x="247680" y="928800"/>
            <a:chExt cx="8621640" cy="4701960"/>
          </a:xfrm>
        </p:grpSpPr>
        <p:sp>
          <p:nvSpPr>
            <p:cNvPr id="440" name="Line 5"/>
            <p:cNvSpPr/>
            <p:nvPr/>
          </p:nvSpPr>
          <p:spPr>
            <a:xfrm flipV="1">
              <a:off x="291960" y="1510920"/>
              <a:ext cx="843300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Rectangle 3"/>
            <p:cNvSpPr/>
            <p:nvPr/>
          </p:nvSpPr>
          <p:spPr>
            <a:xfrm>
              <a:off x="247680" y="928800"/>
              <a:ext cx="8621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ФОКАЛНО СЕГМЕНТНА ГЛОМЕРУЛОСКЛЕРОЗ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Rectangle 22"/>
            <p:cNvSpPr/>
            <p:nvPr/>
          </p:nvSpPr>
          <p:spPr>
            <a:xfrm>
              <a:off x="297720" y="1630080"/>
              <a:ext cx="182160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Лек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Rectangle 22"/>
            <p:cNvSpPr/>
            <p:nvPr/>
          </p:nvSpPr>
          <p:spPr>
            <a:xfrm>
              <a:off x="2119320" y="1630080"/>
              <a:ext cx="659952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ежим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Rectangle 22"/>
            <p:cNvSpPr/>
            <p:nvPr/>
          </p:nvSpPr>
          <p:spPr>
            <a:xfrm>
              <a:off x="297720" y="2046240"/>
              <a:ext cx="842724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ицијална епизода без контраиндикација за стерои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22"/>
            <p:cNvSpPr/>
            <p:nvPr/>
          </p:nvSpPr>
          <p:spPr>
            <a:xfrm>
              <a:off x="291960" y="2462760"/>
              <a:ext cx="1828440" cy="1087200"/>
            </a:xfrm>
            <a:prstGeom prst="rect">
              <a:avLst/>
            </a:prstGeom>
            <a:solidFill>
              <a:srgbClr val="c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Predniso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Rectangle 22"/>
            <p:cNvSpPr/>
            <p:nvPr/>
          </p:nvSpPr>
          <p:spPr>
            <a:xfrm>
              <a:off x="2119680" y="2462760"/>
              <a:ext cx="6599520" cy="1087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.0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/дан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макс. 8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/дан или 2.0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сваки други дан) у току најмање 4 недеље, максимално 16 недеља. После ремисије дозу постепено смањивати у току 24 недељ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22"/>
            <p:cNvSpPr/>
            <p:nvPr/>
          </p:nvSpPr>
          <p:spPr>
            <a:xfrm>
              <a:off x="291960" y="3549960"/>
              <a:ext cx="842724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Иницијална епизода са контраиндикација за стероид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Rectangle 22"/>
            <p:cNvSpPr/>
            <p:nvPr/>
          </p:nvSpPr>
          <p:spPr>
            <a:xfrm>
              <a:off x="291960" y="3966120"/>
              <a:ext cx="182160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YC p.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Rectangle 22"/>
            <p:cNvSpPr/>
            <p:nvPr/>
          </p:nvSpPr>
          <p:spPr>
            <a:xfrm>
              <a:off x="2113560" y="3966120"/>
              <a:ext cx="660528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-2.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дан у току 8-12 недељ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Rectangle 22"/>
            <p:cNvSpPr/>
            <p:nvPr/>
          </p:nvSpPr>
          <p:spPr>
            <a:xfrm>
              <a:off x="291960" y="4382280"/>
              <a:ext cx="182160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Cyclosporine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Rectangle 22"/>
            <p:cNvSpPr/>
            <p:nvPr/>
          </p:nvSpPr>
          <p:spPr>
            <a:xfrm>
              <a:off x="2113560" y="4382280"/>
              <a:ext cx="660528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-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дан у току 12 месец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22"/>
            <p:cNvSpPr/>
            <p:nvPr/>
          </p:nvSpPr>
          <p:spPr>
            <a:xfrm>
              <a:off x="291960" y="4798440"/>
              <a:ext cx="182160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Tacrolimu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Rectangle 22"/>
            <p:cNvSpPr/>
            <p:nvPr/>
          </p:nvSpPr>
          <p:spPr>
            <a:xfrm>
              <a:off x="2113560" y="4798440"/>
              <a:ext cx="660528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.15-0.20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kg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/дан у току 12 месец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Rectangle 22"/>
            <p:cNvSpPr/>
            <p:nvPr/>
          </p:nvSpPr>
          <p:spPr>
            <a:xfrm>
              <a:off x="297720" y="5214600"/>
              <a:ext cx="8421480" cy="41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YC - 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циклофосфамид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Rectangle 26"/>
            <p:cNvSpPr/>
            <p:nvPr/>
          </p:nvSpPr>
          <p:spPr>
            <a:xfrm>
              <a:off x="291960" y="5214600"/>
              <a:ext cx="182160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Rituxima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22"/>
            <p:cNvSpPr/>
            <p:nvPr/>
          </p:nvSpPr>
          <p:spPr>
            <a:xfrm>
              <a:off x="2113560" y="5214600"/>
              <a:ext cx="6605280" cy="416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75 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mg/m</a:t>
              </a:r>
              <a:r>
                <a:rPr b="1" i="1" lang="en-US" sz="20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недељно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</a:rPr>
                <a:t> i.v.,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у току 4 недељ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4"/>
          <p:cNvGrpSpPr/>
          <p:nvPr/>
        </p:nvGrpSpPr>
        <p:grpSpPr>
          <a:xfrm>
            <a:off x="247680" y="1158840"/>
            <a:ext cx="8621640" cy="4340160"/>
            <a:chOff x="247680" y="1158840"/>
            <a:chExt cx="8621640" cy="4340160"/>
          </a:xfrm>
        </p:grpSpPr>
        <p:sp>
          <p:nvSpPr>
            <p:cNvPr id="458" name="Rectangle 3"/>
            <p:cNvSpPr/>
            <p:nvPr/>
          </p:nvSpPr>
          <p:spPr>
            <a:xfrm>
              <a:off x="247680" y="1158840"/>
              <a:ext cx="862164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МЕМБРАНОЗНА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НЕФРОПАТ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5"/>
            <p:cNvSpPr/>
            <p:nvPr/>
          </p:nvSpPr>
          <p:spPr>
            <a:xfrm flipV="1">
              <a:off x="320400" y="172404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6"/>
            <p:cNvSpPr/>
            <p:nvPr/>
          </p:nvSpPr>
          <p:spPr>
            <a:xfrm>
              <a:off x="446040" y="4757760"/>
              <a:ext cx="812808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Р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Ј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Group 4"/>
          <p:cNvGrpSpPr/>
          <p:nvPr/>
        </p:nvGrpSpPr>
        <p:grpSpPr>
          <a:xfrm>
            <a:off x="257040" y="1050840"/>
            <a:ext cx="8622000" cy="4469040"/>
            <a:chOff x="257040" y="1050840"/>
            <a:chExt cx="8622000" cy="4469040"/>
          </a:xfrm>
        </p:grpSpPr>
        <p:sp>
          <p:nvSpPr>
            <p:cNvPr id="462" name="Rectangle 3"/>
            <p:cNvSpPr/>
            <p:nvPr/>
          </p:nvSpPr>
          <p:spPr>
            <a:xfrm>
              <a:off x="257040" y="1050840"/>
              <a:ext cx="862200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Nephropathia membran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5"/>
            <p:cNvSpPr/>
            <p:nvPr/>
          </p:nvSpPr>
          <p:spPr>
            <a:xfrm flipV="1">
              <a:off x="320400" y="192672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Rectangle 6"/>
            <p:cNvSpPr/>
            <p:nvPr/>
          </p:nvSpPr>
          <p:spPr>
            <a:xfrm>
              <a:off x="445680" y="1933560"/>
              <a:ext cx="8128440" cy="35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мбраноз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пат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ј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рфолош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дебљање зид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пилар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зрокован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ифузн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убепител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и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епозитима, без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нако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паљењ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лиферац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 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хистолош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ај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дебљање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ид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их капилар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дифузни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субепителни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имунски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депозити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без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5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запаљења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500" spc="-1" strike="noStrike">
                  <a:solidFill>
                    <a:srgbClr val="000000"/>
                  </a:solidFill>
                  <a:latin typeface="Arial"/>
                </a:rPr>
                <a:t>пролиферације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5" name="Group 4"/>
          <p:cNvGrpSpPr/>
          <p:nvPr/>
        </p:nvGrpSpPr>
        <p:grpSpPr>
          <a:xfrm>
            <a:off x="320760" y="1157400"/>
            <a:ext cx="8432640" cy="5514840"/>
            <a:chOff x="320760" y="1157400"/>
            <a:chExt cx="8432640" cy="5514840"/>
          </a:xfrm>
        </p:grpSpPr>
        <p:sp>
          <p:nvSpPr>
            <p:cNvPr id="466" name="Rectangle 6"/>
            <p:cNvSpPr/>
            <p:nvPr/>
          </p:nvSpPr>
          <p:spPr>
            <a:xfrm>
              <a:off x="475200" y="1245240"/>
              <a:ext cx="8128080" cy="91728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343080" indent="-343080"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</a:rPr>
                <a:t>ЕТИ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ИДИОПАТСКА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МЕМБРАНОЗНА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НЕФРОПАТИЈА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 algn="just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СЕКУНДАРНА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МЕМБРАНОЗНА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НЕФРОПАТ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8"/>
            <p:cNvSpPr/>
            <p:nvPr/>
          </p:nvSpPr>
          <p:spPr>
            <a:xfrm>
              <a:off x="484560" y="2162520"/>
              <a:ext cx="8128080" cy="45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ЕКУНДАРНА МЕМБРАНОЗНА НЕФРОПАТИЈ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1. ИНФЕКТИВН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епатитис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уе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аларија кварта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ш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тозомиј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илариј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2. НЕОПЛАЗМ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рциноми: плућа, дојке, желуца, колона, ректума, бубрега, мелан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имфоми: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onHodgk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 лимфом, ређе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Hodgk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 лимфом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3. ЛЕКОВ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ТОКСИ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литију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еницила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птопри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бенец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стероидни антиинфламаторни лек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5"/>
            <p:cNvSpPr/>
            <p:nvPr/>
          </p:nvSpPr>
          <p:spPr>
            <a:xfrm flipV="1">
              <a:off x="320760" y="1157400"/>
              <a:ext cx="843264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9" name="Group 4"/>
          <p:cNvGrpSpPr/>
          <p:nvPr/>
        </p:nvGrpSpPr>
        <p:grpSpPr>
          <a:xfrm>
            <a:off x="320760" y="1157400"/>
            <a:ext cx="8432640" cy="5370480"/>
            <a:chOff x="320760" y="1157400"/>
            <a:chExt cx="8432640" cy="5370480"/>
          </a:xfrm>
        </p:grpSpPr>
        <p:sp>
          <p:nvSpPr>
            <p:cNvPr id="470" name="Rectangle 8"/>
            <p:cNvSpPr/>
            <p:nvPr/>
          </p:nvSpPr>
          <p:spPr>
            <a:xfrm>
              <a:off x="498960" y="1158840"/>
              <a:ext cx="8128080" cy="536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СЕКУНДАРНА МЕМБРАНОЗНЕА НЕФРОПАТ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4. СИСТЕМСК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ски лупус еритематозу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еуматоидни артр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Sj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n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утоимуни тиреоид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аркоид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шовита болест везивног ткив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марна билијарна ци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5. ОСТАЛО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ијабетес мелитус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немија српаст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лозни пемфигоид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астенија грав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uillain-Barre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ромбоза реналне вен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5"/>
            <p:cNvSpPr/>
            <p:nvPr/>
          </p:nvSpPr>
          <p:spPr>
            <a:xfrm flipV="1">
              <a:off x="320760" y="1157400"/>
              <a:ext cx="843264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2" name="Group 4"/>
          <p:cNvGrpSpPr/>
          <p:nvPr/>
        </p:nvGrpSpPr>
        <p:grpSpPr>
          <a:xfrm>
            <a:off x="311040" y="1001880"/>
            <a:ext cx="8566200" cy="5746680"/>
            <a:chOff x="311040" y="1001880"/>
            <a:chExt cx="8566200" cy="5746680"/>
          </a:xfrm>
        </p:grpSpPr>
        <p:sp>
          <p:nvSpPr>
            <p:cNvPr id="473" name="Line 5"/>
            <p:cNvSpPr/>
            <p:nvPr/>
          </p:nvSpPr>
          <p:spPr>
            <a:xfrm flipV="1">
              <a:off x="320760" y="1409040"/>
              <a:ext cx="843264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7"/>
            <p:cNvSpPr/>
            <p:nvPr/>
          </p:nvSpPr>
          <p:spPr>
            <a:xfrm>
              <a:off x="311040" y="1411200"/>
              <a:ext cx="8566200" cy="53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главн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атогенетск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еханизам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ткривен је антиген у мембрани подоцита (фосфолипаза А2 рецептор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тела (анти-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PLA2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антитела) се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n situ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везују за антигене на субепителној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трани базалне мембране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нти-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PLA2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-антитела омогућавају разликовање примарног од секундарног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блика мембранозне нефропат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дсуство пролиферације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ски депозити са спољашње стране базалне мембране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пителни имунск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3618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Rectangle 7"/>
            <p:cNvSpPr/>
            <p:nvPr/>
          </p:nvSpPr>
          <p:spPr>
            <a:xfrm>
              <a:off x="319320" y="1001880"/>
              <a:ext cx="8374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3"/>
          <p:cNvGrpSpPr/>
          <p:nvPr/>
        </p:nvGrpSpPr>
        <p:grpSpPr>
          <a:xfrm>
            <a:off x="262080" y="971640"/>
            <a:ext cx="8621640" cy="4817880"/>
            <a:chOff x="262080" y="971640"/>
            <a:chExt cx="8621640" cy="4817880"/>
          </a:xfrm>
        </p:grpSpPr>
        <p:sp>
          <p:nvSpPr>
            <p:cNvPr id="477" name="Rectangle 3"/>
            <p:cNvSpPr/>
            <p:nvPr/>
          </p:nvSpPr>
          <p:spPr>
            <a:xfrm>
              <a:off x="262080" y="971640"/>
              <a:ext cx="862164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7"/>
            <p:cNvSpPr/>
            <p:nvPr/>
          </p:nvSpPr>
          <p:spPr>
            <a:xfrm>
              <a:off x="288720" y="1542960"/>
              <a:ext cx="853452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КЛИНИЧКА СЛ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 се испољава клиничком сликом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н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фротског синдрома (80-90%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д 10-20% болесника: асимптоматска протеинурија и микрохемат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рзо-прогресивни облик (секундарни брзопрогресивни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GN)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ретко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ронична прогресивна болест бубрега (завршни стадијум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BB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бичн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јав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тоц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могу бити и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ражени: асцитес, плеурал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зли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пликације: тромбоза бубрежне вене,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ромбоемболијск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мплика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понтана ремисија болести се постиже код 30-35%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9" name="Line 5"/>
          <p:cNvSpPr/>
          <p:nvPr/>
        </p:nvSpPr>
        <p:spPr>
          <a:xfrm flipV="1">
            <a:off x="306360" y="1611360"/>
            <a:ext cx="843300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ectangle 26"/>
          <p:cNvSpPr/>
          <p:nvPr/>
        </p:nvSpPr>
        <p:spPr>
          <a:xfrm>
            <a:off x="306360" y="6284880"/>
            <a:ext cx="8516880" cy="4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N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- гломерулонефритис,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 HBB -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хронична болест бубре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5"/>
          <p:cNvGrpSpPr/>
          <p:nvPr/>
        </p:nvGrpSpPr>
        <p:grpSpPr>
          <a:xfrm>
            <a:off x="237960" y="1057320"/>
            <a:ext cx="8622000" cy="5533920"/>
            <a:chOff x="237960" y="1057320"/>
            <a:chExt cx="8622000" cy="5533920"/>
          </a:xfrm>
        </p:grpSpPr>
        <p:sp>
          <p:nvSpPr>
            <p:cNvPr id="58" name="Line 4"/>
            <p:cNvSpPr/>
            <p:nvPr/>
          </p:nvSpPr>
          <p:spPr>
            <a:xfrm flipV="1">
              <a:off x="348840" y="159516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"/>
            <p:cNvSpPr/>
            <p:nvPr/>
          </p:nvSpPr>
          <p:spPr>
            <a:xfrm>
              <a:off x="348840" y="1057320"/>
              <a:ext cx="8433360" cy="553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ЕКУНДАРН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НЕФРОТСКИ СИНДР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Инфекциј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1. бактерије: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остстрептококни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GN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, инфективни ендокардити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2. вируси: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хепатитис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, хепатитис </a:t>
              </a: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, цитомегаловирус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3. протозое: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аларија, токсоплазмо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4. хелминти: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шистозомијаза, трипанозомија,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филариј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8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r>
                <a:rPr b="1" lang="sr-CS" sz="400" spc="-1" strike="noStrike">
                  <a:solidFill>
                    <a:srgbClr val="000000"/>
                  </a:solidFill>
                  <a:latin typeface="Arial"/>
                </a:rPr>
                <a:t>        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Б.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 Системске болест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1. системски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ерит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мски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лупус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2. 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Henoch-Sch</a:t>
              </a:r>
              <a:r>
                <a:rPr b="1" i="1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nlein-</a:t>
              </a:r>
              <a:r>
                <a:rPr b="1" i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а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пурпур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gener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а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грануломатоз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Goodpasture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</a:t>
              </a: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дро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амилоидо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2"/>
            <p:cNvSpPr/>
            <p:nvPr/>
          </p:nvSpPr>
          <p:spPr>
            <a:xfrm>
              <a:off x="237960" y="1057320"/>
              <a:ext cx="862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ЕТИОЛОГИЈА НЕФРОТСКОГ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СИНДРО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4"/>
            <p:cNvSpPr/>
            <p:nvPr/>
          </p:nvSpPr>
          <p:spPr>
            <a:xfrm>
              <a:off x="339480" y="1666800"/>
              <a:ext cx="8433360" cy="4924440"/>
            </a:xfrm>
            <a:prstGeom prst="rect">
              <a:avLst/>
            </a:prstGeom>
            <a:noFill/>
            <a:ln w="3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5"/>
          <p:cNvGrpSpPr/>
          <p:nvPr/>
        </p:nvGrpSpPr>
        <p:grpSpPr>
          <a:xfrm>
            <a:off x="247680" y="841320"/>
            <a:ext cx="8621640" cy="5486400"/>
            <a:chOff x="247680" y="841320"/>
            <a:chExt cx="8621640" cy="5486400"/>
          </a:xfrm>
        </p:grpSpPr>
        <p:grpSp>
          <p:nvGrpSpPr>
            <p:cNvPr id="482" name="Group 3"/>
            <p:cNvGrpSpPr/>
            <p:nvPr/>
          </p:nvGrpSpPr>
          <p:grpSpPr>
            <a:xfrm>
              <a:off x="247680" y="841320"/>
              <a:ext cx="8621640" cy="5486400"/>
              <a:chOff x="247680" y="841320"/>
              <a:chExt cx="8621640" cy="5486400"/>
            </a:xfrm>
          </p:grpSpPr>
          <p:sp>
            <p:nvSpPr>
              <p:cNvPr id="483" name="Rectangle 3"/>
              <p:cNvSpPr/>
              <p:nvPr/>
            </p:nvSpPr>
            <p:spPr>
              <a:xfrm>
                <a:off x="247680" y="841320"/>
                <a:ext cx="8621640" cy="8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МЕМБРАНОЗНА НЕФРОПАТИЈ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Rectangle 7"/>
              <p:cNvSpPr/>
              <p:nvPr/>
            </p:nvSpPr>
            <p:spPr>
              <a:xfrm>
                <a:off x="274320" y="1750680"/>
                <a:ext cx="8534520" cy="4577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анамнез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појава еде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физикални преглед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оток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знаци плеуралног излив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знаци асцитес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лабораториј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 ≥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нефротски синдром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иперлипидемија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укупни холестерол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LD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триглицериди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ипоалбуминемија: &lt; 2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l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&lt; 20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l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ипопротеинемија: укупни протеини &lt; 5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тромбин 3,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</a:t>
                </a:r>
                <a:r>
                  <a:rPr b="1" i="1" lang="sr-CS" sz="1600" spc="-1" strike="noStrike" baseline="-25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-антиплазмина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тромбоза бубрежне вене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спитивања имунског систем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PLA2R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антител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R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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5b-9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комплекс у урину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5" name="Line 5"/>
            <p:cNvSpPr/>
            <p:nvPr/>
          </p:nvSpPr>
          <p:spPr>
            <a:xfrm flipV="1">
              <a:off x="291600" y="147636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6" name="Group 4"/>
          <p:cNvGrpSpPr/>
          <p:nvPr/>
        </p:nvGrpSpPr>
        <p:grpSpPr>
          <a:xfrm>
            <a:off x="318960" y="1020600"/>
            <a:ext cx="8434440" cy="5727960"/>
            <a:chOff x="318960" y="1020600"/>
            <a:chExt cx="8434440" cy="5727960"/>
          </a:xfrm>
        </p:grpSpPr>
        <p:sp>
          <p:nvSpPr>
            <p:cNvPr id="487" name="Line 5"/>
            <p:cNvSpPr/>
            <p:nvPr/>
          </p:nvSpPr>
          <p:spPr>
            <a:xfrm flipV="1">
              <a:off x="320040" y="142812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Rectangle 7"/>
            <p:cNvSpPr/>
            <p:nvPr/>
          </p:nvSpPr>
          <p:spPr>
            <a:xfrm>
              <a:off x="338760" y="1410840"/>
              <a:ext cx="8128440" cy="53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БИОПСИЈА БУБРЕГА (ЗЛАТНИ СТАНДАРД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одсуство пролиферације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ски депозити са спољашње стране базалне мембране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пителни имунск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Rectangle 7"/>
            <p:cNvSpPr/>
            <p:nvPr/>
          </p:nvSpPr>
          <p:spPr>
            <a:xfrm>
              <a:off x="318960" y="1020600"/>
              <a:ext cx="8375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0" name="Group 4"/>
          <p:cNvGrpSpPr/>
          <p:nvPr/>
        </p:nvGrpSpPr>
        <p:grpSpPr>
          <a:xfrm>
            <a:off x="257040" y="934920"/>
            <a:ext cx="8622000" cy="658800"/>
            <a:chOff x="257040" y="934920"/>
            <a:chExt cx="8622000" cy="658800"/>
          </a:xfrm>
        </p:grpSpPr>
        <p:sp>
          <p:nvSpPr>
            <p:cNvPr id="491" name="Rectangle 3"/>
            <p:cNvSpPr/>
            <p:nvPr/>
          </p:nvSpPr>
          <p:spPr>
            <a:xfrm>
              <a:off x="257040" y="934920"/>
              <a:ext cx="86220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5"/>
            <p:cNvSpPr/>
            <p:nvPr/>
          </p:nvSpPr>
          <p:spPr>
            <a:xfrm flipV="1">
              <a:off x="320400" y="1438200"/>
              <a:ext cx="8433360" cy="108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3" name="Rectangle 22"/>
          <p:cNvSpPr/>
          <p:nvPr/>
        </p:nvSpPr>
        <p:spPr>
          <a:xfrm>
            <a:off x="2960640" y="1519200"/>
            <a:ext cx="3237120" cy="61452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оводијагностикована мембранозна нефропат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ctangle 22"/>
          <p:cNvSpPr/>
          <p:nvPr/>
        </p:nvSpPr>
        <p:spPr>
          <a:xfrm>
            <a:off x="892080" y="3222720"/>
            <a:ext cx="3237120" cy="85068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титела (+), доминантн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број ћелија по гломерулу ≤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22"/>
          <p:cNvSpPr/>
          <p:nvPr/>
        </p:nvSpPr>
        <p:spPr>
          <a:xfrm>
            <a:off x="4956120" y="3222720"/>
            <a:ext cx="3237120" cy="85068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Антитела (-), доминантн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gG</a:t>
            </a:r>
            <a:r>
              <a:rPr b="1" i="1" lang="en-US" sz="1600" spc="-1" strike="noStrike" baseline="-25000">
                <a:solidFill>
                  <a:srgbClr val="000000"/>
                </a:solidFill>
                <a:latin typeface="Arial"/>
              </a:rPr>
              <a:t>1/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број ћелија по гломерулу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10"/>
          <p:cNvSpPr/>
          <p:nvPr/>
        </p:nvSpPr>
        <p:spPr>
          <a:xfrm>
            <a:off x="2509920" y="2992320"/>
            <a:ext cx="40622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1"/>
          <p:cNvSpPr/>
          <p:nvPr/>
        </p:nvSpPr>
        <p:spPr>
          <a:xfrm>
            <a:off x="2509920" y="299232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1"/>
          <p:cNvSpPr/>
          <p:nvPr/>
        </p:nvSpPr>
        <p:spPr>
          <a:xfrm>
            <a:off x="6572160" y="299232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Rectangle 22"/>
          <p:cNvSpPr/>
          <p:nvPr/>
        </p:nvSpPr>
        <p:spPr>
          <a:xfrm>
            <a:off x="520560" y="2200320"/>
            <a:ext cx="3975120" cy="72540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Анти-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PLA2R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 антите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Субкласа </a:t>
            </a: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IgG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у имунским депозит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Број инфламаторних ћелија по гломерул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11"/>
          <p:cNvSpPr/>
          <p:nvPr/>
        </p:nvSpPr>
        <p:spPr>
          <a:xfrm>
            <a:off x="4578480" y="2133720"/>
            <a:ext cx="0" cy="858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Rectangle 22"/>
          <p:cNvSpPr/>
          <p:nvPr/>
        </p:nvSpPr>
        <p:spPr>
          <a:xfrm>
            <a:off x="895320" y="4302000"/>
            <a:ext cx="3237120" cy="1532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Идиопатск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рекинути допунску дијагностику за малигне болести, осим у присуству фактора ризика за канце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22"/>
          <p:cNvSpPr/>
          <p:nvPr/>
        </p:nvSpPr>
        <p:spPr>
          <a:xfrm>
            <a:off x="4959360" y="4302000"/>
            <a:ext cx="3236760" cy="15321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Секундарна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M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Наставити са допунском дијагностиком за малигне болести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11"/>
          <p:cNvSpPr/>
          <p:nvPr/>
        </p:nvSpPr>
        <p:spPr>
          <a:xfrm>
            <a:off x="2509920" y="407340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11"/>
          <p:cNvSpPr/>
          <p:nvPr/>
        </p:nvSpPr>
        <p:spPr>
          <a:xfrm>
            <a:off x="6572160" y="4073400"/>
            <a:ext cx="0" cy="21744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41"/>
          <p:cNvSpPr/>
          <p:nvPr/>
        </p:nvSpPr>
        <p:spPr>
          <a:xfrm>
            <a:off x="210960" y="6400800"/>
            <a:ext cx="32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LA2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hospholipase A2 recep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Group 25"/>
          <p:cNvGrpSpPr/>
          <p:nvPr/>
        </p:nvGrpSpPr>
        <p:grpSpPr>
          <a:xfrm>
            <a:off x="262080" y="1074600"/>
            <a:ext cx="8635680" cy="5121000"/>
            <a:chOff x="262080" y="1074600"/>
            <a:chExt cx="8635680" cy="5121000"/>
          </a:xfrm>
        </p:grpSpPr>
        <p:sp>
          <p:nvSpPr>
            <p:cNvPr id="507" name="Rectangle 3"/>
            <p:cNvSpPr/>
            <p:nvPr/>
          </p:nvSpPr>
          <p:spPr>
            <a:xfrm>
              <a:off x="276120" y="1074600"/>
              <a:ext cx="86216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Nephropathia membranos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Group 28"/>
            <p:cNvGrpSpPr/>
            <p:nvPr/>
          </p:nvGrpSpPr>
          <p:grpSpPr>
            <a:xfrm>
              <a:off x="262080" y="1842840"/>
              <a:ext cx="8491320" cy="4352760"/>
              <a:chOff x="262080" y="1842840"/>
              <a:chExt cx="8491320" cy="4352760"/>
            </a:xfrm>
          </p:grpSpPr>
          <p:sp>
            <p:nvSpPr>
              <p:cNvPr id="509" name="Line 5"/>
              <p:cNvSpPr/>
              <p:nvPr/>
            </p:nvSpPr>
            <p:spPr>
              <a:xfrm flipV="1">
                <a:off x="320760" y="1842840"/>
                <a:ext cx="843264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10" name="Group 8"/>
              <p:cNvGrpSpPr/>
              <p:nvPr/>
            </p:nvGrpSpPr>
            <p:grpSpPr>
              <a:xfrm>
                <a:off x="320760" y="1977480"/>
                <a:ext cx="8432640" cy="393480"/>
                <a:chOff x="320760" y="1977480"/>
                <a:chExt cx="8432640" cy="393480"/>
              </a:xfrm>
            </p:grpSpPr>
            <p:sp>
              <p:nvSpPr>
                <p:cNvPr id="511" name="Rectangle 9"/>
                <p:cNvSpPr/>
                <p:nvPr/>
              </p:nvSpPr>
              <p:spPr>
                <a:xfrm>
                  <a:off x="320760" y="1977480"/>
                  <a:ext cx="2714400" cy="39204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2000" spc="-1" strike="noStrike">
                      <a:solidFill>
                        <a:srgbClr val="ffffff"/>
                      </a:solidFill>
                      <a:latin typeface="Arial"/>
                    </a:rPr>
                    <a:t>ТЕРМИН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Rectangle 10"/>
                <p:cNvSpPr/>
                <p:nvPr/>
              </p:nvSpPr>
              <p:spPr>
                <a:xfrm>
                  <a:off x="3035160" y="1977480"/>
                  <a:ext cx="5718240" cy="393480"/>
                </a:xfrm>
                <a:prstGeom prst="rect">
                  <a:avLst/>
                </a:prstGeom>
                <a:solidFill>
                  <a:srgbClr val="c00000"/>
                </a:solidFill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2000" spc="-1" strike="noStrike">
                      <a:solidFill>
                        <a:srgbClr val="ffffff"/>
                      </a:solidFill>
                      <a:latin typeface="Arial"/>
                    </a:rPr>
                    <a:t>ДЕФИНИЦИЈ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3" name="Group 11"/>
              <p:cNvGrpSpPr/>
              <p:nvPr/>
            </p:nvGrpSpPr>
            <p:grpSpPr>
              <a:xfrm>
                <a:off x="262080" y="2370240"/>
                <a:ext cx="8491320" cy="522000"/>
                <a:chOff x="262080" y="2370240"/>
                <a:chExt cx="8491320" cy="522000"/>
              </a:xfrm>
            </p:grpSpPr>
            <p:sp>
              <p:nvSpPr>
                <p:cNvPr id="514" name="Rectangle 12"/>
                <p:cNvSpPr/>
                <p:nvPr/>
              </p:nvSpPr>
              <p:spPr>
                <a:xfrm>
                  <a:off x="262080" y="2370240"/>
                  <a:ext cx="2773080" cy="5220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лапс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Rectangle 13"/>
                <p:cNvSpPr/>
                <p:nvPr/>
              </p:nvSpPr>
              <p:spPr>
                <a:xfrm>
                  <a:off x="3035160" y="2370240"/>
                  <a:ext cx="5718240" cy="52200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протеинурија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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 3.5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1" i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24h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ја се јавља после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мплетне ремисиј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Group 14"/>
              <p:cNvGrpSpPr/>
              <p:nvPr/>
            </p:nvGrpSpPr>
            <p:grpSpPr>
              <a:xfrm>
                <a:off x="262080" y="2891880"/>
                <a:ext cx="8491320" cy="518760"/>
                <a:chOff x="262080" y="2891880"/>
                <a:chExt cx="8491320" cy="518760"/>
              </a:xfrm>
            </p:grpSpPr>
            <p:sp>
              <p:nvSpPr>
                <p:cNvPr id="517" name="Rectangle 15"/>
                <p:cNvSpPr/>
                <p:nvPr/>
              </p:nvSpPr>
              <p:spPr>
                <a:xfrm>
                  <a:off x="262080" y="2891880"/>
                  <a:ext cx="2773080" cy="5187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Чест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лапс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8" name="Rectangle 16"/>
                <p:cNvSpPr/>
                <p:nvPr/>
              </p:nvSpPr>
              <p:spPr>
                <a:xfrm>
                  <a:off x="3035160" y="2891880"/>
                  <a:ext cx="5718240" cy="5187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дв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лапс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нутар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6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месец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9" name="Group 17"/>
              <p:cNvGrpSpPr/>
              <p:nvPr/>
            </p:nvGrpSpPr>
            <p:grpSpPr>
              <a:xfrm>
                <a:off x="262080" y="3410640"/>
                <a:ext cx="8491320" cy="521280"/>
                <a:chOff x="262080" y="3410640"/>
                <a:chExt cx="8491320" cy="521280"/>
              </a:xfrm>
            </p:grpSpPr>
            <p:sp>
              <p:nvSpPr>
                <p:cNvPr id="520" name="Rectangle 18"/>
                <p:cNvSpPr/>
                <p:nvPr/>
              </p:nvSpPr>
              <p:spPr>
                <a:xfrm>
                  <a:off x="262080" y="3410640"/>
                  <a:ext cx="2773080" cy="52128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мплет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мис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" name="Rectangle 19"/>
                <p:cNvSpPr/>
                <p:nvPr/>
              </p:nvSpPr>
              <p:spPr>
                <a:xfrm>
                  <a:off x="3035160" y="3410640"/>
                  <a:ext cx="5718240" cy="52128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протеинурија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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 0.2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g/24h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нцентрац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лбумина у серуму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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 35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g/l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2" name="Group 20"/>
              <p:cNvGrpSpPr/>
              <p:nvPr/>
            </p:nvGrpSpPr>
            <p:grpSpPr>
              <a:xfrm>
                <a:off x="262080" y="4093560"/>
                <a:ext cx="8491320" cy="516960"/>
                <a:chOff x="262080" y="4093560"/>
                <a:chExt cx="8491320" cy="516960"/>
              </a:xfrm>
            </p:grpSpPr>
            <p:sp>
              <p:nvSpPr>
                <p:cNvPr id="523" name="Rectangle 21"/>
                <p:cNvSpPr/>
                <p:nvPr/>
              </p:nvSpPr>
              <p:spPr>
                <a:xfrm>
                  <a:off x="262080" y="4093560"/>
                  <a:ext cx="2773080" cy="5151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Парцијал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мис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Rectangle 22"/>
                <p:cNvSpPr/>
                <p:nvPr/>
              </p:nvSpPr>
              <p:spPr>
                <a:xfrm>
                  <a:off x="3035160" y="4093560"/>
                  <a:ext cx="5718240" cy="5169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протеинурија од 0.21-3.4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g/24h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±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смањењ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протеинурије за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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50% у односу на базалну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5" name="Group 23"/>
              <p:cNvGrpSpPr/>
              <p:nvPr/>
            </p:nvGrpSpPr>
            <p:grpSpPr>
              <a:xfrm>
                <a:off x="262080" y="4767840"/>
                <a:ext cx="8491320" cy="521280"/>
                <a:chOff x="262080" y="4767840"/>
                <a:chExt cx="8491320" cy="521280"/>
              </a:xfrm>
            </p:grpSpPr>
            <p:sp>
              <p:nvSpPr>
                <p:cNvPr id="526" name="Rectangle 24"/>
                <p:cNvSpPr/>
                <p:nvPr/>
              </p:nvSpPr>
              <p:spPr>
                <a:xfrm>
                  <a:off x="262080" y="4767840"/>
                  <a:ext cx="2773080" cy="52128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зистенц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стероид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Rectangle 25"/>
                <p:cNvSpPr/>
                <p:nvPr/>
              </p:nvSpPr>
              <p:spPr>
                <a:xfrm>
                  <a:off x="3035160" y="4767840"/>
                  <a:ext cx="5718240" cy="52128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одржавање протеинурије и поред терапиј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преднизоном од 1.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g/k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/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ан у току 4 недеље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Group 26"/>
              <p:cNvGrpSpPr/>
              <p:nvPr/>
            </p:nvGrpSpPr>
            <p:grpSpPr>
              <a:xfrm>
                <a:off x="262080" y="5423040"/>
                <a:ext cx="8491320" cy="772560"/>
                <a:chOff x="262080" y="5423040"/>
                <a:chExt cx="8491320" cy="772560"/>
              </a:xfrm>
            </p:grpSpPr>
            <p:sp>
              <p:nvSpPr>
                <p:cNvPr id="529" name="Rectangle 27"/>
                <p:cNvSpPr/>
                <p:nvPr/>
              </p:nvSpPr>
              <p:spPr>
                <a:xfrm>
                  <a:off x="262080" y="5423040"/>
                  <a:ext cx="2773080" cy="7725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Зависност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о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стероид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Rectangle 28"/>
                <p:cNvSpPr/>
                <p:nvPr/>
              </p:nvSpPr>
              <p:spPr>
                <a:xfrm>
                  <a:off x="3035160" y="5423040"/>
                  <a:ext cx="5718240" cy="77256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в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узастоп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релапс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ко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се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јављају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з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време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смањењ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озе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ил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унутар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14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да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о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завршетк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лечењ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стероидим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1" name="Group 10"/>
          <p:cNvGrpSpPr/>
          <p:nvPr/>
        </p:nvGrpSpPr>
        <p:grpSpPr>
          <a:xfrm>
            <a:off x="274680" y="1087560"/>
            <a:ext cx="8621640" cy="3774960"/>
            <a:chOff x="274680" y="1087560"/>
            <a:chExt cx="8621640" cy="3774960"/>
          </a:xfrm>
        </p:grpSpPr>
        <p:sp>
          <p:nvSpPr>
            <p:cNvPr id="532" name="Rectangle 3"/>
            <p:cNvSpPr/>
            <p:nvPr/>
          </p:nvSpPr>
          <p:spPr>
            <a:xfrm>
              <a:off x="274680" y="1087560"/>
              <a:ext cx="8621640" cy="89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800" spc="-1" strike="noStrike">
                  <a:solidFill>
                    <a:srgbClr val="000000"/>
                  </a:solidFill>
                  <a:latin typeface="Arial"/>
                </a:rPr>
                <a:t>Nephropathia membranos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5"/>
            <p:cNvSpPr/>
            <p:nvPr/>
          </p:nvSpPr>
          <p:spPr>
            <a:xfrm flipV="1">
              <a:off x="314280" y="1970640"/>
              <a:ext cx="8433000" cy="180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4" name="Group 12"/>
            <p:cNvGrpSpPr/>
            <p:nvPr/>
          </p:nvGrpSpPr>
          <p:grpSpPr>
            <a:xfrm>
              <a:off x="276480" y="2028240"/>
              <a:ext cx="8512920" cy="2834280"/>
              <a:chOff x="276480" y="2028240"/>
              <a:chExt cx="8512920" cy="2834280"/>
            </a:xfrm>
          </p:grpSpPr>
          <p:sp>
            <p:nvSpPr>
              <p:cNvPr id="535" name="Rectangle 6"/>
              <p:cNvSpPr/>
              <p:nvPr/>
            </p:nvSpPr>
            <p:spPr>
              <a:xfrm>
                <a:off x="303480" y="2028240"/>
                <a:ext cx="8485920" cy="526680"/>
              </a:xfrm>
              <a:prstGeom prst="rect">
                <a:avLst/>
              </a:prstGeom>
              <a:solidFill>
                <a:srgbClr val="c00000"/>
              </a:solidFill>
              <a:ln w="32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2400" spc="-1" strike="noStrike">
                    <a:solidFill>
                      <a:srgbClr val="ffffff"/>
                    </a:solidFill>
                    <a:latin typeface="Arial"/>
                  </a:rPr>
                  <a:t>Ponticelli</a:t>
                </a:r>
                <a:r>
                  <a:rPr b="1" lang="sr-Latn-CS" sz="24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lang="sr-CS" sz="2400" spc="-1" strike="noStrike">
                    <a:solidFill>
                      <a:srgbClr val="ffffff"/>
                    </a:solidFill>
                    <a:latin typeface="Arial"/>
                  </a:rPr>
                  <a:t>протокол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6" name="Group 11"/>
              <p:cNvGrpSpPr/>
              <p:nvPr/>
            </p:nvGrpSpPr>
            <p:grpSpPr>
              <a:xfrm>
                <a:off x="276480" y="2693880"/>
                <a:ext cx="8471160" cy="2168640"/>
                <a:chOff x="276480" y="2693880"/>
                <a:chExt cx="8471160" cy="2168640"/>
              </a:xfrm>
            </p:grpSpPr>
            <p:sp>
              <p:nvSpPr>
                <p:cNvPr id="537" name="Rectangle 7"/>
                <p:cNvSpPr/>
                <p:nvPr/>
              </p:nvSpPr>
              <p:spPr>
                <a:xfrm>
                  <a:off x="314280" y="2693880"/>
                  <a:ext cx="4046040" cy="155232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Метилпреднизолон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1.0 </a:t>
                  </a:r>
                  <a:r>
                    <a:rPr b="1" i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,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три пулса, затим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Преднизон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0.5 </a:t>
                  </a:r>
                  <a:r>
                    <a:rPr b="1" i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mg/kg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дан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до 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30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-тог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дан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Rectangle 8"/>
                <p:cNvSpPr/>
                <p:nvPr/>
              </p:nvSpPr>
              <p:spPr>
                <a:xfrm>
                  <a:off x="4352760" y="2695680"/>
                  <a:ext cx="4394880" cy="155232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Хлорамбуцил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0.15-0.20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mg/kg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дан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до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30 </a:t>
                  </a: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дана или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Циклофосфамид 2.0 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g/kg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/дан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до 30-тог дана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Rectangle 9"/>
                <p:cNvSpPr/>
                <p:nvPr/>
              </p:nvSpPr>
              <p:spPr>
                <a:xfrm>
                  <a:off x="276480" y="4265640"/>
                  <a:ext cx="4146840" cy="59688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1, 3, 5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мес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Rectangle 10"/>
                <p:cNvSpPr/>
                <p:nvPr/>
              </p:nvSpPr>
              <p:spPr>
                <a:xfrm>
                  <a:off x="4580280" y="4265640"/>
                  <a:ext cx="3962520" cy="596880"/>
                </a:xfrm>
                <a:prstGeom prst="rect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2, 4, 6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месец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41" name="Rectangle 7"/>
          <p:cNvSpPr/>
          <p:nvPr/>
        </p:nvSpPr>
        <p:spPr>
          <a:xfrm>
            <a:off x="592200" y="4848120"/>
            <a:ext cx="8007120" cy="1320840"/>
          </a:xfrm>
          <a:prstGeom prst="rect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ониторинг: на сваке две недеље у прва два месеца, затим једном месечн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у току шест месеци: концентрација креатинина у серуму, концентрац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албумина у серуму,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4h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протеинурија, број леукоци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Број леукоцита &lt; 3500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искључити хлорамбуцил или циклофосфами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ново се укључују када је број леукоцита 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4000/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m</a:t>
            </a:r>
            <a:r>
              <a:rPr b="1" i="1" lang="en-US" sz="1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2" name="Group 4"/>
          <p:cNvGrpSpPr/>
          <p:nvPr/>
        </p:nvGrpSpPr>
        <p:grpSpPr>
          <a:xfrm>
            <a:off x="257040" y="992160"/>
            <a:ext cx="8622000" cy="658800"/>
            <a:chOff x="257040" y="992160"/>
            <a:chExt cx="8622000" cy="658800"/>
          </a:xfrm>
        </p:grpSpPr>
        <p:sp>
          <p:nvSpPr>
            <p:cNvPr id="543" name="Rectangle 3"/>
            <p:cNvSpPr/>
            <p:nvPr/>
          </p:nvSpPr>
          <p:spPr>
            <a:xfrm>
              <a:off x="257040" y="992160"/>
              <a:ext cx="8622000" cy="65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ЗНА НЕФРОПАТИЈ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- </a:t>
              </a:r>
              <a:r>
                <a:rPr b="1" i="1" lang="en-US" sz="2400" spc="-1" strike="noStrike">
                  <a:solidFill>
                    <a:srgbClr val="000000"/>
                  </a:solidFill>
                  <a:latin typeface="Arial"/>
                </a:rPr>
                <a:t>M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5"/>
            <p:cNvSpPr/>
            <p:nvPr/>
          </p:nvSpPr>
          <p:spPr>
            <a:xfrm flipV="1">
              <a:off x="320400" y="1524600"/>
              <a:ext cx="8433360" cy="108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5" name="Rectangle 22"/>
          <p:cNvSpPr/>
          <p:nvPr/>
        </p:nvSpPr>
        <p:spPr>
          <a:xfrm>
            <a:off x="320760" y="1623960"/>
            <a:ext cx="2103480" cy="12794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клоспор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ectangle 22"/>
          <p:cNvSpPr/>
          <p:nvPr/>
        </p:nvSpPr>
        <p:spPr>
          <a:xfrm>
            <a:off x="2424240" y="1623960"/>
            <a:ext cx="6329160" cy="12794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Циклоспорин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 per o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3.5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 у току 6-12 месеци, а затим постепено смањивати до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але дозе кортикостерои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циљни ниво циклоспорина у серуму: 125-200 </a:t>
            </a:r>
            <a:r>
              <a:rPr b="1" i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/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22"/>
          <p:cNvSpPr/>
          <p:nvPr/>
        </p:nvSpPr>
        <p:spPr>
          <a:xfrm>
            <a:off x="320760" y="2903400"/>
            <a:ext cx="2103480" cy="12780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ролиму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22"/>
          <p:cNvSpPr/>
          <p:nvPr/>
        </p:nvSpPr>
        <p:spPr>
          <a:xfrm>
            <a:off x="2424240" y="2903400"/>
            <a:ext cx="6329160" cy="12780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акролимус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 per os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 0.05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 у току 6-12 месеци, а затим постепено смањивати доз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але дозе кортикостерои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циљни ниво такролимуса у серуму: 7-9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ng/m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22"/>
          <p:cNvSpPr/>
          <p:nvPr/>
        </p:nvSpPr>
        <p:spPr>
          <a:xfrm>
            <a:off x="320760" y="4181400"/>
            <a:ext cx="2103480" cy="8114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кофенолат мофети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22"/>
          <p:cNvSpPr/>
          <p:nvPr/>
        </p:nvSpPr>
        <p:spPr>
          <a:xfrm>
            <a:off x="2424240" y="4181400"/>
            <a:ext cx="6329160" cy="8114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икофенолат мофетил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per os: 2.0 g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ан у ток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2 месеци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мале дозе кортикостероида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22"/>
          <p:cNvSpPr/>
          <p:nvPr/>
        </p:nvSpPr>
        <p:spPr>
          <a:xfrm>
            <a:off x="320760" y="4992840"/>
            <a:ext cx="2103480" cy="11030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итуксима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22"/>
          <p:cNvSpPr/>
          <p:nvPr/>
        </p:nvSpPr>
        <p:spPr>
          <a:xfrm>
            <a:off x="2424240" y="4992840"/>
            <a:ext cx="6329160" cy="11030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итуксимаб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.v.: 375 mg/m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дељно, 4 дозе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итуксимаб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i.v.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0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 првог и 15-тог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(мониторинг Б лимфоцита у серум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3" name="Group 4"/>
          <p:cNvGrpSpPr/>
          <p:nvPr/>
        </p:nvGrpSpPr>
        <p:grpSpPr>
          <a:xfrm>
            <a:off x="237960" y="1158840"/>
            <a:ext cx="8622000" cy="3875040"/>
            <a:chOff x="237960" y="1158840"/>
            <a:chExt cx="8622000" cy="3875040"/>
          </a:xfrm>
        </p:grpSpPr>
        <p:sp>
          <p:nvSpPr>
            <p:cNvPr id="554" name="Rectangle 3"/>
            <p:cNvSpPr/>
            <p:nvPr/>
          </p:nvSpPr>
          <p:spPr>
            <a:xfrm>
              <a:off x="237960" y="1158840"/>
              <a:ext cx="862200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5"/>
            <p:cNvSpPr/>
            <p:nvPr/>
          </p:nvSpPr>
          <p:spPr>
            <a:xfrm flipV="1">
              <a:off x="329400" y="166680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Rectangle 6"/>
            <p:cNvSpPr/>
            <p:nvPr/>
          </p:nvSpPr>
          <p:spPr>
            <a:xfrm>
              <a:off x="436320" y="4292640"/>
              <a:ext cx="81284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ПРОФ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.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Р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ДЕЈАН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ПЕТРОВИ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7" name="Group 7"/>
          <p:cNvGrpSpPr/>
          <p:nvPr/>
        </p:nvGrpSpPr>
        <p:grpSpPr>
          <a:xfrm>
            <a:off x="174600" y="203040"/>
            <a:ext cx="8780400" cy="6540840"/>
            <a:chOff x="174600" y="203040"/>
            <a:chExt cx="8780400" cy="6540840"/>
          </a:xfrm>
        </p:grpSpPr>
        <p:sp>
          <p:nvSpPr>
            <p:cNvPr id="558" name="Rectangle 3"/>
            <p:cNvSpPr/>
            <p:nvPr/>
          </p:nvSpPr>
          <p:spPr>
            <a:xfrm>
              <a:off x="276120" y="1142640"/>
              <a:ext cx="862200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Glomerulon</a:t>
              </a:r>
              <a:r>
                <a:rPr b="1" i="1" lang="sr-CS" sz="2000" spc="-1" strike="noStrike">
                  <a:solidFill>
                    <a:srgbClr val="000000"/>
                  </a:solidFill>
                  <a:latin typeface="Arial"/>
                </a:rPr>
                <a:t>е</a:t>
              </a:r>
              <a:r>
                <a:rPr b="1" i="1" lang="sr-Latn-CS" sz="2000" spc="-1" strike="noStrike">
                  <a:solidFill>
                    <a:srgbClr val="000000"/>
                  </a:solidFill>
                  <a:latin typeface="Arial"/>
                </a:rPr>
                <a:t>phritis membranoproliferativ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4"/>
            <p:cNvSpPr/>
            <p:nvPr/>
          </p:nvSpPr>
          <p:spPr>
            <a:xfrm>
              <a:off x="174600" y="203040"/>
              <a:ext cx="8780400" cy="6474240"/>
            </a:xfrm>
            <a:prstGeom prst="rect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5"/>
            <p:cNvSpPr/>
            <p:nvPr/>
          </p:nvSpPr>
          <p:spPr>
            <a:xfrm>
              <a:off x="174600" y="1939680"/>
              <a:ext cx="878040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Rectangle 6"/>
            <p:cNvSpPr/>
            <p:nvPr/>
          </p:nvSpPr>
          <p:spPr>
            <a:xfrm>
              <a:off x="522000" y="2044440"/>
              <a:ext cx="8128080" cy="152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ЕФИНИЦИЈ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мбранопролиферати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онефрити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ји се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рфолош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зангијумском пролиферацијом и задебљањ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ид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пилара гломерул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ож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зличит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м слика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омерулских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чест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а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уготрај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покомплемент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Rectangle 44"/>
            <p:cNvSpPr/>
            <p:nvPr/>
          </p:nvSpPr>
          <p:spPr>
            <a:xfrm>
              <a:off x="522000" y="3468600"/>
              <a:ext cx="8128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хистолош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ај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лику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пролиферацијом мезангијумских ћелија и задебљањем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BM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линич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јчешћ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ља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ом или акутним нефритичким синдром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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центрација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sr-Latn-R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омпоненте комплемента у серуму је смањена у временском периоду ≥ 8 недељ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Rectangle 26"/>
            <p:cNvSpPr/>
            <p:nvPr/>
          </p:nvSpPr>
          <p:spPr>
            <a:xfrm>
              <a:off x="463320" y="6328080"/>
              <a:ext cx="808992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BMG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- базална мембрана гломерула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7"/>
          <p:cNvGrpSpPr/>
          <p:nvPr/>
        </p:nvGrpSpPr>
        <p:grpSpPr>
          <a:xfrm>
            <a:off x="406440" y="1127160"/>
            <a:ext cx="8258040" cy="4678200"/>
            <a:chOff x="406440" y="1127160"/>
            <a:chExt cx="8258040" cy="4678200"/>
          </a:xfrm>
        </p:grpSpPr>
        <p:sp>
          <p:nvSpPr>
            <p:cNvPr id="565" name="Line 4"/>
            <p:cNvSpPr/>
            <p:nvPr/>
          </p:nvSpPr>
          <p:spPr>
            <a:xfrm>
              <a:off x="406440" y="1127160"/>
              <a:ext cx="825804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Rectangle 41"/>
            <p:cNvSpPr/>
            <p:nvPr/>
          </p:nvSpPr>
          <p:spPr>
            <a:xfrm>
              <a:off x="406440" y="1207080"/>
              <a:ext cx="1988280" cy="1202040"/>
            </a:xfrm>
            <a:prstGeom prst="rect">
              <a:avLst/>
            </a:prstGeom>
            <a:solidFill>
              <a:srgbClr val="a50021"/>
            </a:solidFill>
            <a:ln w="3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ПРИМАР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lang="sr-CS" sz="1600" spc="-1" strike="noStrike">
                  <a:solidFill>
                    <a:srgbClr val="ffffff"/>
                  </a:solidFill>
                  <a:latin typeface="Arial"/>
                </a:rPr>
                <a:t>ИДИОПАТСКИ</a:t>
              </a:r>
              <a:r>
                <a:rPr b="1" lang="sr-Latn-CS" sz="16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Rectangle 42"/>
            <p:cNvSpPr/>
            <p:nvPr/>
          </p:nvSpPr>
          <p:spPr>
            <a:xfrm>
              <a:off x="2394720" y="1207080"/>
              <a:ext cx="6269760" cy="12020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убендотел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епоз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с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епозити у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BM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ИП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, мезангијумски </a:t>
              </a:r>
              <a:r>
                <a:rPr b="1" lang="en-US" sz="1500" spc="-1" strike="noStrike">
                  <a:solidFill>
                    <a:srgbClr val="000000"/>
                  </a:solidFill>
                  <a:latin typeface="Arial"/>
                </a:rPr>
                <a:t>депозити</a:t>
              </a:r>
              <a:r>
                <a:rPr b="1" lang="sr-Latn-CS" sz="15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Rectangle 43"/>
            <p:cNvSpPr/>
            <p:nvPr/>
          </p:nvSpPr>
          <p:spPr>
            <a:xfrm>
              <a:off x="406440" y="2409120"/>
              <a:ext cx="1988280" cy="3396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КУНДАРН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Rectangle 44"/>
            <p:cNvSpPr/>
            <p:nvPr/>
          </p:nvSpPr>
          <p:spPr>
            <a:xfrm>
              <a:off x="2394720" y="2409120"/>
              <a:ext cx="6269760" cy="33962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НФЕКТИВН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рептокок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фекциј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фекти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ндокардити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nefriti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псц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уберкул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епр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оплаз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епатити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алар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вартан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ндидија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7"/>
          <p:cNvGrpSpPr/>
          <p:nvPr/>
        </p:nvGrpSpPr>
        <p:grpSpPr>
          <a:xfrm>
            <a:off x="609480" y="1127160"/>
            <a:ext cx="7869240" cy="4667040"/>
            <a:chOff x="609480" y="1127160"/>
            <a:chExt cx="7869240" cy="4667040"/>
          </a:xfrm>
        </p:grpSpPr>
        <p:sp>
          <p:nvSpPr>
            <p:cNvPr id="571" name="Line 4"/>
            <p:cNvSpPr/>
            <p:nvPr/>
          </p:nvSpPr>
          <p:spPr>
            <a:xfrm>
              <a:off x="609480" y="1127160"/>
              <a:ext cx="7869240" cy="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Rectangle 43"/>
            <p:cNvSpPr/>
            <p:nvPr/>
          </p:nvSpPr>
          <p:spPr>
            <a:xfrm>
              <a:off x="609480" y="1251360"/>
              <a:ext cx="2409840" cy="45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ЕКУНДАРН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Rectangle 44"/>
            <p:cNvSpPr/>
            <p:nvPr/>
          </p:nvSpPr>
          <p:spPr>
            <a:xfrm>
              <a:off x="3019320" y="1251360"/>
              <a:ext cx="5459400" cy="4542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СИСТЕМСК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ритем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упу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клер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шовит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иоглобулин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Sj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e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аркоидоз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ЛИГНЕ БОЛЕСТ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ронична лимфоцитна леук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хронична мијелоидна леукеми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Hodgki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ов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имфо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nHodgkin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ов лимф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рцином плућ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рцином простат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арцином једња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елан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Group 5"/>
          <p:cNvGrpSpPr/>
          <p:nvPr/>
        </p:nvGrpSpPr>
        <p:grpSpPr>
          <a:xfrm>
            <a:off x="237960" y="971640"/>
            <a:ext cx="8622000" cy="5619600"/>
            <a:chOff x="237960" y="971640"/>
            <a:chExt cx="8622000" cy="5619600"/>
          </a:xfrm>
        </p:grpSpPr>
        <p:sp>
          <p:nvSpPr>
            <p:cNvPr id="63" name="Line 4"/>
            <p:cNvSpPr/>
            <p:nvPr/>
          </p:nvSpPr>
          <p:spPr>
            <a:xfrm flipV="1">
              <a:off x="329760" y="1471680"/>
              <a:ext cx="843336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474480" y="1263600"/>
              <a:ext cx="8128440" cy="524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ЕКУНДАРН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В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. Малигнитети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1. карцином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аркоми: плућ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ло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желуца, дојке, бубрега,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дбубрега,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еохромоци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2. леукемиј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имфоми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Hodgkin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олест, хронич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имфоцит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        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еукем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ултипли мијелом,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Waldenstr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ö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m-</a:t>
              </a:r>
              <a:r>
                <a:rPr b="1" i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а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макроглобулинемија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Г.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Метаболичке и наследне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олести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1. дијабете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литус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2. хипотиреоидиза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raves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оле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Alport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в 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.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Fabry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в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боле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Д.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Лекови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1. пеницилам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2. каптоприл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3. нестереоид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антиинфламатор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еков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4. органск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злато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2"/>
            <p:cNvSpPr/>
            <p:nvPr/>
          </p:nvSpPr>
          <p:spPr>
            <a:xfrm>
              <a:off x="237960" y="971640"/>
              <a:ext cx="862200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ЕТИОЛОГИЈА НЕФРОТСКОГ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800" spc="-1" strike="noStrike">
                  <a:solidFill>
                    <a:srgbClr val="000000"/>
                  </a:solidFill>
                  <a:latin typeface="Arial"/>
                </a:rPr>
                <a:t>СИНДРОМ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328320" y="1522440"/>
              <a:ext cx="8433360" cy="5068800"/>
            </a:xfrm>
            <a:prstGeom prst="rect">
              <a:avLst/>
            </a:prstGeom>
            <a:noFill/>
            <a:ln w="324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4" name="Group 4"/>
          <p:cNvGrpSpPr/>
          <p:nvPr/>
        </p:nvGrpSpPr>
        <p:grpSpPr>
          <a:xfrm>
            <a:off x="189000" y="1001880"/>
            <a:ext cx="8753400" cy="5746680"/>
            <a:chOff x="189000" y="1001880"/>
            <a:chExt cx="8753400" cy="5746680"/>
          </a:xfrm>
        </p:grpSpPr>
        <p:sp>
          <p:nvSpPr>
            <p:cNvPr id="575" name="Line 5"/>
            <p:cNvSpPr/>
            <p:nvPr/>
          </p:nvSpPr>
          <p:spPr>
            <a:xfrm flipV="1">
              <a:off x="320760" y="140904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Rectangle 7"/>
            <p:cNvSpPr/>
            <p:nvPr/>
          </p:nvSpPr>
          <p:spPr>
            <a:xfrm>
              <a:off x="339120" y="1410840"/>
              <a:ext cx="8414640" cy="53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а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гене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ханиза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 1: посредован имунским комплекс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 2: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3NF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- аутоантитело на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конвертазу (аутоантитело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клас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 3: посредован имунским комплекси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 (ТИП 1: 80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 депозит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мезангијумск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ранулирани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 депозити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мезангијумск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Rectangle 7"/>
            <p:cNvSpPr/>
            <p:nvPr/>
          </p:nvSpPr>
          <p:spPr>
            <a:xfrm>
              <a:off x="189000" y="1001880"/>
              <a:ext cx="875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4"/>
          <p:cNvSpPr/>
          <p:nvPr/>
        </p:nvSpPr>
        <p:spPr>
          <a:xfrm>
            <a:off x="144360" y="585720"/>
            <a:ext cx="8837640" cy="6091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37"/>
          <p:cNvSpPr/>
          <p:nvPr/>
        </p:nvSpPr>
        <p:spPr>
          <a:xfrm>
            <a:off x="304920" y="1535040"/>
            <a:ext cx="79848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1IN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Straight Connector 38"/>
          <p:cNvSpPr/>
          <p:nvPr/>
        </p:nvSpPr>
        <p:spPr>
          <a:xfrm>
            <a:off x="1108080" y="1741320"/>
            <a:ext cx="2998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Straight Connector 41"/>
          <p:cNvSpPr/>
          <p:nvPr/>
        </p:nvSpPr>
        <p:spPr>
          <a:xfrm>
            <a:off x="1407960" y="1625760"/>
            <a:ext cx="0" cy="231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37"/>
          <p:cNvSpPr/>
          <p:nvPr/>
        </p:nvSpPr>
        <p:spPr>
          <a:xfrm>
            <a:off x="1436760" y="1535040"/>
            <a:ext cx="54432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37"/>
          <p:cNvSpPr/>
          <p:nvPr/>
        </p:nvSpPr>
        <p:spPr>
          <a:xfrm>
            <a:off x="2238480" y="1535040"/>
            <a:ext cx="79668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4b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37"/>
          <p:cNvSpPr/>
          <p:nvPr/>
        </p:nvSpPr>
        <p:spPr>
          <a:xfrm>
            <a:off x="1436760" y="1012680"/>
            <a:ext cx="54432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37"/>
          <p:cNvSpPr/>
          <p:nvPr/>
        </p:nvSpPr>
        <p:spPr>
          <a:xfrm>
            <a:off x="1436760" y="2049480"/>
            <a:ext cx="54432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37"/>
          <p:cNvSpPr/>
          <p:nvPr/>
        </p:nvSpPr>
        <p:spPr>
          <a:xfrm>
            <a:off x="301680" y="1022400"/>
            <a:ext cx="79848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4B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Straight Connector 57"/>
          <p:cNvSpPr/>
          <p:nvPr/>
        </p:nvSpPr>
        <p:spPr>
          <a:xfrm>
            <a:off x="1982880" y="1212840"/>
            <a:ext cx="6541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Straight Arrow Connector 62"/>
          <p:cNvCxnSpPr/>
          <p:nvPr/>
        </p:nvCxnSpPr>
        <p:spPr>
          <a:xfrm>
            <a:off x="2636640" y="1212480"/>
            <a:ext cx="1080" cy="315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9" name="Straight Connector 64"/>
          <p:cNvSpPr/>
          <p:nvPr/>
        </p:nvSpPr>
        <p:spPr>
          <a:xfrm>
            <a:off x="1981080" y="2249640"/>
            <a:ext cx="65880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0" name="Straight Arrow Connector 65"/>
          <p:cNvCxnSpPr/>
          <p:nvPr/>
        </p:nvCxnSpPr>
        <p:spPr>
          <a:xfrm>
            <a:off x="2641320" y="1940040"/>
            <a:ext cx="1080" cy="31032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591" name="Rectangle 37"/>
          <p:cNvSpPr/>
          <p:nvPr/>
        </p:nvSpPr>
        <p:spPr>
          <a:xfrm>
            <a:off x="3321000" y="1017720"/>
            <a:ext cx="674640" cy="4014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7"/>
          <p:cNvSpPr/>
          <p:nvPr/>
        </p:nvSpPr>
        <p:spPr>
          <a:xfrm>
            <a:off x="3316320" y="2057400"/>
            <a:ext cx="67464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3" name="Straight Arrow Connector 88"/>
          <p:cNvCxnSpPr/>
          <p:nvPr/>
        </p:nvCxnSpPr>
        <p:spPr>
          <a:xfrm>
            <a:off x="3657240" y="1418760"/>
            <a:ext cx="1080" cy="6404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4" name="Straight Arrow Connector 91"/>
          <p:cNvCxnSpPr/>
          <p:nvPr/>
        </p:nvCxnSpPr>
        <p:spPr>
          <a:xfrm>
            <a:off x="3041640" y="1726920"/>
            <a:ext cx="59616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5" name="Rectangle 37"/>
          <p:cNvSpPr/>
          <p:nvPr/>
        </p:nvSpPr>
        <p:spPr>
          <a:xfrm>
            <a:off x="4245120" y="1525680"/>
            <a:ext cx="1645920" cy="40140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ffffff"/>
                </a:solidFill>
                <a:latin typeface="Arial"/>
              </a:rPr>
              <a:t>C3</a:t>
            </a: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конверт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Rectangle 37"/>
          <p:cNvSpPr/>
          <p:nvPr/>
        </p:nvSpPr>
        <p:spPr>
          <a:xfrm>
            <a:off x="4243320" y="878040"/>
            <a:ext cx="164628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3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7" name="Straight Arrow Connector 97"/>
          <p:cNvCxnSpPr/>
          <p:nvPr/>
        </p:nvCxnSpPr>
        <p:spPr>
          <a:xfrm>
            <a:off x="5049360" y="1281240"/>
            <a:ext cx="1080" cy="2484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8" name="Rectangle 37"/>
          <p:cNvSpPr/>
          <p:nvPr/>
        </p:nvSpPr>
        <p:spPr>
          <a:xfrm>
            <a:off x="4248000" y="2173320"/>
            <a:ext cx="164628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5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верта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9" name="Straight Arrow Connector 101"/>
          <p:cNvCxnSpPr/>
          <p:nvPr/>
        </p:nvCxnSpPr>
        <p:spPr>
          <a:xfrm>
            <a:off x="5054400" y="1928520"/>
            <a:ext cx="1080" cy="24372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0" name="Rectangle 37"/>
          <p:cNvSpPr/>
          <p:nvPr/>
        </p:nvSpPr>
        <p:spPr>
          <a:xfrm>
            <a:off x="3903840" y="2681280"/>
            <a:ext cx="67608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37"/>
          <p:cNvSpPr/>
          <p:nvPr/>
        </p:nvSpPr>
        <p:spPr>
          <a:xfrm>
            <a:off x="5478480" y="2689200"/>
            <a:ext cx="67608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5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2" name="Straight Arrow Connector 115"/>
          <p:cNvCxnSpPr/>
          <p:nvPr/>
        </p:nvCxnSpPr>
        <p:spPr>
          <a:xfrm>
            <a:off x="4576320" y="2887200"/>
            <a:ext cx="9010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3" name="Straight Arrow Connector 117"/>
          <p:cNvCxnSpPr/>
          <p:nvPr/>
        </p:nvCxnSpPr>
        <p:spPr>
          <a:xfrm>
            <a:off x="5049360" y="2577960"/>
            <a:ext cx="1080" cy="3168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4" name="Rectangle 37"/>
          <p:cNvSpPr/>
          <p:nvPr/>
        </p:nvSpPr>
        <p:spPr>
          <a:xfrm>
            <a:off x="6138720" y="3225960"/>
            <a:ext cx="1660680" cy="4014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C6,C7,C8,C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37"/>
          <p:cNvSpPr/>
          <p:nvPr/>
        </p:nvSpPr>
        <p:spPr>
          <a:xfrm>
            <a:off x="5370480" y="3770280"/>
            <a:ext cx="914400" cy="4017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sMA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6" name="Straight Arrow Connector 122"/>
          <p:cNvCxnSpPr/>
          <p:nvPr/>
        </p:nvCxnSpPr>
        <p:spPr>
          <a:xfrm>
            <a:off x="5819400" y="3094200"/>
            <a:ext cx="1080" cy="66744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7" name="Straight Arrow Connector 128"/>
          <p:cNvCxnSpPr/>
          <p:nvPr/>
        </p:nvCxnSpPr>
        <p:spPr>
          <a:xfrm flipH="1">
            <a:off x="5819400" y="3423960"/>
            <a:ext cx="31968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8" name="Straight Arrow Connector 130"/>
          <p:cNvCxnSpPr/>
          <p:nvPr/>
        </p:nvCxnSpPr>
        <p:spPr>
          <a:xfrm flipH="1">
            <a:off x="3677400" y="1726920"/>
            <a:ext cx="56772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9" name="Rectangle 37"/>
          <p:cNvSpPr/>
          <p:nvPr/>
        </p:nvSpPr>
        <p:spPr>
          <a:xfrm>
            <a:off x="2117880" y="4222800"/>
            <a:ext cx="6645240" cy="700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Иницијална фаза оштећења гломерул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штећење ендотелних ћел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Хемотаксично дејство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компоненти комплем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Rectangle 37"/>
          <p:cNvSpPr/>
          <p:nvPr/>
        </p:nvSpPr>
        <p:spPr>
          <a:xfrm>
            <a:off x="2116080" y="4224240"/>
            <a:ext cx="674640" cy="28260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1393920" y="4923000"/>
            <a:ext cx="7377120" cy="100008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ролиферативна фаза оштећења гломерул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јачан прилив инфламаторних ћелиј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јачано стварање и лучење цитоки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ндотелне ћелије губе фенестрације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руптура базалне мембране гломер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двајање стопаластих продужетака подоци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37"/>
          <p:cNvSpPr/>
          <p:nvPr/>
        </p:nvSpPr>
        <p:spPr>
          <a:xfrm>
            <a:off x="1393920" y="4924440"/>
            <a:ext cx="674640" cy="27288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Straight Connector 137"/>
          <p:cNvSpPr/>
          <p:nvPr/>
        </p:nvSpPr>
        <p:spPr>
          <a:xfrm>
            <a:off x="1103400" y="1219320"/>
            <a:ext cx="306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Straight Connector 138"/>
          <p:cNvSpPr/>
          <p:nvPr/>
        </p:nvSpPr>
        <p:spPr>
          <a:xfrm>
            <a:off x="1409760" y="1103400"/>
            <a:ext cx="0" cy="23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Rectangle 37"/>
          <p:cNvSpPr/>
          <p:nvPr/>
        </p:nvSpPr>
        <p:spPr>
          <a:xfrm>
            <a:off x="485640" y="5923080"/>
            <a:ext cx="8285400" cy="69984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Фаза опоравка од оштећења гломерул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тварање нове базалне мембране гломер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Дупло контурисана базална мембрана гломерула/задебљање зида капилара гломерул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Rectangle 37"/>
          <p:cNvSpPr/>
          <p:nvPr/>
        </p:nvSpPr>
        <p:spPr>
          <a:xfrm>
            <a:off x="487440" y="5924520"/>
            <a:ext cx="838080" cy="30312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Straight Connector 149"/>
          <p:cNvSpPr/>
          <p:nvPr/>
        </p:nvSpPr>
        <p:spPr>
          <a:xfrm flipH="1">
            <a:off x="5052960" y="3959280"/>
            <a:ext cx="31752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8" name="Straight Arrow Connector 151"/>
          <p:cNvCxnSpPr/>
          <p:nvPr/>
        </p:nvCxnSpPr>
        <p:spPr>
          <a:xfrm>
            <a:off x="5051160" y="3957480"/>
            <a:ext cx="1080" cy="2613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9" name="Straight Connector 45"/>
          <p:cNvSpPr/>
          <p:nvPr/>
        </p:nvSpPr>
        <p:spPr>
          <a:xfrm flipV="1">
            <a:off x="3901320" y="1792440"/>
            <a:ext cx="1800" cy="258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Straight Connector 38"/>
          <p:cNvSpPr/>
          <p:nvPr/>
        </p:nvSpPr>
        <p:spPr>
          <a:xfrm>
            <a:off x="3903840" y="1792440"/>
            <a:ext cx="299880" cy="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Rectangle 37"/>
          <p:cNvSpPr/>
          <p:nvPr/>
        </p:nvSpPr>
        <p:spPr>
          <a:xfrm>
            <a:off x="7799400" y="700200"/>
            <a:ext cx="97164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600" spc="-1" strike="noStrike">
                <a:solidFill>
                  <a:srgbClr val="000000"/>
                </a:solidFill>
                <a:latin typeface="Arial"/>
              </a:rPr>
              <a:t>MPG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2" name="Group 4"/>
          <p:cNvGrpSpPr/>
          <p:nvPr/>
        </p:nvGrpSpPr>
        <p:grpSpPr>
          <a:xfrm>
            <a:off x="189000" y="1001880"/>
            <a:ext cx="8753400" cy="5746680"/>
            <a:chOff x="189000" y="1001880"/>
            <a:chExt cx="8753400" cy="5746680"/>
          </a:xfrm>
        </p:grpSpPr>
        <p:sp>
          <p:nvSpPr>
            <p:cNvPr id="623" name="Line 5"/>
            <p:cNvSpPr/>
            <p:nvPr/>
          </p:nvSpPr>
          <p:spPr>
            <a:xfrm flipV="1">
              <a:off x="320760" y="140904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Rectangle 7"/>
            <p:cNvSpPr/>
            <p:nvPr/>
          </p:nvSpPr>
          <p:spPr>
            <a:xfrm>
              <a:off x="339480" y="1411200"/>
              <a:ext cx="8413920" cy="53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а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гене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ханизам (болест густих депозита)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бранопролиферативни гломерулонефритис тип 2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indent="-20016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3NF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- аутоантитело на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sr-Latn-R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онвертазу (аутоантитело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IgG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класе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недостатак фактора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и 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r>
                <a:rPr b="1" i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indent="-20016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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R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400" spc="-1" strike="noStrike">
                  <a:solidFill>
                    <a:srgbClr val="000000"/>
                  </a:solidFill>
                  <a:latin typeface="Arial"/>
                </a:rPr>
                <a:t>протеини који регулишу активност алтернативног пута система комплемента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 (ТИП 2: 15-20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сти депозити у базалној мембрани гломерула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sr-Latn-R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sr-Latn-R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sr-Latn-R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густи депозити у базалној мембрани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Rectangle 7"/>
            <p:cNvSpPr/>
            <p:nvPr/>
          </p:nvSpPr>
          <p:spPr>
            <a:xfrm>
              <a:off x="189000" y="1001880"/>
              <a:ext cx="875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4"/>
          <p:cNvSpPr/>
          <p:nvPr/>
        </p:nvSpPr>
        <p:spPr>
          <a:xfrm>
            <a:off x="144360" y="1206360"/>
            <a:ext cx="8837640" cy="5500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5"/>
          <p:cNvSpPr/>
          <p:nvPr/>
        </p:nvSpPr>
        <p:spPr>
          <a:xfrm>
            <a:off x="146160" y="1160640"/>
            <a:ext cx="8843760" cy="0"/>
          </a:xfrm>
          <a:prstGeom prst="line">
            <a:avLst/>
          </a:prstGeom>
          <a:ln w="38160">
            <a:solidFill>
              <a:srgbClr val="ff9f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37"/>
          <p:cNvSpPr/>
          <p:nvPr/>
        </p:nvSpPr>
        <p:spPr>
          <a:xfrm>
            <a:off x="2887560" y="1766880"/>
            <a:ext cx="3353040" cy="241308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Мутација гена регулаторних протеина</a:t>
            </a:r>
            <a:r>
              <a:rPr b="1" lang="sr-Latn-C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актор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Фактор </a:t>
            </a: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MCP/CD4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CFHR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000" spc="-1" strike="noStrike">
                <a:solidFill>
                  <a:srgbClr val="ffffff"/>
                </a:solidFill>
                <a:latin typeface="Arial"/>
              </a:rPr>
              <a:t>CFHR 3-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37"/>
          <p:cNvSpPr/>
          <p:nvPr/>
        </p:nvSpPr>
        <p:spPr>
          <a:xfrm>
            <a:off x="276120" y="1776240"/>
            <a:ext cx="2264040" cy="403560"/>
          </a:xfrm>
          <a:prstGeom prst="rect">
            <a:avLst/>
          </a:prstGeom>
          <a:solidFill>
            <a:srgbClr val="a50021"/>
          </a:solidFill>
          <a:ln w="3240">
            <a:solidFill>
              <a:srgbClr val="a5002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антит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37"/>
          <p:cNvSpPr/>
          <p:nvPr/>
        </p:nvSpPr>
        <p:spPr>
          <a:xfrm>
            <a:off x="739800" y="2335320"/>
            <a:ext cx="1808280" cy="403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C3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онвертаз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37"/>
          <p:cNvSpPr/>
          <p:nvPr/>
        </p:nvSpPr>
        <p:spPr>
          <a:xfrm>
            <a:off x="747720" y="2851200"/>
            <a:ext cx="1806480" cy="135720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егулатор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омплеме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1" i="1" lang="sr-Latn-C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Straight Connector 50"/>
          <p:cNvSpPr/>
          <p:nvPr/>
        </p:nvSpPr>
        <p:spPr>
          <a:xfrm>
            <a:off x="434880" y="2176560"/>
            <a:ext cx="0" cy="13525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3" name="Straight Arrow Connector 58"/>
          <p:cNvCxnSpPr/>
          <p:nvPr/>
        </p:nvCxnSpPr>
        <p:spPr>
          <a:xfrm>
            <a:off x="436680" y="2536560"/>
            <a:ext cx="29736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4" name="Straight Arrow Connector 59"/>
          <p:cNvCxnSpPr/>
          <p:nvPr/>
        </p:nvCxnSpPr>
        <p:spPr>
          <a:xfrm>
            <a:off x="436680" y="3528720"/>
            <a:ext cx="29736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5" name="Rectangle 37"/>
          <p:cNvSpPr/>
          <p:nvPr/>
        </p:nvSpPr>
        <p:spPr>
          <a:xfrm>
            <a:off x="2895480" y="5330880"/>
            <a:ext cx="3353040" cy="7509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оремећај активности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конверта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36" name="Straight Arrow Connector 66"/>
          <p:cNvCxnSpPr/>
          <p:nvPr/>
        </p:nvCxnSpPr>
        <p:spPr>
          <a:xfrm>
            <a:off x="4557240" y="4179960"/>
            <a:ext cx="1080" cy="113400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37" name="Rectangle 37"/>
          <p:cNvSpPr/>
          <p:nvPr/>
        </p:nvSpPr>
        <p:spPr>
          <a:xfrm>
            <a:off x="6581880" y="1770120"/>
            <a:ext cx="2265120" cy="106056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Мутација ген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актора комплемент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i="1" lang="sr-Latn-CS" sz="2000" spc="-1" strike="noStrike">
                <a:solidFill>
                  <a:srgbClr val="000000"/>
                </a:solidFill>
                <a:latin typeface="Arial"/>
              </a:rPr>
              <a:t>C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37"/>
          <p:cNvSpPr/>
          <p:nvPr/>
        </p:nvSpPr>
        <p:spPr>
          <a:xfrm>
            <a:off x="6575400" y="3062160"/>
            <a:ext cx="2263680" cy="1111320"/>
          </a:xfrm>
          <a:prstGeom prst="rect">
            <a:avLst/>
          </a:pr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Варијанте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алела</a:t>
            </a:r>
            <a:r>
              <a:rPr b="1" lang="sr-Latn-C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Фактор </a:t>
            </a:r>
            <a:r>
              <a:rPr b="1" i="1" lang="sr-Latn-CS" sz="19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1900" spc="-1" strike="noStrike">
                <a:solidFill>
                  <a:srgbClr val="000000"/>
                </a:solidFill>
                <a:latin typeface="Arial"/>
              </a:rPr>
              <a:t>C3/MCP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Straight Connector 70"/>
          <p:cNvSpPr/>
          <p:nvPr/>
        </p:nvSpPr>
        <p:spPr>
          <a:xfrm>
            <a:off x="2550960" y="2540160"/>
            <a:ext cx="1605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Straight Connector 72"/>
          <p:cNvSpPr/>
          <p:nvPr/>
        </p:nvSpPr>
        <p:spPr>
          <a:xfrm>
            <a:off x="2714760" y="2540160"/>
            <a:ext cx="0" cy="23796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Straight Connector 74"/>
          <p:cNvSpPr/>
          <p:nvPr/>
        </p:nvSpPr>
        <p:spPr>
          <a:xfrm>
            <a:off x="2714760" y="4919760"/>
            <a:ext cx="132084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2" name="Straight Arrow Connector 76"/>
          <p:cNvCxnSpPr/>
          <p:nvPr/>
        </p:nvCxnSpPr>
        <p:spPr>
          <a:xfrm>
            <a:off x="4035240" y="4919400"/>
            <a:ext cx="1080" cy="3927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3" name="Straight Connector 78"/>
          <p:cNvSpPr/>
          <p:nvPr/>
        </p:nvSpPr>
        <p:spPr>
          <a:xfrm>
            <a:off x="6408720" y="2298600"/>
            <a:ext cx="0" cy="2614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Straight Connector 79"/>
          <p:cNvSpPr/>
          <p:nvPr/>
        </p:nvSpPr>
        <p:spPr>
          <a:xfrm>
            <a:off x="5113440" y="4913280"/>
            <a:ext cx="1295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5" name="Straight Arrow Connector 80"/>
          <p:cNvCxnSpPr/>
          <p:nvPr/>
        </p:nvCxnSpPr>
        <p:spPr>
          <a:xfrm>
            <a:off x="5113080" y="4912920"/>
            <a:ext cx="1080" cy="39276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6" name="Straight Connector 83"/>
          <p:cNvSpPr/>
          <p:nvPr/>
        </p:nvSpPr>
        <p:spPr>
          <a:xfrm>
            <a:off x="6408720" y="2298600"/>
            <a:ext cx="1731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Straight Connector 96"/>
          <p:cNvSpPr/>
          <p:nvPr/>
        </p:nvSpPr>
        <p:spPr>
          <a:xfrm>
            <a:off x="1639800" y="4208400"/>
            <a:ext cx="0" cy="1481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8" name="Straight Arrow Connector 104"/>
          <p:cNvCxnSpPr/>
          <p:nvPr/>
        </p:nvCxnSpPr>
        <p:spPr>
          <a:xfrm>
            <a:off x="1639440" y="5689080"/>
            <a:ext cx="123444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Straight Connector 109"/>
          <p:cNvSpPr/>
          <p:nvPr/>
        </p:nvSpPr>
        <p:spPr>
          <a:xfrm>
            <a:off x="7707240" y="4173480"/>
            <a:ext cx="0" cy="150804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0" name="Straight Arrow Connector 110"/>
          <p:cNvCxnSpPr/>
          <p:nvPr/>
        </p:nvCxnSpPr>
        <p:spPr>
          <a:xfrm>
            <a:off x="6248520" y="5681160"/>
            <a:ext cx="1459440" cy="1080"/>
          </a:xfrm>
          <a:prstGeom prst="straightConnector1">
            <a:avLst/>
          </a:prstGeom>
          <a:ln w="324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651" name="Rectangle 3"/>
          <p:cNvSpPr/>
          <p:nvPr/>
        </p:nvSpPr>
        <p:spPr>
          <a:xfrm>
            <a:off x="247680" y="1101600"/>
            <a:ext cx="862164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МЕМБРАНОПРОЛИФЕРАТИВНИ ГЛОМЕРУЛОНЕФРИТИС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TIP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4"/>
          <p:cNvGrpSpPr/>
          <p:nvPr/>
        </p:nvGrpSpPr>
        <p:grpSpPr>
          <a:xfrm>
            <a:off x="189000" y="1001880"/>
            <a:ext cx="8753400" cy="5746680"/>
            <a:chOff x="189000" y="1001880"/>
            <a:chExt cx="8753400" cy="5746680"/>
          </a:xfrm>
        </p:grpSpPr>
        <p:sp>
          <p:nvSpPr>
            <p:cNvPr id="653" name="Line 5"/>
            <p:cNvSpPr/>
            <p:nvPr/>
          </p:nvSpPr>
          <p:spPr>
            <a:xfrm flipV="1">
              <a:off x="320760" y="140904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7"/>
            <p:cNvSpPr/>
            <p:nvPr/>
          </p:nvSpPr>
          <p:spPr>
            <a:xfrm>
              <a:off x="339120" y="1410840"/>
              <a:ext cx="8414640" cy="533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ГЕНЕ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лавн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тогене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еханизам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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тип 3: посредован имунским комплексима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ПАТОХИСТОЛОГИЈА (ТИП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: &lt; 5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 и мезангијумск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мезангијумск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 и мезангијумски депозити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,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перд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 и мезангијумск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мезангиј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7"/>
            <p:cNvSpPr/>
            <p:nvPr/>
          </p:nvSpPr>
          <p:spPr>
            <a:xfrm>
              <a:off x="189000" y="1001880"/>
              <a:ext cx="8753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6" name="Group 3"/>
          <p:cNvGrpSpPr/>
          <p:nvPr/>
        </p:nvGrpSpPr>
        <p:grpSpPr>
          <a:xfrm>
            <a:off x="262080" y="971640"/>
            <a:ext cx="8621640" cy="5037120"/>
            <a:chOff x="262080" y="971640"/>
            <a:chExt cx="8621640" cy="5037120"/>
          </a:xfrm>
        </p:grpSpPr>
        <p:sp>
          <p:nvSpPr>
            <p:cNvPr id="657" name="Rectangle 3"/>
            <p:cNvSpPr/>
            <p:nvPr/>
          </p:nvSpPr>
          <p:spPr>
            <a:xfrm>
              <a:off x="262080" y="971640"/>
              <a:ext cx="862164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Rectangle 7"/>
            <p:cNvSpPr/>
            <p:nvPr/>
          </p:nvSpPr>
          <p:spPr>
            <a:xfrm>
              <a:off x="288720" y="1762200"/>
              <a:ext cx="8534520" cy="424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КЛИНИЧКА СЛ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зноликост клиничког испољавањ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нефротски синдром код 50%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асимптоматска хематурија и протеинурија код 30%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утни нефритички синдром код 20-30% болесни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рзопрогресивни гломерулонефритис код 5-10% болесника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тоц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(нефротски синдром/нефритички синдром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компликације: хипертензија, срчана слабос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Line 5"/>
          <p:cNvSpPr/>
          <p:nvPr/>
        </p:nvSpPr>
        <p:spPr>
          <a:xfrm flipV="1">
            <a:off x="334800" y="1611360"/>
            <a:ext cx="8433000" cy="1440"/>
          </a:xfrm>
          <a:prstGeom prst="line">
            <a:avLst/>
          </a:prstGeom>
          <a:ln w="38160">
            <a:solidFill>
              <a:srgbClr val="ff75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0" name="Group 5"/>
          <p:cNvGrpSpPr/>
          <p:nvPr/>
        </p:nvGrpSpPr>
        <p:grpSpPr>
          <a:xfrm>
            <a:off x="247680" y="870120"/>
            <a:ext cx="8621640" cy="5516280"/>
            <a:chOff x="247680" y="870120"/>
            <a:chExt cx="8621640" cy="5516280"/>
          </a:xfrm>
        </p:grpSpPr>
        <p:grpSp>
          <p:nvGrpSpPr>
            <p:cNvPr id="661" name="Group 3"/>
            <p:cNvGrpSpPr/>
            <p:nvPr/>
          </p:nvGrpSpPr>
          <p:grpSpPr>
            <a:xfrm>
              <a:off x="247680" y="870120"/>
              <a:ext cx="8621640" cy="5516280"/>
              <a:chOff x="247680" y="870120"/>
              <a:chExt cx="8621640" cy="5516280"/>
            </a:xfrm>
          </p:grpSpPr>
          <p:sp>
            <p:nvSpPr>
              <p:cNvPr id="662" name="Rectangle 3"/>
              <p:cNvSpPr/>
              <p:nvPr/>
            </p:nvSpPr>
            <p:spPr>
              <a:xfrm>
                <a:off x="247680" y="870120"/>
                <a:ext cx="8621640" cy="870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400" spc="-1" strike="noStrike">
                    <a:solidFill>
                      <a:srgbClr val="000000"/>
                    </a:solidFill>
                    <a:latin typeface="Arial"/>
                  </a:rPr>
                  <a:t>МЕМБРАНОПРОЛИФЕРАТИВНИ ГЛОМЕРУЛОНЕФРИТИС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Rectangle 7"/>
              <p:cNvSpPr/>
              <p:nvPr/>
            </p:nvSpPr>
            <p:spPr>
              <a:xfrm>
                <a:off x="289080" y="1497600"/>
                <a:ext cx="8534520" cy="4888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000000"/>
                    </a:solidFill>
                    <a:latin typeface="Arial"/>
                  </a:rPr>
                  <a:t>ДИЈАГНОСТИКА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анамнеза: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смањена диуреза, појава едем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	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физикални преглед: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едем, знаци плеуралног излива, знаци асцитес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лабораторија: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урија ≥ 3.5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g/24h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нефротски синдром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хематурија (акутни нефритички синдром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800" spc="-1" strike="noStrike">
                    <a:solidFill>
                      <a:srgbClr val="000000"/>
                    </a:solidFill>
                    <a:latin typeface="Arial"/>
                  </a:rPr>
                  <a:t>испитивања имунског система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AN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dsDNA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антитела, 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SSA/SSB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антитела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4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1q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i="1" lang="en-US" sz="1600" spc="-1" strike="noStrike" baseline="-25000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NF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3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у серуму у временском периоду ≥ 8 недеља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ротеини алтернативног пута система комплемента: фактори: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,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I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1q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компонента комплемента у серуму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MPG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тип 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2" marL="9144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"/>
                  <a:tabLst>
                    <a:tab algn="l" pos="26208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класичан пут активације система комплемента (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MPGN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тип 1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вирусолошка испитивања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анти-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CV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-антитела,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HCV RNA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полимераза тест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tabLst>
                    <a:tab algn="l" pos="0"/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just">
                  <a:buClr>
                    <a:srgbClr val="ff7575"/>
                  </a:buClr>
                  <a:buFont typeface="Wingdings" charset="2"/>
                  <a:buChar char="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криоглобулини: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lvl="1" marL="457200" algn="just">
                  <a:lnSpc>
                    <a:spcPct val="100000"/>
                  </a:lnSpc>
                  <a:buClr>
                    <a:srgbClr val="ff7575"/>
                  </a:buClr>
                  <a:buFont typeface="Wingdings" charset="2"/>
                  <a:buChar char=""/>
                  <a:tabLst>
                    <a:tab algn="l" pos="26208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мешовита криоглобулинемија код хепатитиса </a:t>
                </a:r>
                <a:r>
                  <a:rPr b="1" i="1" lang="en-US" sz="16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64" name="Line 5"/>
            <p:cNvSpPr/>
            <p:nvPr/>
          </p:nvSpPr>
          <p:spPr>
            <a:xfrm flipV="1">
              <a:off x="320760" y="149580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5" name="Group 7"/>
          <p:cNvGrpSpPr/>
          <p:nvPr/>
        </p:nvGrpSpPr>
        <p:grpSpPr>
          <a:xfrm>
            <a:off x="247680" y="870120"/>
            <a:ext cx="8621640" cy="5873760"/>
            <a:chOff x="247680" y="870120"/>
            <a:chExt cx="8621640" cy="5873760"/>
          </a:xfrm>
        </p:grpSpPr>
        <p:grpSp>
          <p:nvGrpSpPr>
            <p:cNvPr id="666" name="Group 5"/>
            <p:cNvGrpSpPr/>
            <p:nvPr/>
          </p:nvGrpSpPr>
          <p:grpSpPr>
            <a:xfrm>
              <a:off x="247680" y="870120"/>
              <a:ext cx="8621640" cy="5515560"/>
              <a:chOff x="247680" y="870120"/>
              <a:chExt cx="8621640" cy="5515560"/>
            </a:xfrm>
          </p:grpSpPr>
          <p:grpSp>
            <p:nvGrpSpPr>
              <p:cNvPr id="667" name="Group 3"/>
              <p:cNvGrpSpPr/>
              <p:nvPr/>
            </p:nvGrpSpPr>
            <p:grpSpPr>
              <a:xfrm>
                <a:off x="247680" y="870120"/>
                <a:ext cx="8621640" cy="5515560"/>
                <a:chOff x="247680" y="870120"/>
                <a:chExt cx="8621640" cy="5515560"/>
              </a:xfrm>
            </p:grpSpPr>
            <p:sp>
              <p:nvSpPr>
                <p:cNvPr id="668" name="Rectangle 3"/>
                <p:cNvSpPr/>
                <p:nvPr/>
              </p:nvSpPr>
              <p:spPr>
                <a:xfrm>
                  <a:off x="247680" y="870120"/>
                  <a:ext cx="862164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2400" spc="-1" strike="noStrike">
                      <a:solidFill>
                        <a:srgbClr val="000000"/>
                      </a:solidFill>
                      <a:latin typeface="Arial"/>
                    </a:rPr>
                    <a:t>МЕМБРАНОПРОЛИФЕРАТИВНИ ГЛОМЕРУЛОНЕФРИТИС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7"/>
                <p:cNvSpPr/>
                <p:nvPr/>
              </p:nvSpPr>
              <p:spPr>
                <a:xfrm>
                  <a:off x="274320" y="1809000"/>
                  <a:ext cx="8534520" cy="457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just"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2000" spc="-1" strike="noStrike">
                      <a:solidFill>
                        <a:srgbClr val="000000"/>
                      </a:solidFill>
                      <a:latin typeface="Arial"/>
                    </a:rPr>
                    <a:t>ДИЈАГНОСТ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БИОПСИЈА БУБРЕГА (златни стандард): </a:t>
                  </a:r>
                  <a:r>
                    <a:rPr b="1" i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MPGN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тип 1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buClr>
                      <a:srgbClr val="ff7575"/>
                    </a:buClr>
                    <a:buFont typeface="Wingdings 2" charset="2"/>
                    <a:buChar char="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светлосна микроскопија: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субендотелни депозити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задебљана базална мембрана гломерул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пролиферација мезангијумских ћел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buClr>
                      <a:srgbClr val="ff7575"/>
                    </a:buClr>
                    <a:buFont typeface="Wingdings 2" charset="2"/>
                    <a:buChar char="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имунофлуоросцентна микроскопија: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гранулирани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субендотелни депозити (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gG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, 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r>
                    <a:rPr b="1" i="1" lang="en-US" sz="16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)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buClr>
                      <a:srgbClr val="ff7575"/>
                    </a:buClr>
                    <a:buFont typeface="Wingdings 2" charset="2"/>
                    <a:buChar char="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електронска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800" spc="-1" strike="noStrike">
                      <a:solidFill>
                        <a:srgbClr val="000000"/>
                      </a:solidFill>
                      <a:latin typeface="Arial"/>
                    </a:rPr>
                    <a:t>микроскопија</a:t>
                  </a:r>
                  <a:r>
                    <a:rPr b="1" lang="sr-Latn-CS" sz="1800" spc="-1" strike="noStrike">
                      <a:solidFill>
                        <a:srgbClr val="000000"/>
                      </a:solidFill>
                      <a:latin typeface="Arial"/>
                    </a:rPr>
                    <a:t>: 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субендотелни депозит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задебљана базална мембрана гломерул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пролиферација мезангијумских ћелија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tabLst>
                      <a:tab algn="l" pos="0"/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lvl="1" marL="457200" algn="just">
                    <a:lnSpc>
                      <a:spcPct val="100000"/>
                    </a:lnSpc>
                    <a:buClr>
                      <a:srgbClr val="ff7575"/>
                    </a:buClr>
                    <a:buFont typeface="Wingdings" charset="2"/>
                    <a:buChar char=""/>
                    <a:tabLst>
                      <a:tab algn="l" pos="26208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0" name="Line 5"/>
              <p:cNvSpPr/>
              <p:nvPr/>
            </p:nvSpPr>
            <p:spPr>
              <a:xfrm flipV="1">
                <a:off x="320760" y="1495800"/>
                <a:ext cx="8433000" cy="1440"/>
              </a:xfrm>
              <a:prstGeom prst="line">
                <a:avLst/>
              </a:prstGeom>
              <a:ln w="38160">
                <a:solidFill>
                  <a:srgbClr val="ff75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1" name="Rectangle 26"/>
            <p:cNvSpPr/>
            <p:nvPr/>
          </p:nvSpPr>
          <p:spPr>
            <a:xfrm>
              <a:off x="320760" y="6328080"/>
              <a:ext cx="8516880" cy="41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MPGN</a:t>
              </a: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 - мембранопролиферативни гломерулонефритис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2" name="Group 7"/>
          <p:cNvGrpSpPr/>
          <p:nvPr/>
        </p:nvGrpSpPr>
        <p:grpSpPr>
          <a:xfrm>
            <a:off x="247680" y="870120"/>
            <a:ext cx="8621640" cy="5878440"/>
            <a:chOff x="247680" y="870120"/>
            <a:chExt cx="8621640" cy="5878440"/>
          </a:xfrm>
        </p:grpSpPr>
        <p:grpSp>
          <p:nvGrpSpPr>
            <p:cNvPr id="673" name="Group 7"/>
            <p:cNvGrpSpPr/>
            <p:nvPr/>
          </p:nvGrpSpPr>
          <p:grpSpPr>
            <a:xfrm>
              <a:off x="247680" y="870120"/>
              <a:ext cx="8621640" cy="5873760"/>
              <a:chOff x="247680" y="870120"/>
              <a:chExt cx="8621640" cy="5873760"/>
            </a:xfrm>
          </p:grpSpPr>
          <p:grpSp>
            <p:nvGrpSpPr>
              <p:cNvPr id="674" name="Group 5"/>
              <p:cNvGrpSpPr/>
              <p:nvPr/>
            </p:nvGrpSpPr>
            <p:grpSpPr>
              <a:xfrm>
                <a:off x="247680" y="870120"/>
                <a:ext cx="8621640" cy="870480"/>
                <a:chOff x="247680" y="870120"/>
                <a:chExt cx="8621640" cy="870480"/>
              </a:xfrm>
            </p:grpSpPr>
            <p:sp>
              <p:nvSpPr>
                <p:cNvPr id="675" name="Rectangle 3"/>
                <p:cNvSpPr/>
                <p:nvPr/>
              </p:nvSpPr>
              <p:spPr>
                <a:xfrm>
                  <a:off x="247680" y="870120"/>
                  <a:ext cx="862164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2400" spc="-1" strike="noStrike">
                      <a:solidFill>
                        <a:srgbClr val="000000"/>
                      </a:solidFill>
                      <a:latin typeface="Arial"/>
                    </a:rPr>
                    <a:t>МЕМБРАНОПРОЛИФЕРАТИВНИ ГЛОМЕРУЛОНЕФРИТИС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Line 5"/>
                <p:cNvSpPr/>
                <p:nvPr/>
              </p:nvSpPr>
              <p:spPr>
                <a:xfrm flipV="1">
                  <a:off x="320760" y="1495800"/>
                  <a:ext cx="8433000" cy="1440"/>
                </a:xfrm>
                <a:prstGeom prst="line">
                  <a:avLst/>
                </a:prstGeom>
                <a:ln w="38160">
                  <a:solidFill>
                    <a:srgbClr val="ff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Rectangle 26"/>
              <p:cNvSpPr/>
              <p:nvPr/>
            </p:nvSpPr>
            <p:spPr>
              <a:xfrm>
                <a:off x="320760" y="6328080"/>
                <a:ext cx="851688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MPG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- мембранопролиферативни гломерулонефритис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8" name="Rectangle 7"/>
            <p:cNvSpPr/>
            <p:nvPr/>
          </p:nvSpPr>
          <p:spPr>
            <a:xfrm>
              <a:off x="272880" y="1411200"/>
              <a:ext cx="8413920" cy="533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ИОПСИЈА БУБРЕГА (златни стандард)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PGN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тип 2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густи депозити у базалној мембрани гломерула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(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густи депозити у базалној мембрани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9" name="Group 7"/>
          <p:cNvGrpSpPr/>
          <p:nvPr/>
        </p:nvGrpSpPr>
        <p:grpSpPr>
          <a:xfrm>
            <a:off x="247680" y="870120"/>
            <a:ext cx="8621640" cy="5873760"/>
            <a:chOff x="247680" y="870120"/>
            <a:chExt cx="8621640" cy="5873760"/>
          </a:xfrm>
        </p:grpSpPr>
        <p:grpSp>
          <p:nvGrpSpPr>
            <p:cNvPr id="680" name="Group 7"/>
            <p:cNvGrpSpPr/>
            <p:nvPr/>
          </p:nvGrpSpPr>
          <p:grpSpPr>
            <a:xfrm>
              <a:off x="247680" y="870120"/>
              <a:ext cx="8621640" cy="5873760"/>
              <a:chOff x="247680" y="870120"/>
              <a:chExt cx="8621640" cy="5873760"/>
            </a:xfrm>
          </p:grpSpPr>
          <p:grpSp>
            <p:nvGrpSpPr>
              <p:cNvPr id="681" name="Group 5"/>
              <p:cNvGrpSpPr/>
              <p:nvPr/>
            </p:nvGrpSpPr>
            <p:grpSpPr>
              <a:xfrm>
                <a:off x="247680" y="870120"/>
                <a:ext cx="8621640" cy="870480"/>
                <a:chOff x="247680" y="870120"/>
                <a:chExt cx="8621640" cy="870480"/>
              </a:xfrm>
            </p:grpSpPr>
            <p:sp>
              <p:nvSpPr>
                <p:cNvPr id="682" name="Rectangle 3"/>
                <p:cNvSpPr/>
                <p:nvPr/>
              </p:nvSpPr>
              <p:spPr>
                <a:xfrm>
                  <a:off x="247680" y="870120"/>
                  <a:ext cx="8621640" cy="870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2400" spc="-1" strike="noStrike">
                      <a:solidFill>
                        <a:srgbClr val="000000"/>
                      </a:solidFill>
                      <a:latin typeface="Arial"/>
                    </a:rPr>
                    <a:t>МЕМБРАНОПРОЛИФЕРАТИВНИ ГЛОМЕРУЛОНЕФРИТИС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Line 5"/>
                <p:cNvSpPr/>
                <p:nvPr/>
              </p:nvSpPr>
              <p:spPr>
                <a:xfrm flipV="1">
                  <a:off x="320760" y="1495800"/>
                  <a:ext cx="8433000" cy="1440"/>
                </a:xfrm>
                <a:prstGeom prst="line">
                  <a:avLst/>
                </a:prstGeom>
                <a:ln w="38160">
                  <a:solidFill>
                    <a:srgbClr val="ff757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4" name="Rectangle 26"/>
              <p:cNvSpPr/>
              <p:nvPr/>
            </p:nvSpPr>
            <p:spPr>
              <a:xfrm>
                <a:off x="320760" y="6328080"/>
                <a:ext cx="8516880" cy="415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MPGN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 - мембранопролиферативни гломерулонефритис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85" name="Rectangle 7"/>
            <p:cNvSpPr/>
            <p:nvPr/>
          </p:nvSpPr>
          <p:spPr>
            <a:xfrm>
              <a:off x="291960" y="1496880"/>
              <a:ext cx="841392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000000"/>
                  </a:solidFill>
                  <a:latin typeface="Arial"/>
                </a:rPr>
                <a:t>ДИЈАГНОСТИК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БИОПСИЈА БУБРЕГА (златни стандард): </a:t>
              </a:r>
              <a:r>
                <a:rPr b="1" i="1" lang="en-US" sz="1800" spc="-1" strike="noStrike">
                  <a:solidFill>
                    <a:srgbClr val="000000"/>
                  </a:solidFill>
                  <a:latin typeface="Arial"/>
                </a:rPr>
                <a:t>MPG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тип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светлосна микроскоп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 и мезангијумск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мезангијумских ћел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имунофлуоросцентна микроскопија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 и мезангијумски депозити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G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IgM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3,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 C</a:t>
              </a:r>
              <a:r>
                <a:rPr b="1" i="1" lang="en-US" sz="1600" spc="-1" strike="noStrike" baseline="-25000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1" i="1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пердин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914400" algn="just">
                <a:lnSpc>
                  <a:spcPct val="100000"/>
                </a:lnSpc>
                <a:tabLst>
                  <a:tab algn="l" pos="0"/>
                  <a:tab algn="l" pos="26208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 2" charset="2"/>
                <a:buChar char="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електронск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800" spc="-1" strike="noStrike">
                  <a:solidFill>
                    <a:srgbClr val="000000"/>
                  </a:solidFill>
                  <a:latin typeface="Arial"/>
                </a:rPr>
                <a:t>микроскопија</a:t>
              </a:r>
              <a:r>
                <a:rPr b="1" lang="sr-Latn-CS" sz="1800" spc="-1" strike="noStrike">
                  <a:solidFill>
                    <a:srgbClr val="000000"/>
                  </a:solidFill>
                  <a:latin typeface="Arial"/>
                </a:rPr>
                <a:t>: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субендотелни, субепителни и мезангијумски депозит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задебљана базална мембрана гломерул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buClr>
                  <a:srgbClr val="ff7575"/>
                </a:buClr>
                <a:buFont typeface="Wingdings" charset="2"/>
                <a:buChar char="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пролиферација мезангију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Group 3"/>
          <p:cNvGrpSpPr/>
          <p:nvPr/>
        </p:nvGrpSpPr>
        <p:grpSpPr>
          <a:xfrm>
            <a:off x="339840" y="1279440"/>
            <a:ext cx="8432640" cy="5430960"/>
            <a:chOff x="339840" y="1279440"/>
            <a:chExt cx="8432640" cy="5430960"/>
          </a:xfrm>
        </p:grpSpPr>
        <p:sp>
          <p:nvSpPr>
            <p:cNvPr id="68" name="Line 4"/>
            <p:cNvSpPr/>
            <p:nvPr/>
          </p:nvSpPr>
          <p:spPr>
            <a:xfrm flipV="1">
              <a:off x="339840" y="1624320"/>
              <a:ext cx="843264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5"/>
            <p:cNvSpPr/>
            <p:nvPr/>
          </p:nvSpPr>
          <p:spPr>
            <a:xfrm>
              <a:off x="339840" y="1279440"/>
              <a:ext cx="8432640" cy="543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физиолошки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слови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нко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тис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лазм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П износи 24-26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mH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тарлингова равнотежа: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Char char="•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нкотски притисак плазм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м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ит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ањ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12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mHg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Arial"/>
                <a:buChar char="•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R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адн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сп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10-12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mmHg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, течност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з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луме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апилар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лаз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23960" indent="-276120" algn="just">
                <a:lnSpc>
                  <a:spcPct val="100000"/>
                </a:lnSpc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терстицијум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стор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јављај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деми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23960" indent="-276120" algn="just">
                <a:lnSpc>
                  <a:spcPct val="100000"/>
                </a:lnSpc>
                <a:buClr>
                  <a:srgbClr val="ff7575"/>
                </a:buClr>
                <a:buFont typeface="Arial"/>
                <a:buChar char="•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онцентра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лбумин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 серум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њ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д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15-20 </a:t>
              </a:r>
              <a:r>
                <a:rPr b="1" i="1" lang="sr-Latn-CS" sz="1600" spc="-1" strike="noStrike">
                  <a:solidFill>
                    <a:srgbClr val="000000"/>
                  </a:solidFill>
                  <a:latin typeface="Arial"/>
                </a:rPr>
                <a:t>g/l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поалбуминем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мање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онко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итис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лазм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одстич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елаза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течности из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аскуларног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нтерстицијум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сто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buClr>
                  <a:srgbClr val="ff7575"/>
                </a:buClr>
                <a:buFont typeface="Wingdings" charset="2"/>
                <a:buChar char=""/>
                <a:tabLst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поволем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мањен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проток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в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кроз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бубрег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тивирају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стем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А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доводе до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задржавањ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воде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тријум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астанк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едем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tabLst>
                  <a:tab algn="l" pos="0"/>
                  <a:tab algn="l" pos="2620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Rectangle 4"/>
          <p:cNvSpPr/>
          <p:nvPr/>
        </p:nvSpPr>
        <p:spPr>
          <a:xfrm>
            <a:off x="328680" y="1695600"/>
            <a:ext cx="8432640" cy="4895640"/>
          </a:xfrm>
          <a:prstGeom prst="rect">
            <a:avLst/>
          </a:prstGeom>
          <a:noFill/>
          <a:ln w="3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"/>
          <p:cNvSpPr/>
          <p:nvPr/>
        </p:nvSpPr>
        <p:spPr>
          <a:xfrm>
            <a:off x="237960" y="1085760"/>
            <a:ext cx="86220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ПАТОГЕНЕЗА ЕД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6" name="Group 15"/>
          <p:cNvGrpSpPr/>
          <p:nvPr/>
        </p:nvGrpSpPr>
        <p:grpSpPr>
          <a:xfrm>
            <a:off x="320760" y="1133640"/>
            <a:ext cx="8432640" cy="5470200"/>
            <a:chOff x="320760" y="1133640"/>
            <a:chExt cx="8432640" cy="5470200"/>
          </a:xfrm>
        </p:grpSpPr>
        <p:sp>
          <p:nvSpPr>
            <p:cNvPr id="687" name="Line 5"/>
            <p:cNvSpPr/>
            <p:nvPr/>
          </p:nvSpPr>
          <p:spPr>
            <a:xfrm flipV="1">
              <a:off x="320760" y="1133640"/>
              <a:ext cx="8432640" cy="1440"/>
            </a:xfrm>
            <a:prstGeom prst="line">
              <a:avLst/>
            </a:prstGeom>
            <a:ln w="3816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88" name="Group 17"/>
            <p:cNvGrpSpPr/>
            <p:nvPr/>
          </p:nvGrpSpPr>
          <p:grpSpPr>
            <a:xfrm>
              <a:off x="1312920" y="1207800"/>
              <a:ext cx="7178040" cy="5396040"/>
              <a:chOff x="1312920" y="1207800"/>
              <a:chExt cx="7178040" cy="5396040"/>
            </a:xfrm>
          </p:grpSpPr>
          <p:sp>
            <p:nvSpPr>
              <p:cNvPr id="689" name="Rectangle 6"/>
              <p:cNvSpPr/>
              <p:nvPr/>
            </p:nvSpPr>
            <p:spPr>
              <a:xfrm>
                <a:off x="1611360" y="1207800"/>
                <a:ext cx="5978520" cy="5302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ронисо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125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II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(2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kg/II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) у току 2 месеца (8 недеља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(максимална доза: 80 </a:t>
                </a:r>
                <a:r>
                  <a:rPr b="1" i="1" lang="en-US" sz="14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/дан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7"/>
              <p:cNvSpPr/>
              <p:nvPr/>
            </p:nvSpPr>
            <p:spPr>
              <a:xfrm>
                <a:off x="4602960" y="1738080"/>
                <a:ext cx="0" cy="21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1" name="Rectangle 8"/>
              <p:cNvSpPr/>
              <p:nvPr/>
            </p:nvSpPr>
            <p:spPr>
              <a:xfrm>
                <a:off x="3830760" y="1969920"/>
                <a:ext cx="1552320" cy="4348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2000" spc="-1" strike="noStrike">
                    <a:solidFill>
                      <a:srgbClr val="ffffff"/>
                    </a:solidFill>
                    <a:latin typeface="Arial"/>
                  </a:rPr>
                  <a:t>УСПЕХ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2" name="Line 9"/>
              <p:cNvSpPr/>
              <p:nvPr/>
            </p:nvSpPr>
            <p:spPr>
              <a:xfrm>
                <a:off x="4610160" y="2411280"/>
                <a:ext cx="0" cy="1839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3" name="Line 10"/>
              <p:cNvSpPr/>
              <p:nvPr/>
            </p:nvSpPr>
            <p:spPr>
              <a:xfrm>
                <a:off x="2627280" y="2595600"/>
                <a:ext cx="39751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Line 11"/>
              <p:cNvSpPr/>
              <p:nvPr/>
            </p:nvSpPr>
            <p:spPr>
              <a:xfrm>
                <a:off x="2627280" y="2595600"/>
                <a:ext cx="0" cy="217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5" name="Rectangle 12"/>
              <p:cNvSpPr/>
              <p:nvPr/>
            </p:nvSpPr>
            <p:spPr>
              <a:xfrm>
                <a:off x="1312920" y="2870280"/>
                <a:ext cx="2641680" cy="798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смањивати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озу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токо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најмање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в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месец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о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4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месец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)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6" name="Line 13"/>
              <p:cNvSpPr/>
              <p:nvPr/>
            </p:nvSpPr>
            <p:spPr>
              <a:xfrm>
                <a:off x="6600960" y="2595600"/>
                <a:ext cx="0" cy="2188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Rectangle 14"/>
              <p:cNvSpPr/>
              <p:nvPr/>
            </p:nvSpPr>
            <p:spPr>
              <a:xfrm>
                <a:off x="4746240" y="2865240"/>
                <a:ext cx="3744720" cy="37386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Метилпреднизоло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3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улса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(500-1000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),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затим наставити са пронисоно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0.5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kg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у току 6 месец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Циклофосфамид 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Endoxan</a:t>
                </a:r>
                <a:r>
                  <a:rPr b="1" i="1" lang="en-US" sz="1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®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2.0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kg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у току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6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месец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Циклофосфамид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Endoxan</a:t>
                </a:r>
                <a:r>
                  <a:rPr b="1" i="1" lang="en-US" sz="1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®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2.0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kg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Пронисо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0.5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kg/II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000" spc="-1" strike="noStrike">
                    <a:solidFill>
                      <a:srgbClr val="000000"/>
                    </a:solidFill>
                    <a:latin typeface="Arial"/>
                  </a:rPr>
                  <a:t>+ 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антикоагулантна терап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CyS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3.0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mg/kg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6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месеци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(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CyS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у серуму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 80-120 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</a:rPr>
                  <a:t>ng/ml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000" spc="-1" strike="noStrike">
                    <a:solidFill>
                      <a:srgbClr val="000000"/>
                    </a:solidFill>
                    <a:latin typeface="Arial"/>
                  </a:rPr>
                  <a:t>ил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</a:rPr>
                  <a:t>симптоматска терап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Rectangle 16"/>
              <p:cNvSpPr/>
              <p:nvPr/>
            </p:nvSpPr>
            <p:spPr>
              <a:xfrm>
                <a:off x="5727960" y="2288880"/>
                <a:ext cx="368280" cy="247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Н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Rectangle 17"/>
              <p:cNvSpPr/>
              <p:nvPr/>
            </p:nvSpPr>
            <p:spPr>
              <a:xfrm>
                <a:off x="2984400" y="2288880"/>
                <a:ext cx="368280" cy="2476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</a:rPr>
                  <a:t>Д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5"/>
          <p:cNvGrpSpPr/>
          <p:nvPr/>
        </p:nvGrpSpPr>
        <p:grpSpPr>
          <a:xfrm>
            <a:off x="247680" y="870120"/>
            <a:ext cx="8621640" cy="871200"/>
            <a:chOff x="247680" y="870120"/>
            <a:chExt cx="8621640" cy="871200"/>
          </a:xfrm>
        </p:grpSpPr>
        <p:sp>
          <p:nvSpPr>
            <p:cNvPr id="701" name="Rectangle 3"/>
            <p:cNvSpPr/>
            <p:nvPr/>
          </p:nvSpPr>
          <p:spPr>
            <a:xfrm>
              <a:off x="247680" y="870120"/>
              <a:ext cx="862164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5"/>
            <p:cNvSpPr/>
            <p:nvPr/>
          </p:nvSpPr>
          <p:spPr>
            <a:xfrm flipV="1">
              <a:off x="320760" y="149616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3" name="Rectangle 7"/>
          <p:cNvSpPr/>
          <p:nvPr/>
        </p:nvSpPr>
        <p:spPr>
          <a:xfrm>
            <a:off x="339840" y="1411200"/>
            <a:ext cx="8413560" cy="51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ЕМБРАНОПРОЛИФЕРАТИВНИ ГЛОМЕРУЛОНЕФРИТИС ТИП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БРЗОПРОГРЕСИВНИ ОБ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Метилпреднизолон 500-1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 i.v.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фузија/дан, три дана, а зат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еднизон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0.5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Циклофосфамид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500-1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m</a:t>
            </a:r>
            <a:r>
              <a:rPr b="1" i="1" lang="sr-Latn-R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i.v.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ф., 1 месечно у току 6 месеци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зат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500-1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m</a:t>
            </a:r>
            <a:r>
              <a:rPr b="1" i="1" lang="sr-Latn-R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 i.v.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ф., једном у три месеца у току две године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ан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per os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у току 12 недеља (3 месец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лазмафере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концентрација креатинина у серуму мања од 500 </a:t>
            </a:r>
            <a:r>
              <a:rPr b="1" i="1" lang="sr-Latn-R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ol/l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едам сеанси плазмаферезе, сваки дан или сваки други 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мења се 1.0-1.5 волумен плазме (</a:t>
            </a:r>
            <a:r>
              <a:rPr b="1" lang="sr-R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3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лаз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за супституцију плазме користи се 5% раствор албуми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4" name="Group 5"/>
          <p:cNvGrpSpPr/>
          <p:nvPr/>
        </p:nvGrpSpPr>
        <p:grpSpPr>
          <a:xfrm>
            <a:off x="247680" y="870120"/>
            <a:ext cx="8621640" cy="871200"/>
            <a:chOff x="247680" y="870120"/>
            <a:chExt cx="8621640" cy="871200"/>
          </a:xfrm>
        </p:grpSpPr>
        <p:sp>
          <p:nvSpPr>
            <p:cNvPr id="705" name="Rectangle 3"/>
            <p:cNvSpPr/>
            <p:nvPr/>
          </p:nvSpPr>
          <p:spPr>
            <a:xfrm>
              <a:off x="247680" y="870120"/>
              <a:ext cx="8621640" cy="87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МЕМБРАНОПРОЛИФЕРАТИВНИ ГЛОМЕРУЛОНЕФРИТИ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5"/>
            <p:cNvSpPr/>
            <p:nvPr/>
          </p:nvSpPr>
          <p:spPr>
            <a:xfrm flipV="1">
              <a:off x="320760" y="1496160"/>
              <a:ext cx="8433000" cy="1440"/>
            </a:xfrm>
            <a:prstGeom prst="line">
              <a:avLst/>
            </a:prstGeom>
            <a:ln w="38160">
              <a:solidFill>
                <a:srgbClr val="ff75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7" name="Rectangle 7"/>
          <p:cNvSpPr/>
          <p:nvPr/>
        </p:nvSpPr>
        <p:spPr>
          <a:xfrm>
            <a:off x="339840" y="1411200"/>
            <a:ext cx="841356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ЕМБРАНОПРОЛИФЕРАТИВНИ ГЛОМЕРУЛОНЕФРИТИС ТИП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БРЗОПРОГРЕСИВНИ ОБЛ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Метилпреднизоло 500-1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 i.v.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фузија/дан, три дана, а зати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реднизон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0.5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Циклофосфамид 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500-1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m</a:t>
            </a:r>
            <a:r>
              <a:rPr b="1" i="1" lang="sr-Latn-R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i.v.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ф., 1 месечно у току 6 месеци, 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зати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500-1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m</a:t>
            </a:r>
            <a:r>
              <a:rPr b="1" i="1" lang="sr-Latn-RS" sz="1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 i.v.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инф., једном у три месеца у току две године и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2.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g/kg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дан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per os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у току 12 недеља (3 месец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7575"/>
              </a:buClr>
              <a:buFont typeface="Wingdings 2" charset="2"/>
              <a:buChar char="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лазмаферез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концентрација креатинина у серуму мања од 500 </a:t>
            </a:r>
            <a:r>
              <a:rPr b="1" i="1" lang="sr-Latn-RS" sz="16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ol/l</a:t>
            </a:r>
            <a:r>
              <a:rPr b="1" i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седам сеанси плазмаферезе, сваки дан или сваки други да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мења се 1.0-1.5 волумен плазме (</a:t>
            </a:r>
            <a:r>
              <a:rPr b="1" lang="sr-RS" sz="1600" spc="-1" strike="noStrike">
                <a:solidFill>
                  <a:srgbClr val="000000"/>
                </a:solidFill>
                <a:latin typeface="Symbol"/>
                <a:ea typeface="Symbol"/>
              </a:rPr>
              <a:t>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3000 </a:t>
            </a:r>
            <a:r>
              <a:rPr b="1" i="1" lang="sr-Latn-RS" sz="1600" spc="-1" strike="noStrike">
                <a:solidFill>
                  <a:srgbClr val="000000"/>
                </a:solidFill>
                <a:latin typeface="Arial"/>
              </a:rPr>
              <a:t>ml</a:t>
            </a:r>
            <a:r>
              <a:rPr b="1" lang="sr-Latn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плазм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RS" sz="1600" spc="-1" strike="noStrike">
                <a:solidFill>
                  <a:srgbClr val="000000"/>
                </a:solidFill>
                <a:latin typeface="Arial"/>
              </a:rPr>
              <a:t>за супституцију плазме користи се свежа смрзнута плаз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tabLst>
                <a:tab algn="l" pos="0"/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ff7575"/>
              </a:buClr>
              <a:buFont typeface="Wingdings" charset="2"/>
              <a:buChar char=""/>
              <a:tabLst>
                <a:tab algn="l" pos="262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Group 30"/>
          <p:cNvGrpSpPr/>
          <p:nvPr/>
        </p:nvGrpSpPr>
        <p:grpSpPr>
          <a:xfrm>
            <a:off x="262080" y="971640"/>
            <a:ext cx="8621640" cy="5513400"/>
            <a:chOff x="262080" y="971640"/>
            <a:chExt cx="8621640" cy="5513400"/>
          </a:xfrm>
        </p:grpSpPr>
        <p:sp>
          <p:nvSpPr>
            <p:cNvPr id="73" name="Rectangle 3"/>
            <p:cNvSpPr/>
            <p:nvPr/>
          </p:nvSpPr>
          <p:spPr>
            <a:xfrm>
              <a:off x="262080" y="971640"/>
              <a:ext cx="862164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Line 5"/>
            <p:cNvSpPr/>
            <p:nvPr/>
          </p:nvSpPr>
          <p:spPr>
            <a:xfrm flipV="1">
              <a:off x="306360" y="1460880"/>
              <a:ext cx="8433000" cy="1440"/>
            </a:xfrm>
            <a:prstGeom prst="line">
              <a:avLst/>
            </a:prstGeom>
            <a:ln w="381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8"/>
            <p:cNvSpPr/>
            <p:nvPr/>
          </p:nvSpPr>
          <p:spPr>
            <a:xfrm>
              <a:off x="3321000" y="1526400"/>
              <a:ext cx="2509920" cy="4089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Нефротски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синдром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10"/>
            <p:cNvSpPr/>
            <p:nvPr/>
          </p:nvSpPr>
          <p:spPr>
            <a:xfrm>
              <a:off x="4577040" y="193572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1"/>
            <p:cNvSpPr/>
            <p:nvPr/>
          </p:nvSpPr>
          <p:spPr>
            <a:xfrm>
              <a:off x="3326040" y="2153160"/>
              <a:ext cx="2509920" cy="668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лбуминур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1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100" spc="-1" strike="noStrike">
                  <a:solidFill>
                    <a:srgbClr val="000000"/>
                  </a:solidFill>
                  <a:latin typeface="Arial"/>
                </a:rPr>
                <a:t>разградња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100" spc="-1" strike="noStrike">
                  <a:solidFill>
                    <a:srgbClr val="000000"/>
                  </a:solidFill>
                  <a:latin typeface="Arial"/>
                </a:rPr>
                <a:t>протеина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1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1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100" spc="-1" strike="noStrike">
                  <a:solidFill>
                    <a:srgbClr val="000000"/>
                  </a:solidFill>
                  <a:latin typeface="Arial"/>
                </a:rPr>
                <a:t>тубулима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2"/>
            <p:cNvSpPr/>
            <p:nvPr/>
          </p:nvSpPr>
          <p:spPr>
            <a:xfrm>
              <a:off x="3323520" y="3039120"/>
              <a:ext cx="2509920" cy="479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хипоалбуминемиј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15-20 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g/l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3"/>
            <p:cNvSpPr/>
            <p:nvPr/>
          </p:nvSpPr>
          <p:spPr>
            <a:xfrm>
              <a:off x="4581720" y="283140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4"/>
            <p:cNvSpPr/>
            <p:nvPr/>
          </p:nvSpPr>
          <p:spPr>
            <a:xfrm>
              <a:off x="3318840" y="3734640"/>
              <a:ext cx="2509920" cy="523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онкотск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ритисак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плазме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(</a:t>
              </a:r>
              <a:r>
                <a:rPr b="1" lang="sr-C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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 10-12 </a:t>
              </a:r>
              <a:r>
                <a:rPr b="1" i="1" lang="sr-Latn-CS" sz="1200" spc="-1" strike="noStrike">
                  <a:solidFill>
                    <a:srgbClr val="000000"/>
                  </a:solidFill>
                  <a:latin typeface="Arial"/>
                </a:rPr>
                <a:t>mmHg</a:t>
              </a:r>
              <a:r>
                <a:rPr b="1" i="1" lang="sr-CS" sz="12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5"/>
            <p:cNvSpPr/>
            <p:nvPr/>
          </p:nvSpPr>
          <p:spPr>
            <a:xfrm>
              <a:off x="4577040" y="352692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6"/>
            <p:cNvSpPr/>
            <p:nvPr/>
          </p:nvSpPr>
          <p:spPr>
            <a:xfrm>
              <a:off x="4572000" y="4273200"/>
              <a:ext cx="0" cy="144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7"/>
            <p:cNvSpPr/>
            <p:nvPr/>
          </p:nvSpPr>
          <p:spPr>
            <a:xfrm>
              <a:off x="2830680" y="4417560"/>
              <a:ext cx="339552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8"/>
            <p:cNvSpPr/>
            <p:nvPr/>
          </p:nvSpPr>
          <p:spPr>
            <a:xfrm>
              <a:off x="2832120" y="441936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9"/>
            <p:cNvSpPr/>
            <p:nvPr/>
          </p:nvSpPr>
          <p:spPr>
            <a:xfrm>
              <a:off x="6226200" y="441828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0"/>
            <p:cNvSpPr/>
            <p:nvPr/>
          </p:nvSpPr>
          <p:spPr>
            <a:xfrm>
              <a:off x="1579680" y="4628880"/>
              <a:ext cx="2509920" cy="479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мањен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интраваскуларни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волуме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21"/>
            <p:cNvSpPr/>
            <p:nvPr/>
          </p:nvSpPr>
          <p:spPr>
            <a:xfrm>
              <a:off x="4951440" y="4624200"/>
              <a:ext cx="2509920" cy="479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трансудација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sr-Latn-C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у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интерстицијумски</a:t>
              </a:r>
              <a:r>
                <a:rPr b="1" lang="sr-Latn-C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200" spc="-1" strike="noStrike">
                  <a:solidFill>
                    <a:srgbClr val="000000"/>
                  </a:solidFill>
                  <a:latin typeface="Arial"/>
                </a:rPr>
                <a:t>простор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2"/>
            <p:cNvSpPr/>
            <p:nvPr/>
          </p:nvSpPr>
          <p:spPr>
            <a:xfrm>
              <a:off x="2836800" y="511236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23"/>
            <p:cNvSpPr/>
            <p:nvPr/>
          </p:nvSpPr>
          <p:spPr>
            <a:xfrm>
              <a:off x="1579680" y="5310000"/>
              <a:ext cx="2509920" cy="479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ктивација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РААС</a:t>
              </a:r>
              <a:r>
                <a:rPr b="1" lang="sr-Latn-CS" sz="16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r>
                <a:rPr b="1" lang="sr-CS" sz="1600" spc="-1" strike="noStrike">
                  <a:solidFill>
                    <a:srgbClr val="000000"/>
                  </a:solidFill>
                  <a:latin typeface="Arial"/>
                </a:rPr>
                <a:t>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5"/>
            <p:cNvSpPr/>
            <p:nvPr/>
          </p:nvSpPr>
          <p:spPr>
            <a:xfrm>
              <a:off x="2832120" y="579600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26"/>
            <p:cNvSpPr/>
            <p:nvPr/>
          </p:nvSpPr>
          <p:spPr>
            <a:xfrm>
              <a:off x="1574640" y="6005520"/>
              <a:ext cx="2509920" cy="479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секундарна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ретенција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Na</a:t>
              </a:r>
              <a:r>
                <a:rPr b="1" i="1" lang="sr-Latn-CS" sz="1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1" lang="sr-Latn-CS" sz="1400" spc="-1" strike="noStrike">
                  <a:solidFill>
                    <a:srgbClr val="000000"/>
                  </a:solidFill>
                  <a:latin typeface="Arial"/>
                </a:rPr>
                <a:t> и</a:t>
              </a:r>
              <a:r>
                <a:rPr b="1" lang="sr-C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1" i="1" lang="sr-Latn-CS" sz="14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i="1" lang="sr-Latn-CS" sz="1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27"/>
            <p:cNvSpPr/>
            <p:nvPr/>
          </p:nvSpPr>
          <p:spPr>
            <a:xfrm>
              <a:off x="5241960" y="5305320"/>
              <a:ext cx="1928520" cy="47952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000" spc="-1" strike="noStrike">
                  <a:solidFill>
                    <a:srgbClr val="ffffff"/>
                  </a:solidFill>
                  <a:latin typeface="Arial"/>
                </a:rPr>
                <a:t>ЕД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Line 28"/>
            <p:cNvSpPr/>
            <p:nvPr/>
          </p:nvSpPr>
          <p:spPr>
            <a:xfrm>
              <a:off x="6226200" y="5108400"/>
              <a:ext cx="0" cy="2030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Line 29"/>
            <p:cNvSpPr/>
            <p:nvPr/>
          </p:nvSpPr>
          <p:spPr>
            <a:xfrm>
              <a:off x="4092840" y="6242400"/>
              <a:ext cx="2133360" cy="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0"/>
            <p:cNvSpPr/>
            <p:nvPr/>
          </p:nvSpPr>
          <p:spPr>
            <a:xfrm flipV="1">
              <a:off x="6226200" y="5776920"/>
              <a:ext cx="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16"/>
          <p:cNvGrpSpPr/>
          <p:nvPr/>
        </p:nvGrpSpPr>
        <p:grpSpPr>
          <a:xfrm>
            <a:off x="138240" y="1066680"/>
            <a:ext cx="8867520" cy="5596200"/>
            <a:chOff x="138240" y="1066680"/>
            <a:chExt cx="8867520" cy="5596200"/>
          </a:xfrm>
        </p:grpSpPr>
        <p:sp>
          <p:nvSpPr>
            <p:cNvPr id="97" name="Rectangle 3"/>
            <p:cNvSpPr/>
            <p:nvPr/>
          </p:nvSpPr>
          <p:spPr>
            <a:xfrm>
              <a:off x="247680" y="1066680"/>
              <a:ext cx="8636040" cy="4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ЛЕЧЕЊЕ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ЕДЕМ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У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НЕФРОТСКОМ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ИНДРОМУ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6"/>
            <p:cNvSpPr/>
            <p:nvPr/>
          </p:nvSpPr>
          <p:spPr>
            <a:xfrm>
              <a:off x="138240" y="1544400"/>
              <a:ext cx="8867520" cy="5118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55"/>
            <p:cNvGrpSpPr/>
            <p:nvPr/>
          </p:nvGrpSpPr>
          <p:grpSpPr>
            <a:xfrm>
              <a:off x="291960" y="1603080"/>
              <a:ext cx="8574120" cy="4653360"/>
              <a:chOff x="291960" y="1603080"/>
              <a:chExt cx="8574120" cy="4653360"/>
            </a:xfrm>
          </p:grpSpPr>
          <p:sp>
            <p:nvSpPr>
              <p:cNvPr id="100" name="Rectangle 44"/>
              <p:cNvSpPr/>
              <p:nvPr/>
            </p:nvSpPr>
            <p:spPr>
              <a:xfrm>
                <a:off x="291960" y="1603080"/>
                <a:ext cx="1725120" cy="108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БЛАГ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Rectangle 45"/>
              <p:cNvSpPr/>
              <p:nvPr/>
            </p:nvSpPr>
            <p:spPr>
              <a:xfrm>
                <a:off x="2017080" y="1603080"/>
                <a:ext cx="6846480" cy="108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рестрикциј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уноса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NaC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(3-4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g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NaCl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хидрохлортиазид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12.5-5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JGF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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5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ml/min/1.73m</a:t>
                </a:r>
                <a:r>
                  <a:rPr b="1" i="1" lang="sr-Latn-CS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фуросемид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40-8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mg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/</a:t>
                </a:r>
                <a:r>
                  <a:rPr b="1" lang="sr-CS" sz="1600" spc="-1" strike="noStrike">
                    <a:solidFill>
                      <a:srgbClr val="000000"/>
                    </a:solidFill>
                    <a:latin typeface="Arial"/>
                  </a:rPr>
                  <a:t>дан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(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JGF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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 50 </a:t>
                </a:r>
                <a:r>
                  <a:rPr b="1" i="1" lang="sr-Latn-CS" sz="1600" spc="-1" strike="noStrike">
                    <a:solidFill>
                      <a:srgbClr val="000000"/>
                    </a:solidFill>
                    <a:latin typeface="Arial"/>
                  </a:rPr>
                  <a:t>ml/min/1.73m</a:t>
                </a:r>
                <a:r>
                  <a:rPr b="1" i="1" lang="sr-Latn-CS" sz="1600" spc="-1" strike="noStrike" baseline="30000">
                    <a:solidFill>
                      <a:srgbClr val="000000"/>
                    </a:solidFill>
                    <a:latin typeface="Arial"/>
                  </a:rPr>
                  <a:t>2</a:t>
                </a:r>
                <a:r>
                  <a:rPr b="1" lang="sr-Latn-CS" sz="1600" spc="-1" strike="noStrike">
                    <a:solidFill>
                      <a:srgbClr val="000000"/>
                    </a:solidFill>
                    <a:latin typeface="Arial"/>
                  </a:rPr>
                  <a:t>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" name="Group 48"/>
              <p:cNvGrpSpPr/>
              <p:nvPr/>
            </p:nvGrpSpPr>
            <p:grpSpPr>
              <a:xfrm>
                <a:off x="291960" y="2689200"/>
                <a:ext cx="8571960" cy="1086120"/>
                <a:chOff x="291960" y="2689200"/>
                <a:chExt cx="8571960" cy="1086120"/>
              </a:xfrm>
            </p:grpSpPr>
            <p:sp>
              <p:nvSpPr>
                <p:cNvPr id="103" name="Rectangle 46"/>
                <p:cNvSpPr/>
                <p:nvPr/>
              </p:nvSpPr>
              <p:spPr>
                <a:xfrm>
                  <a:off x="291960" y="2689200"/>
                  <a:ext cx="1725120" cy="10861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МЕРЕ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Rectangle 47"/>
                <p:cNvSpPr/>
                <p:nvPr/>
              </p:nvSpPr>
              <p:spPr>
                <a:xfrm>
                  <a:off x="2017080" y="2689200"/>
                  <a:ext cx="6846840" cy="10861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стрикц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нос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NaCl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фуросеми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160-48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буметами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1-2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торсеми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40-16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" name="Group 49"/>
              <p:cNvGrpSpPr/>
              <p:nvPr/>
            </p:nvGrpSpPr>
            <p:grpSpPr>
              <a:xfrm>
                <a:off x="294120" y="3775320"/>
                <a:ext cx="8571960" cy="1086120"/>
                <a:chOff x="294120" y="3775320"/>
                <a:chExt cx="8571960" cy="1086120"/>
              </a:xfrm>
            </p:grpSpPr>
            <p:sp>
              <p:nvSpPr>
                <p:cNvPr id="106" name="Rectangle 50"/>
                <p:cNvSpPr/>
                <p:nvPr/>
              </p:nvSpPr>
              <p:spPr>
                <a:xfrm>
                  <a:off x="294120" y="3775320"/>
                  <a:ext cx="1725120" cy="10861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400" spc="-1" strike="noStrike">
                      <a:solidFill>
                        <a:srgbClr val="000000"/>
                      </a:solidFill>
                      <a:latin typeface="Arial"/>
                    </a:rPr>
                    <a:t>ТЕЖАК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Rectangle 51"/>
                <p:cNvSpPr/>
                <p:nvPr/>
              </p:nvSpPr>
              <p:spPr>
                <a:xfrm>
                  <a:off x="2019240" y="3775320"/>
                  <a:ext cx="6846840" cy="108612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стрикц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нос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NaCl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фуросеми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160-48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per os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i.v.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буметанид или</a:t>
                  </a: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торсеми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плус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метолазон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2.5-1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/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да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Group 52"/>
              <p:cNvGrpSpPr/>
              <p:nvPr/>
            </p:nvGrpSpPr>
            <p:grpSpPr>
              <a:xfrm>
                <a:off x="294120" y="4861440"/>
                <a:ext cx="8571960" cy="1395000"/>
                <a:chOff x="294120" y="4861440"/>
                <a:chExt cx="8571960" cy="1395000"/>
              </a:xfrm>
            </p:grpSpPr>
            <p:sp>
              <p:nvSpPr>
                <p:cNvPr id="109" name="Rectangle 53"/>
                <p:cNvSpPr/>
                <p:nvPr/>
              </p:nvSpPr>
              <p:spPr>
                <a:xfrm>
                  <a:off x="294120" y="4861440"/>
                  <a:ext cx="1725120" cy="1395000"/>
                </a:xfrm>
                <a:prstGeom prst="rect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CS" sz="1600" spc="-1" strike="noStrike">
                      <a:solidFill>
                        <a:srgbClr val="ffffff"/>
                      </a:solidFill>
                      <a:latin typeface="Arial"/>
                    </a:rPr>
                    <a:t>РЕФРАКТАРАН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Rectangle 54"/>
                <p:cNvSpPr/>
                <p:nvPr/>
              </p:nvSpPr>
              <p:spPr>
                <a:xfrm>
                  <a:off x="2019240" y="4861440"/>
                  <a:ext cx="6846840" cy="1395000"/>
                </a:xfrm>
                <a:prstGeom prst="rect">
                  <a:avLst/>
                </a:prstGeom>
                <a:noFill/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рестрикц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нос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NaCl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нтинуира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i.v.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нфуз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фуросемид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(2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/h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)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нтинуира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i.v.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нфуз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буметанид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(1.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/h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)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нфуз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албуми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(25-50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) + 120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mg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фуросемид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или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buClr>
                      <a:srgbClr val="000000"/>
                    </a:buClr>
                    <a:buFont typeface="Arial"/>
                    <a:buChar char="•"/>
                    <a:tabLst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спор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континуиран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r>
                    <a:rPr b="1" lang="sr-CS" sz="1600" spc="-1" strike="noStrike">
                      <a:solidFill>
                        <a:srgbClr val="000000"/>
                      </a:solidFill>
                      <a:latin typeface="Arial"/>
                    </a:rPr>
                    <a:t>ултрафилтрација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- </a:t>
                  </a:r>
                  <a:r>
                    <a:rPr b="1" i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SCUF</a:t>
                  </a:r>
                  <a:r>
                    <a:rPr b="1" lang="sr-Latn-CS" sz="16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" name="Line 4"/>
            <p:cNvSpPr/>
            <p:nvPr/>
          </p:nvSpPr>
          <p:spPr>
            <a:xfrm>
              <a:off x="138240" y="1498320"/>
              <a:ext cx="886752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42"/>
          <p:cNvGrpSpPr/>
          <p:nvPr/>
        </p:nvGrpSpPr>
        <p:grpSpPr>
          <a:xfrm>
            <a:off x="123840" y="1150920"/>
            <a:ext cx="8867880" cy="5531040"/>
            <a:chOff x="123840" y="1150920"/>
            <a:chExt cx="8867880" cy="5531040"/>
          </a:xfrm>
        </p:grpSpPr>
        <p:grpSp>
          <p:nvGrpSpPr>
            <p:cNvPr id="113" name="Group 46"/>
            <p:cNvGrpSpPr/>
            <p:nvPr/>
          </p:nvGrpSpPr>
          <p:grpSpPr>
            <a:xfrm>
              <a:off x="834840" y="1198440"/>
              <a:ext cx="7218720" cy="5483520"/>
              <a:chOff x="834840" y="1198440"/>
              <a:chExt cx="7218720" cy="5483520"/>
            </a:xfrm>
          </p:grpSpPr>
          <p:sp>
            <p:nvSpPr>
              <p:cNvPr id="114" name="Rectangle 9"/>
              <p:cNvSpPr/>
              <p:nvPr/>
            </p:nvSpPr>
            <p:spPr>
              <a:xfrm>
                <a:off x="2944800" y="1198440"/>
                <a:ext cx="3308040" cy="227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ДИУРЕТИЦИ ХЕНЛЕОВЕ ПЕТЉЕ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0"/>
              <p:cNvSpPr/>
              <p:nvPr/>
            </p:nvSpPr>
            <p:spPr>
              <a:xfrm>
                <a:off x="4595760" y="1425960"/>
                <a:ext cx="0" cy="155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1"/>
              <p:cNvSpPr/>
              <p:nvPr/>
            </p:nvSpPr>
            <p:spPr>
              <a:xfrm>
                <a:off x="3450960" y="1582560"/>
                <a:ext cx="2292480" cy="600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излучивање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мокраћом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a</a:t>
                </a:r>
                <a:r>
                  <a:rPr b="1" i="1" lang="sr-Latn-CS" sz="1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K</a:t>
                </a:r>
                <a:r>
                  <a:rPr b="1" i="1" lang="sr-Latn-CS" sz="1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+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Ca</a:t>
                </a:r>
                <a:r>
                  <a:rPr b="1" i="1" lang="sr-Latn-CS" sz="1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+</a:t>
                </a:r>
                <a:r>
                  <a:rPr b="1" i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, Mg</a:t>
                </a:r>
                <a:r>
                  <a:rPr b="1" i="1" lang="sr-Latn-CS" sz="1400" spc="-1" strike="noStrike" baseline="30000">
                    <a:solidFill>
                      <a:srgbClr val="000000"/>
                    </a:solidFill>
                    <a:latin typeface="Arial"/>
                    <a:ea typeface="Arial"/>
                  </a:rPr>
                  <a:t>2+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2"/>
              <p:cNvSpPr/>
              <p:nvPr/>
            </p:nvSpPr>
            <p:spPr>
              <a:xfrm>
                <a:off x="4610160" y="2184480"/>
                <a:ext cx="0" cy="171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3"/>
              <p:cNvSpPr/>
              <p:nvPr/>
            </p:nvSpPr>
            <p:spPr>
              <a:xfrm>
                <a:off x="3668760" y="2352240"/>
                <a:ext cx="1871640" cy="4046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4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уњење</a:t>
                </a:r>
                <a:r>
                  <a:rPr b="1" lang="sr-Latn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ртер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4"/>
              <p:cNvSpPr/>
              <p:nvPr/>
            </p:nvSpPr>
            <p:spPr>
              <a:xfrm>
                <a:off x="4606920" y="2758680"/>
                <a:ext cx="0" cy="128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5"/>
              <p:cNvSpPr/>
              <p:nvPr/>
            </p:nvSpPr>
            <p:spPr>
              <a:xfrm>
                <a:off x="1807920" y="2890440"/>
                <a:ext cx="56059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6"/>
              <p:cNvSpPr/>
              <p:nvPr/>
            </p:nvSpPr>
            <p:spPr>
              <a:xfrm>
                <a:off x="4607640" y="2890440"/>
                <a:ext cx="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7"/>
              <p:cNvSpPr/>
              <p:nvPr/>
            </p:nvSpPr>
            <p:spPr>
              <a:xfrm>
                <a:off x="3962520" y="3106440"/>
                <a:ext cx="1276200" cy="5778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реапсорпц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ц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и</a:t>
                </a: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м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8"/>
              <p:cNvSpPr/>
              <p:nvPr/>
            </p:nvSpPr>
            <p:spPr>
              <a:xfrm>
                <a:off x="3214440" y="2893680"/>
                <a:ext cx="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9"/>
              <p:cNvSpPr/>
              <p:nvPr/>
            </p:nvSpPr>
            <p:spPr>
              <a:xfrm>
                <a:off x="2571480" y="3103920"/>
                <a:ext cx="1276200" cy="58248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ff"/>
                    </a:solidFill>
                    <a:latin typeface="Symbol"/>
                    <a:ea typeface="Symbol"/>
                  </a:rPr>
                  <a:t></a:t>
                </a:r>
                <a:r>
                  <a:rPr b="1" i="1" lang="sr-Latn-C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r>
                  <a:rPr b="1" i="1" lang="en-US" sz="20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JGF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0"/>
              <p:cNvSpPr/>
              <p:nvPr/>
            </p:nvSpPr>
            <p:spPr>
              <a:xfrm>
                <a:off x="1166400" y="3096720"/>
                <a:ext cx="1276200" cy="58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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i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ardia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outpu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Line 21"/>
              <p:cNvSpPr/>
              <p:nvPr/>
            </p:nvSpPr>
            <p:spPr>
              <a:xfrm>
                <a:off x="7420320" y="2890440"/>
                <a:ext cx="0" cy="207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2"/>
              <p:cNvSpPr/>
              <p:nvPr/>
            </p:nvSpPr>
            <p:spPr>
              <a:xfrm>
                <a:off x="6770880" y="3106440"/>
                <a:ext cx="1276200" cy="5763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ВП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3"/>
              <p:cNvSpPr/>
              <p:nvPr/>
            </p:nvSpPr>
            <p:spPr>
              <a:xfrm>
                <a:off x="5362560" y="3106440"/>
                <a:ext cx="1276200" cy="5778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Р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24"/>
              <p:cNvSpPr/>
              <p:nvPr/>
            </p:nvSpPr>
            <p:spPr>
              <a:xfrm>
                <a:off x="4602240" y="3684240"/>
                <a:ext cx="0" cy="212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"/>
              <p:cNvSpPr/>
              <p:nvPr/>
            </p:nvSpPr>
            <p:spPr>
              <a:xfrm>
                <a:off x="3965400" y="3897000"/>
                <a:ext cx="1272960" cy="58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sr-Latn-C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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лиренс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ц</a:t>
                </a: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.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урицум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26"/>
              <p:cNvSpPr/>
              <p:nvPr/>
            </p:nvSpPr>
            <p:spPr>
              <a:xfrm>
                <a:off x="3224160" y="3689280"/>
                <a:ext cx="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7"/>
              <p:cNvSpPr/>
              <p:nvPr/>
            </p:nvSpPr>
            <p:spPr>
              <a:xfrm>
                <a:off x="2574720" y="3897000"/>
                <a:ext cx="1276200" cy="58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пререналн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зотем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8"/>
              <p:cNvSpPr/>
              <p:nvPr/>
            </p:nvSpPr>
            <p:spPr>
              <a:xfrm>
                <a:off x="1169640" y="3897000"/>
                <a:ext cx="1276200" cy="58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потенз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29"/>
              <p:cNvSpPr/>
              <p:nvPr/>
            </p:nvSpPr>
            <p:spPr>
              <a:xfrm>
                <a:off x="7420320" y="3682080"/>
                <a:ext cx="0" cy="20160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30"/>
              <p:cNvSpPr/>
              <p:nvPr/>
            </p:nvSpPr>
            <p:spPr>
              <a:xfrm>
                <a:off x="6777360" y="3892320"/>
                <a:ext cx="1276200" cy="58248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понатрием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31"/>
              <p:cNvSpPr/>
              <p:nvPr/>
            </p:nvSpPr>
            <p:spPr>
              <a:xfrm>
                <a:off x="5359320" y="3902040"/>
                <a:ext cx="1276200" cy="568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алдостерон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32"/>
              <p:cNvSpPr/>
              <p:nvPr/>
            </p:nvSpPr>
            <p:spPr>
              <a:xfrm>
                <a:off x="1807920" y="3684240"/>
                <a:ext cx="0" cy="196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33"/>
              <p:cNvSpPr/>
              <p:nvPr/>
            </p:nvSpPr>
            <p:spPr>
              <a:xfrm>
                <a:off x="1807920" y="2890440"/>
                <a:ext cx="0" cy="1965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34"/>
              <p:cNvSpPr/>
              <p:nvPr/>
            </p:nvSpPr>
            <p:spPr>
              <a:xfrm>
                <a:off x="6005520" y="2890440"/>
                <a:ext cx="0" cy="2095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35"/>
              <p:cNvSpPr/>
              <p:nvPr/>
            </p:nvSpPr>
            <p:spPr>
              <a:xfrm>
                <a:off x="6002640" y="3682800"/>
                <a:ext cx="0" cy="222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36"/>
              <p:cNvSpPr/>
              <p:nvPr/>
            </p:nvSpPr>
            <p:spPr>
              <a:xfrm>
                <a:off x="5362560" y="4638600"/>
                <a:ext cx="1276200" cy="568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buClr>
                    <a:srgbClr val="000000"/>
                  </a:buClr>
                  <a:buFont typeface="Symbol" charset="2"/>
                  <a:buChar char="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Latn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калиурез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37"/>
              <p:cNvSpPr/>
              <p:nvPr/>
            </p:nvSpPr>
            <p:spPr>
              <a:xfrm>
                <a:off x="5365800" y="5374800"/>
                <a:ext cx="1276200" cy="5684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покалиемија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38"/>
              <p:cNvSpPr/>
              <p:nvPr/>
            </p:nvSpPr>
            <p:spPr>
              <a:xfrm>
                <a:off x="5999400" y="4472640"/>
                <a:ext cx="0" cy="162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40"/>
              <p:cNvSpPr/>
              <p:nvPr/>
            </p:nvSpPr>
            <p:spPr>
              <a:xfrm flipH="1">
                <a:off x="3084120" y="1892160"/>
                <a:ext cx="3553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41"/>
              <p:cNvSpPr/>
              <p:nvPr/>
            </p:nvSpPr>
            <p:spPr>
              <a:xfrm>
                <a:off x="1169640" y="1641240"/>
                <a:ext cx="1893960" cy="500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помагнезем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хипокалцемија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42"/>
              <p:cNvSpPr/>
              <p:nvPr/>
            </p:nvSpPr>
            <p:spPr>
              <a:xfrm flipH="1">
                <a:off x="837360" y="1892160"/>
                <a:ext cx="33156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43"/>
              <p:cNvSpPr/>
              <p:nvPr/>
            </p:nvSpPr>
            <p:spPr>
              <a:xfrm>
                <a:off x="834840" y="1892160"/>
                <a:ext cx="0" cy="45057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44"/>
              <p:cNvSpPr/>
              <p:nvPr/>
            </p:nvSpPr>
            <p:spPr>
              <a:xfrm>
                <a:off x="5365800" y="6113520"/>
                <a:ext cx="1276200" cy="568440"/>
              </a:xfrm>
              <a:prstGeom prst="rect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срчана</a:t>
                </a:r>
                <a:r>
                  <a:rPr b="1" lang="sr-Latn-C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sr-C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аритмија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45"/>
              <p:cNvSpPr/>
              <p:nvPr/>
            </p:nvSpPr>
            <p:spPr>
              <a:xfrm>
                <a:off x="6005520" y="5943240"/>
                <a:ext cx="0" cy="1702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46"/>
              <p:cNvSpPr/>
              <p:nvPr/>
            </p:nvSpPr>
            <p:spPr>
              <a:xfrm>
                <a:off x="837720" y="6398280"/>
                <a:ext cx="452772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Straight Connector 45"/>
              <p:cNvSpPr/>
              <p:nvPr/>
            </p:nvSpPr>
            <p:spPr>
              <a:xfrm>
                <a:off x="2350800" y="3897360"/>
                <a:ext cx="334800" cy="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Line 4"/>
            <p:cNvSpPr/>
            <p:nvPr/>
          </p:nvSpPr>
          <p:spPr>
            <a:xfrm>
              <a:off x="123840" y="1150920"/>
              <a:ext cx="8867880" cy="0"/>
            </a:xfrm>
            <a:prstGeom prst="line">
              <a:avLst/>
            </a:prstGeom>
            <a:ln w="38160">
              <a:solidFill>
                <a:srgbClr val="ff797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Line 38"/>
            <p:cNvSpPr/>
            <p:nvPr/>
          </p:nvSpPr>
          <p:spPr>
            <a:xfrm>
              <a:off x="6004080" y="5207040"/>
              <a:ext cx="0" cy="163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Rectangle 9"/>
          <p:cNvSpPr/>
          <p:nvPr/>
        </p:nvSpPr>
        <p:spPr>
          <a:xfrm>
            <a:off x="123840" y="893880"/>
            <a:ext cx="4000320" cy="22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Нежељено дејство диуретика Х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Dejan</cp:lastModifiedBy>
  <dcterms:modified xsi:type="dcterms:W3CDTF">2019-08-08T10:40:39Z</dcterms:modified>
  <cp:revision>263</cp:revision>
  <dc:subject/>
  <dc:title>Slide 1</dc:title>
</cp:coreProperties>
</file>