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BB4BA-2164-43A6-ADE5-5868E2B8F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1922-AECC-4940-9306-CB26452D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F59C-141D-4870-9900-B749FC6722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2198A-BB79-41F7-80AB-C7FB0C58E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45EAB-03C3-40ED-9758-9BB2269D4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F737A-8748-4316-8421-3F01C5BB8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F76C-F591-4B78-A006-6C5A829EE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326F-314F-4D82-89CF-A864290D9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582-BB9E-4961-97A2-411BCF9B4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E4DE-F1BD-4EF4-9200-CEA46C645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5B75B-6CA7-45B4-8D6F-78E4B8C0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A2AEE-2C82-4474-8D68-6A9C10DB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AE19-A596-4379-A04D-91AFB0F0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A85C-FAF6-4C58-AD9D-9DD2FDEA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FE5AE-CC54-4F63-A810-95283D4C2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1354D-9A03-4AD2-99FB-8B5DC50DB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15240-8623-462B-96D6-2D7E68F0B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316B-CD48-4118-B676-C2D6B201D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C331-D7EC-4E15-8845-78A889C90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0B6-D31A-4319-9921-786E58F52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B52-2D69-4ADA-991B-BE007858F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478-5350-45FE-BD2A-9D9C0D0F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553A6-97C1-470B-8D07-F5EC6E2F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AAC0-9559-4336-B877-72C83CC9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E831-C62E-4638-80DB-5D488ED70984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>
              <a:gd name="textAreaLeft" fmla="*/ 0 w 8229600"/>
              <a:gd name="textAreaRight" fmla="*/ 8229960 w 822960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>
              <a:gd name="textAreaLeft" fmla="*/ 0 w 7925040"/>
              <a:gd name="textAreaRight" fmla="*/ 7925400 w 792504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B04D2-80CC-4272-8643-1D2452AC36DF}" type="slidenum">
              <a:rPr b="0" lang="sr-Latn-C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9280" y="1523520"/>
            <a:ext cx="828036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6633"/>
                </a:solidFill>
                <a:latin typeface="Garamond"/>
              </a:rPr>
              <a:t>ПОРЕМЕЋАЈ МЕТАБОЛИЗМА ЕЛЕКТРОЛИТА И ВОДЕ</a:t>
            </a:r>
            <a:endParaRPr b="0" lang="en-US" sz="4000" spc="-1" strike="noStrike">
              <a:solidFill>
                <a:srgbClr val="006633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7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2068560"/>
            <a:ext cx="8362800" cy="38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Антагонизовање ефеката К</a:t>
            </a:r>
            <a:r>
              <a:rPr b="1" lang="sr-Latn-CS" sz="1800" spc="-1" strike="noStrike" baseline="30000">
                <a:solidFill>
                  <a:srgbClr val="3b812f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8,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100-30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a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-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glukon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-3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л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реусмеравање К</a:t>
            </a:r>
            <a:r>
              <a:rPr b="1" lang="sr-Latn-CS" sz="1800" spc="-1" strike="noStrike" baseline="30000">
                <a:solidFill>
                  <a:srgbClr val="3b812f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у ћелијск</a:t>
            </a:r>
            <a:r>
              <a:rPr b="1" lang="sr-Latn-CS" sz="1800" spc="-1" strike="noStrike">
                <a:solidFill>
                  <a:srgbClr val="3b812f"/>
                </a:solidFill>
                <a:latin typeface="Arial"/>
              </a:rPr>
              <a:t>и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 простор</a:t>
            </a:r>
            <a:r>
              <a:rPr b="0" lang="en-US" sz="1800" spc="-1" strike="noStrike">
                <a:solidFill>
                  <a:srgbClr val="3b812f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0%-5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гликозе са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ј Инсулин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ry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р. глико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en-US" sz="1800" spc="-1" strike="noStrike">
                <a:solidFill>
                  <a:srgbClr val="3b812f"/>
                </a:solidFill>
                <a:latin typeface="Arial"/>
              </a:rPr>
              <a:t>Појачање елимин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Јоноизмењивачке смоле: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Kaexala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Resoniu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Диуретици који не штеде кал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orbitol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дубоке клизм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Хемодијализ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ВОД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33"/>
                </a:solidFill>
                <a:latin typeface="Arial"/>
              </a:rPr>
              <a:t>ДЕХИДРАТАЦ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губитак соли и воде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I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Хипер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-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хипернатријемиј</a:t>
            </a:r>
            <a:r>
              <a:rPr b="0" lang="sr-Latn-CS" sz="1600" spc="-1" strike="noStrike">
                <a:solidFill>
                  <a:srgbClr val="006633"/>
                </a:solidFill>
                <a:latin typeface="Arial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сећај жедји и малаксалост, код деце фебрилнос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ипотензија, колапс и шок са менталном конфузиј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Надокнад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течности-вод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1500" spc="-1" strike="noStrike">
                <a:solidFill>
                  <a:srgbClr val="0000cc"/>
                </a:solidFill>
                <a:latin typeface="Arial"/>
              </a:rPr>
              <a:t>                   </a:t>
            </a:r>
            <a:r>
              <a:rPr b="1" lang="en-US" sz="1200" spc="-1" strike="noStrike">
                <a:solidFill>
                  <a:srgbClr val="0000cc"/>
                </a:solidFill>
                <a:latin typeface="Arial"/>
              </a:rPr>
              <a:t>Дефицит: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н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мална запремина воде (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.м.) - актуелна запремина 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туелна запремина воде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нормална запремина воде x нормалан</a:t>
            </a:r>
            <a:r>
              <a:rPr b="0" lang="sr-Latn-CS" sz="1200" spc="-1" strike="noStrike" u="sng">
                <a:solidFill>
                  <a:srgbClr val="000000"/>
                </a:solidFill>
                <a:uFillTx/>
                <a:latin typeface="Arial"/>
              </a:rPr>
              <a:t> N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а</a:t>
            </a:r>
            <a:r>
              <a:rPr b="0" lang="en-US" sz="1200" spc="-1" strike="noStrike" u="sng" baseline="30000">
                <a:solidFill>
                  <a:srgbClr val="000000"/>
                </a:solidFill>
                <a:uFillTx/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ктуелни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у серу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b812f"/>
                </a:solidFill>
                <a:latin typeface="Arial"/>
              </a:rPr>
              <a:t>II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Хипо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–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хипонатриј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лин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ч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ки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ука, га</a:t>
            </a:r>
            <a:r>
              <a:rPr b="0" lang="sr-CS" sz="1400" spc="-1" strike="noStrike">
                <a:solidFill>
                  <a:srgbClr val="000000"/>
                </a:solidFill>
                <a:latin typeface="Arial"/>
              </a:rPr>
              <a:t>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ње, повраћање, пад притиска, грчеви у мишићи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хипонатријемија, пораст азотемије, протеинемије и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H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 Корекција дефицита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на описани начин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3b812f"/>
                </a:solidFill>
                <a:latin typeface="Arial"/>
              </a:rPr>
              <a:t>III</a:t>
            </a:r>
            <a:r>
              <a:rPr b="0" lang="en-US" sz="16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Изотонијска</a:t>
            </a:r>
            <a:r>
              <a:rPr b="1" lang="sr-Latn-CS" sz="1600" spc="-1" strike="noStrike">
                <a:solidFill>
                  <a:srgbClr val="3b812f"/>
                </a:solidFill>
                <a:latin typeface="Arial"/>
              </a:rPr>
              <a:t> –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6633"/>
                </a:solidFill>
                <a:latin typeface="Arial"/>
              </a:rPr>
              <a:t>пропорционалн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убитак соли и вод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ВОД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39920"/>
            <a:ext cx="84358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6633"/>
                </a:solidFill>
                <a:latin typeface="Arial"/>
              </a:rPr>
              <a:t>ХИПЕРХИДРАТАЦИЈ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(повећање соли и воде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b812f"/>
                </a:solidFill>
                <a:latin typeface="Arial"/>
              </a:rPr>
              <a:t>I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Изотонијска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већање запремине воде уз паралелно повећање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дем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ЕДЕМ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се испољава кад запремина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интерстицијск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течности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буде з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ff3300"/>
                </a:solidFill>
                <a:latin typeface="Arial"/>
              </a:rPr>
              <a:t>10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 већа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д нормалне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С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ознати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знаци едема и стазе различитога степена испољености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иуретици у различитим комбинација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ечење основне болести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3b812f"/>
                </a:solidFill>
                <a:latin typeface="Arial"/>
              </a:rPr>
              <a:t>II 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Хипертонијска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доминира хипер-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која је објашњива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неуношење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оде у току диуретске  терапиј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3b812f"/>
                </a:solidFill>
                <a:latin typeface="Arial"/>
              </a:rPr>
              <a:t>III</a:t>
            </a:r>
            <a:r>
              <a:rPr b="0" lang="en-US" sz="1400" spc="-1" strike="noStrike">
                <a:solidFill>
                  <a:srgbClr val="3b812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3b812f"/>
                </a:solidFill>
                <a:latin typeface="Arial"/>
              </a:rPr>
              <a:t>Хипотонијска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се карактерише повећаном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бубрежн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екс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рецијом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300" spc="-1" strike="noStrike">
                <a:solidFill>
                  <a:srgbClr val="006633"/>
                </a:solidFill>
                <a:latin typeface="Arial"/>
              </a:rPr>
              <a:t>а</a:t>
            </a:r>
            <a:r>
              <a:rPr b="0" lang="en-US" sz="1400" spc="-1" strike="noStrike" baseline="30000">
                <a:solidFill>
                  <a:srgbClr val="006633"/>
                </a:solidFill>
                <a:latin typeface="Arial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у односу на воду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па се  услед вишка телесне воде она из циркулације “редистрибуира” у ћелије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“тровањ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водом”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КС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исана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300" spc="-1" strike="noStrike">
                <a:solidFill>
                  <a:srgbClr val="000000"/>
                </a:solidFill>
                <a:latin typeface="Arial"/>
              </a:rPr>
              <a:t>Тh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762120" indent="-30492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писана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5200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ЕТАБОЛИЧКА АЦИДОЗА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1087200"/>
            <a:ext cx="8229600" cy="56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I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ОВЕЋАНО СТВАРАЊЕ КИС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А.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Кетоацидоз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Дијабетес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Алкохолн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Гладовањ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33cc33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Б.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6633"/>
                </a:solidFill>
                <a:latin typeface="Arial"/>
              </a:rPr>
              <a:t>Лактатна ацидоз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Кардиореспираторна инсуф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.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2. Леков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Ензимопатск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II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СМАЊЕНА ЕЛИМИНАЦИЈА КИСЕЛИН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Бубрежна инсуф.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РТ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III 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3300"/>
                </a:solidFill>
                <a:latin typeface="Arial"/>
              </a:rPr>
              <a:t>ПОВЕЋАН ГУБИТАК АЛКАЛИЈ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ГИТ губици фистулама и проливима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Лекови-инхибитори угљене анхидраз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цидотично Кусмаулово дисање, збуњеност, конфузија, ступор, ко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повећана а</a:t>
            </a:r>
            <a:r>
              <a:rPr b="0" lang="sr-CS" sz="1500" spc="-1" strike="noStrike">
                <a:solidFill>
                  <a:srgbClr val="000000"/>
                </a:solidFill>
                <a:latin typeface="Arial"/>
              </a:rPr>
              <a:t>нј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нска празнина плазме: [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500" spc="-1" strike="noStrike" baseline="30000">
                <a:solidFill>
                  <a:srgbClr val="000000"/>
                </a:solidFill>
                <a:latin typeface="Arial"/>
              </a:rPr>
              <a:t>+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(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3 </a:t>
            </a:r>
            <a:r>
              <a:rPr b="0" lang="sr-Latn-CS" sz="15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] &gt;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Т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Лечење основног поремећај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 Корекција ањонске празнине бикарбонатим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Дефицит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нормалан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- актуелни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 x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т.м.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8.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aHC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5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5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прашком На-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б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арбонат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МЕТАБОЛИЧКА 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АЛКАЛОЗА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1201320"/>
            <a:ext cx="8229600" cy="535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већан губитак јо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и  К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зн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терапија којом се губе К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овраћањ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 губитком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Cl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ј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Упорни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олив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хипо-К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“компензаторн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” тубулск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елиминациј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 H</a:t>
            </a:r>
            <a:r>
              <a:rPr b="0" lang="en-U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Повећана активност надбубрег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алдостерон или кортизол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. Cushing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b.Kon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Бартеров синдр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(хиперплазија и хипертрофија Ј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мањена реапсорпција На, К+, Цл- 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екундарни пораст активности Р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С-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л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ка компензаторна хиповентилација, тетанија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Лабораторијск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: 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раст пХ, концентрације бикарбоната, хипохлоремија, хипокалцијем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sr-Latn-CS" sz="15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. Корекција основног поремећа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. Корекција запремине с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. Корекција хипокалијемије по утврдјеној ше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. Примен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NH4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или аминокиселина везаних з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HC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. Хемодијализа у појединим прилика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РЕСПИРАТОРНА АЦИДОЗА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 И АЛКАЛОЗА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872640"/>
            <a:ext cx="8291520" cy="598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РЕСПИРАТОРНА </a:t>
            </a:r>
            <a:r>
              <a:rPr b="1" lang="sr-Latn-CS" sz="1200" spc="-1" strike="noStrike">
                <a:solidFill>
                  <a:srgbClr val="006633"/>
                </a:solidFill>
                <a:latin typeface="Arial"/>
              </a:rPr>
              <a:t>АЦИД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тна и хронична плућна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хиповентилација</a:t>
            </a:r>
            <a:r>
              <a:rPr b="1" lang="sr-Latn-CS" sz="12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појачан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атурација тубулоцита са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па се јаче ствар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2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односно појачано реапсорбуј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H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sr-Latn-CS" sz="1200" spc="-1" strike="noStrike" baseline="30000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И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Обољења груднога коша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неуралгије, миалгије, повреде и д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складу са основним поремећај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с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иж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већа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повећан бикарбона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Корекција основног поремећа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Механичка венти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006633"/>
                </a:solidFill>
                <a:latin typeface="Arial"/>
              </a:rPr>
              <a:t>РЕСПИРАТОРНА АЛКАЛО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Акутна и хронична плућна</a:t>
            </a:r>
            <a:r>
              <a:rPr b="1" lang="en-US" sz="1200" spc="-1" strike="noStrike">
                <a:solidFill>
                  <a:srgbClr val="33cc33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хипервентилација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олести ЦНС, хепатичка кома, страх, пнеумоније, ЦН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болести, тровања  салицитима, неадекватна механичка вентилациј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Клинички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хипервентилација, тетанија, синкоп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,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2068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абораториј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: п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виш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снижен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PaC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Основне боле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Смиривање болесник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Помоћна мера: удисање већ издахнутог ваздух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“ из кесе”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ДИСТРИБУЦИЈА</a:t>
            </a:r>
            <a:r>
              <a:rPr b="1" lang="en-US" sz="2500" spc="-1" strike="noStrike">
                <a:solidFill>
                  <a:srgbClr val="006633"/>
                </a:solidFill>
                <a:latin typeface="Garamond"/>
              </a:rPr>
              <a:t> ВОДЕ И ЕЛЕКТРОЛИТА</a:t>
            </a:r>
            <a:r>
              <a:rPr b="1" lang="sr-Latn-CS" sz="2500" spc="-1" strike="noStrike">
                <a:solidFill>
                  <a:srgbClr val="006633"/>
                </a:solidFill>
                <a:latin typeface="Garamond"/>
              </a:rPr>
              <a:t> У ОРГАНИЗМУ</a:t>
            </a:r>
            <a:endParaRPr b="0" lang="en-US" sz="25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онституенти организма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ишићн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, мас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ас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и вод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Т. вод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55</a:t>
            </a: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%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телесне масе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елијска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елесн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кстраћелијск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4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% телесне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вод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лазм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брзопокретн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де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течност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нтерстицијск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течнос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Пример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Тм =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75к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000000"/>
                </a:solidFill>
                <a:latin typeface="Arial"/>
              </a:rPr>
              <a:t>Т. вод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1200" spc="-1" strike="noStrike">
                <a:solidFill>
                  <a:srgbClr val="ff0000"/>
                </a:solidFill>
                <a:latin typeface="Arial"/>
              </a:rPr>
              <a:t>45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: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Ћелијск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200" spc="-1" strike="noStrike">
                <a:solidFill>
                  <a:srgbClr val="0000cc"/>
                </a:solidFill>
                <a:latin typeface="Arial"/>
              </a:rPr>
              <a:t>27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 +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Екстраћелијска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200" spc="-1" strike="noStrike">
                <a:solidFill>
                  <a:srgbClr val="0000cc"/>
                </a:solidFill>
                <a:latin typeface="Arial"/>
              </a:rPr>
              <a:t>18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Л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Плазма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2,5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 – 3,5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Л + 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Интерстицијска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 вода 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1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4</a:t>
            </a:r>
            <a:r>
              <a:rPr b="0" lang="sr-Latn-CS" sz="1000" spc="-1" strike="noStrike">
                <a:solidFill>
                  <a:srgbClr val="006633"/>
                </a:solidFill>
                <a:latin typeface="Arial"/>
              </a:rPr>
              <a:t>,5 – </a:t>
            </a:r>
            <a:r>
              <a:rPr b="0" lang="en-US" sz="1000" spc="-1" strike="noStrike">
                <a:solidFill>
                  <a:srgbClr val="006633"/>
                </a:solidFill>
                <a:latin typeface="Arial"/>
              </a:rPr>
              <a:t>15,5</a:t>
            </a:r>
            <a:r>
              <a:rPr b="0" lang="sr-Latn-CS" sz="10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sr-Latn-C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Раствор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= растварач + растворна супстанциј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смоларнос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(осмолалност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2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Осмол = </a:t>
            </a:r>
            <a:r>
              <a:rPr b="0" lang="en-US" sz="1200" spc="-1" strike="noStrike">
                <a:solidFill>
                  <a:srgbClr val="0000cc"/>
                </a:solidFill>
                <a:latin typeface="Arial"/>
              </a:rPr>
              <a:t>Авогадров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број честица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02 x 10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у јединици запремине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Л)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и одговара г-молу одн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г-атому супстанциј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Измена састава појединих одељака: </a:t>
            </a:r>
            <a:r>
              <a:rPr b="0" lang="sr-Latn-CS" sz="1400" spc="-1" strike="noStrike">
                <a:solidFill>
                  <a:srgbClr val="000000"/>
                </a:solidFill>
                <a:latin typeface="Arial"/>
              </a:rPr>
              <a:t>дифузија и осмоз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6633"/>
                </a:solidFill>
                <a:latin typeface="Garamond"/>
              </a:rPr>
              <a:t>НАТРИЈУМ</a:t>
            </a:r>
            <a:endParaRPr b="0" lang="en-US" sz="3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3920"/>
            <a:ext cx="8229600" cy="46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Телесни садржај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200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нћелијска течност костију, ткива и циркула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97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Н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изменљив“ 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+ у костима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4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лијск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течност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5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85-285</a:t>
            </a:r>
            <a:r>
              <a:rPr b="1" lang="sr-Latn-CS" sz="17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1. Бубрег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= 0.125л/мин x 140мМ/л = 17.5мМ/мин x 1440мин = 25200мМ/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/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д = </a:t>
            </a:r>
            <a:r>
              <a:rPr b="1" lang="sr-Latn-CS" sz="1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7-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од ФО тј.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-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тј.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85-285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2. ГИТ и кожа укупно мање од 3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280"/>
            <a:ext cx="8229600" cy="38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Повећан губитак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Тубулоинтерстицијск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фропатиј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са губитком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мена снажних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ти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губитц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ИАД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синдром неадекватног лучења А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Смањен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реапсорпција или ун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диопатск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хипонатријемија “синдром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олес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ћелије” у рефрактерној срчаној и јетриној  инсуфицијенциј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уготрајн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јет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без с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К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ровањ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водом: умор, анорексија, повраћање, синкоп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З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нац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алог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МВ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хипо-Та, смањен тургор, тахикардија, филиформни пулс,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хиповолемијски шок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 грчев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Times New Roman"/>
              </a:rPr>
              <a:t>осмоларнос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плазме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може бити нормална или чак повећана зависно од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интензитет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диуре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33"/>
                </a:solidFill>
                <a:latin typeface="Times New Roman"/>
              </a:rPr>
              <a:t>осмоларнос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урина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је повећана са најчешће смањеном натриуријо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сем код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Times New Roman"/>
              </a:rPr>
              <a:t>Адисонове болести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узал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сољавање 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орекција дефицита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3300"/>
                </a:solidFill>
                <a:latin typeface="Times New Roman"/>
              </a:rPr>
              <a:t>Дефицит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[Нормал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мМ/л) - Измерени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16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(мМ/л)] x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60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т.м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.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 (145мМ/л - 125мМ/л ) x 60% (70кг) = 20 x 42 = 840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авати у 0.9%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у два или више размака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аствор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1600" spc="-1" strike="noStrike">
                <a:solidFill>
                  <a:srgbClr val="0000cc"/>
                </a:solidFill>
                <a:latin typeface="Times New Roman"/>
              </a:rPr>
              <a:t>5.85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%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прашков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sr-Latn-CS" sz="1600" spc="-1" strike="noStrike">
                <a:solidFill>
                  <a:srgbClr val="000000"/>
                </a:solidFill>
                <a:latin typeface="Times New Roman"/>
              </a:rPr>
              <a:t>NaCl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НАТР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Појачан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кухињске сол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(уз оштећену елиминацију?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Смањена бубр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АБИ, ХБ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Појачана  бубр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ж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а реапсорпција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-примарни и секундарни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лдостерониза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4. Повећани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убитак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хипотонијске воде-знојењ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уношењ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вод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КС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Знаци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хиперволемије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: хипертензија, едем мозга: грчеви, конфузија, летаргија, ком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2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0" lang="sr-Latn-CS" sz="1300" spc="-1" strike="noStrike">
                <a:solidFill>
                  <a:srgbClr val="000000"/>
                </a:solidFill>
                <a:latin typeface="Arial"/>
              </a:rPr>
              <a:t>абораторија: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хипернатремија, хиперосмоларност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ТХ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ањен унос на само </a:t>
            </a: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1</a:t>
            </a:r>
            <a:r>
              <a:rPr b="1" lang="sr-Latn-CS" sz="15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р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потпуно “несла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” хра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иуретиц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модијализ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КАЛИЈУМ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8281800" cy="438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елесни садржа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sr-Latn-CS" sz="18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600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истрибу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Ћ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лијска течност костију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ткив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крви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9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Ц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иркулација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Уно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55-155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Бубрег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Ф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О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= 0.125л/мин x 4мМ/л = 0.5мМ/мин x 1440мин =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200мМ/д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1/2д = </a:t>
            </a:r>
            <a:r>
              <a:rPr b="1" lang="sr-Latn-CS" sz="1600" spc="-1" strike="noStrike">
                <a:solidFill>
                  <a:srgbClr val="ff3300"/>
                </a:solidFill>
                <a:latin typeface="Arial"/>
              </a:rPr>
              <a:t>12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х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!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Р + ТС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98-9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од ФО тј.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-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тј.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 55-15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М/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мање од </a:t>
            </a:r>
            <a:r>
              <a:rPr b="1" lang="en-US" sz="1600" spc="-1" strike="noStrike">
                <a:solidFill>
                  <a:srgbClr val="3b812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% укупно унетог К</a:t>
            </a:r>
            <a:r>
              <a:rPr b="0" lang="sr-Latn-CS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84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О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088640"/>
            <a:ext cx="82296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Смањен унос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‘’чис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супстан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’’ у исхран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Повећани губици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ГИТ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губиц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 проливи, фистуле, вилусни аденом,..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Бубрежн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губици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хипералдостеронизам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,  калиуретиц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КС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уромишићн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знаци: мишићна слабост до парализе, респираторна парализа, губитак тетивних  рефлекс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 продужење Q-Т, смањење висине Т таласа, појава У таласа, ВЕС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37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алипенијска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нефропатиј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полиурија, полидипсија, калиуриј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700" spc="-1" strike="noStrike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1. Храна богата калијумом: поморанџа </a:t>
            </a:r>
            <a:r>
              <a:rPr b="0" lang="en-US" sz="1500" spc="-1" strike="noStrike">
                <a:solidFill>
                  <a:srgbClr val="006633"/>
                </a:solidFill>
                <a:latin typeface="Arial"/>
              </a:rPr>
              <a:t>1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М, парадајз и банана </a:t>
            </a:r>
            <a:r>
              <a:rPr b="0" lang="en-US" sz="1500" spc="-1" strike="noStrike">
                <a:solidFill>
                  <a:srgbClr val="3b812f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мМ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 Парентерал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и перорал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 надокнада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3300"/>
                </a:solidFill>
                <a:latin typeface="Arial"/>
              </a:rPr>
              <a:t>Дефицит</a:t>
            </a:r>
            <a:r>
              <a:rPr b="0" lang="en-US" sz="15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[Нормални К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 (мМ/л) - Измерени К</a:t>
            </a:r>
            <a:r>
              <a:rPr b="0" lang="en-US" sz="15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(мМ/л)] x </a:t>
            </a:r>
            <a:r>
              <a:rPr b="1" lang="sr-Latn-CS" sz="1500" spc="-1" strike="noStrike">
                <a:solidFill>
                  <a:srgbClr val="ff0000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т.м.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Пример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: (5мМ/л - 2.5мМ/л ) x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(70кг) = 2.5 x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2.5мМ/д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Д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авати у 5% гликози моларни  раствор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Cl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500" spc="-1" strike="noStrike">
                <a:solidFill>
                  <a:srgbClr val="0000cc"/>
                </a:solidFill>
                <a:latin typeface="Arial"/>
              </a:rPr>
              <a:t>7.5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%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 или м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оларн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праш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к </a:t>
            </a:r>
            <a:r>
              <a:rPr b="0" lang="sr-Latn-CS" sz="1500" spc="-1" strike="noStrike">
                <a:solidFill>
                  <a:srgbClr val="000000"/>
                </a:solidFill>
                <a:latin typeface="Arial"/>
              </a:rPr>
              <a:t>KCl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6633"/>
                </a:solidFill>
                <a:latin typeface="Garamond"/>
              </a:rPr>
              <a:t>ХИПЕРКАЛИЈЕМИЈА</a:t>
            </a:r>
            <a:endParaRPr b="0" lang="en-US" sz="29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176560"/>
            <a:ext cx="822960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ЕТИОЛОГИЈА: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мањена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убреж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лимин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иуретици који штеде калијум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, ACEI, Ag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БИ, ХБ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Повећан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бубрежна реапсорпциј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b. Addis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дистрибуциј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хемолиза, краш синдром, ацидоз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ЕК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промене: висок Т талас, губитак таласа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депресија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А-V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блок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VF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, застој срца у 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дијастоли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уромишићне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касне манифестације у виду малаксалости и парестез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0:53:07Z</dcterms:created>
  <dc:creator>User</dc:creator>
  <dc:description/>
  <dc:language>en-US</dc:language>
  <cp:lastModifiedBy>Administrator</cp:lastModifiedBy>
  <dcterms:modified xsi:type="dcterms:W3CDTF">2015-08-30T13:59:57Z</dcterms:modified>
  <cp:revision>63</cp:revision>
  <dc:subject/>
  <dc:title>HIPOGLIKEMIJSKI SINDROM</dc:title>
</cp:coreProperties>
</file>