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25A78-6A21-4994-A490-8F3E0408F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B418-5069-4E3E-B9B5-9523AE3B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FDD6-91E7-4DD7-9EC1-6A89B762B9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223B-EDF7-49B4-A908-842AEE30A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BF9157-006A-468A-9569-645B8F65D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655EF8-EE90-488D-82EC-87684B3CD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635F76-108C-4FDB-8E0A-9D5C09B8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7D88DE-C06A-4245-8B87-B5776A178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AD6DD6-C837-426B-8122-D5B85F9F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FD947C-B060-4CA6-9DED-FB8C29FB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CFEADA-7F39-405D-91F5-63C18AC08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ED09-77DC-4D89-AFB1-99ABFB7E2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F57C6F-18F7-49EC-8079-3D9D85E4B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F28BFB-DDC0-45A5-A93D-4DAC4D56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ED3E99A-0B3F-408A-ACCA-49F801E75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7F62B-1DBE-480E-867F-D900B8A0B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1CD68E-02AB-4D89-B631-319359D70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C2010D-6DF6-486F-AB87-E3BAD31B8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225E5E-438A-43C9-B91A-ABDCC262D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10E5F-53E6-46A5-B4A1-B2892BDBE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D7A6C6-1B0F-496A-B9AE-0D5D1EBF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50ECC-B49B-4C76-9E00-E043A653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ACFB-9F05-4CB5-94AF-37F15F357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89E9E-577C-42B0-8335-1E1EA5D7A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D1011E-A6F3-4DB6-8F04-F31FF4F8B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D7FD8E-5D60-4C33-BC97-9AA62940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863CE-29BC-419B-AAAC-4E883DC2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FDE2C-08AB-4318-97AB-805829D84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FAE257-0C94-455E-93C3-9C5DDC7EF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A488F-15FA-45EC-83C5-70BAD0778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38CD42-408D-49EB-9F5D-EACA4CC0C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E6A456-DA44-42E9-9B32-D6808D8AD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69CD6E-8348-4A72-A2CC-EE5A24DB4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6F50-E984-4E19-8D3F-481D1AA11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2CE2DB-8721-404F-A0F9-67787EFF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B016CA-D665-4357-BD53-9375F204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EC3410-8CAF-4B96-B249-39C4D2A36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5AC5A9-AD19-4019-8277-6C5E52B1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55D304-E747-4A93-9E04-DFC8603CA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1A87DC-A948-4EE8-8AC2-4DCECC176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CEA3B48-C6F2-4B39-A628-45F1FF890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40B844B-2DF2-476A-9116-CCC496711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CFC7A15-0184-447A-92CD-EC65D6F4D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4BE1-C0F9-4E49-91E9-F4EA10DF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6450-43EE-4913-ABD4-F7943F63C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F3274-C932-40F1-BEAA-10C1A0746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ACD6-6D6A-49D3-B7C3-C6B78F884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463B-4A24-47C7-9DCF-AE473A3A5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F692C-C4F7-4708-AAAA-CBF41A7C17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4C1A4-81C1-43A5-9B23-729AC97518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34E48-CD9D-4E03-A72E-81B1DCE7C4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59683-D378-4C0B-878D-ED806CB6E2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dt" idx="1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alibri"/>
              </a:rPr>
              <a:t>Дијагностика бубрежних боле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Проф. Др Радојица Столи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Факултет медицинских наука Крагујева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900" spc="-1" strike="noStrike">
                <a:solidFill>
                  <a:srgbClr val="0000cc"/>
                </a:solidFill>
                <a:latin typeface="Calibri"/>
              </a:rPr>
              <a:t>Клинички преглед болесник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10508" descr=""/>
          <p:cNvPicPr/>
          <p:nvPr/>
        </p:nvPicPr>
        <p:blipFill>
          <a:blip r:embed="rId1"/>
          <a:srcRect l="0" t="32583" r="16126" b="0"/>
          <a:stretch/>
        </p:blipFill>
        <p:spPr>
          <a:xfrm>
            <a:off x="2478240" y="857160"/>
            <a:ext cx="3450960" cy="369900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Палпација бубрег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900" spc="-1" strike="noStrike">
                <a:solidFill>
                  <a:srgbClr val="0000cc"/>
                </a:solidFill>
                <a:latin typeface="Calibri"/>
              </a:rPr>
              <a:t>Клинички преглед болесник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10509" descr=""/>
          <p:cNvPicPr/>
          <p:nvPr/>
        </p:nvPicPr>
        <p:blipFill>
          <a:blip r:embed="rId1"/>
          <a:srcRect l="0" t="21875" r="0" b="21875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Перкусија бубрег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792440" y="4800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900" spc="-1" strike="noStrike">
                <a:solidFill>
                  <a:srgbClr val="0000cc"/>
                </a:solidFill>
                <a:latin typeface="Calibri"/>
              </a:rPr>
              <a:t>Клинички преглед болесник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9" name="Picture 10510" descr=""/>
          <p:cNvPicPr/>
          <p:nvPr/>
        </p:nvPicPr>
        <p:blipFill>
          <a:blip r:embed="rId1"/>
          <a:srcRect l="0" t="21875" r="0" b="21875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400" spc="-1" strike="noStrike">
                <a:solidFill>
                  <a:srgbClr val="000000"/>
                </a:solidFill>
                <a:latin typeface="Calibri"/>
              </a:rPr>
              <a:t>Аускултација бубрег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cc"/>
                </a:solidFill>
                <a:latin typeface="Calibri"/>
              </a:rPr>
              <a:t>КЛИНИЧКО ИСПОЉАВАЊЕ БОЛЕСТИ БУБРЕГ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898989"/>
                </a:solidFill>
                <a:latin typeface="Calibri"/>
              </a:rPr>
              <a:t>Дијагностика бубрежних боле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457200" y="428760"/>
            <a:ext cx="403848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0000"/>
                </a:solidFill>
                <a:latin typeface="Calibri"/>
              </a:rPr>
              <a:t>Поремећај мокрења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Дизурија (отежано и болно мокрење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олакисурија (учестало мокрење мање количине мокраће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Никтурија (буђење ноћу због потребе мокрења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Инконтиненција (немогућност контролисања мокрења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Енуреза (неконтролисано мокрење током сна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648320" y="428760"/>
            <a:ext cx="4038480" cy="569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Промена у запремини мокраћ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лиурија (физиолошка због повећаног уноса, диуретик, ДМ, инсипидни дијабетес, губитак концентрационе способности бубрега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лигурија (смањен унос течности, повећан унос соли, знојење, механичка опструкција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нури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cc"/>
                </a:solidFill>
                <a:latin typeface="Calibri"/>
              </a:rPr>
              <a:t>Промена боје мокраћ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alibri"/>
              </a:rPr>
              <a:t>Безбојан урин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dijabetes insipidus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Млечно бела боја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(преципитовани фосфати, пиурија, масне кап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Жута боја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(билирубин, нитрофурантоин, сулфасалазин, уробилин, рибофлавин, уношењ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превише витамин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Наранџасти урин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(дехидратација, преслана храна, циста или тумор ж.кесице, жутиц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Плави и розе урин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(храна, леков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Зелени урин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(инфекција уротракта, Паркинсон, антидепресив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Смеђе-црвена боја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(меланин, метилдопа, порфобилин, метронидазол, кинин, карцином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Плаво-зелена боја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(инфекција </a:t>
            </a:r>
            <a:r>
              <a:rPr b="0" i="1" lang="sr-Latn-CS" sz="2000" spc="-1" strike="noStrike">
                <a:solidFill>
                  <a:srgbClr val="000000"/>
                </a:solidFill>
                <a:latin typeface="Calibri"/>
              </a:rPr>
              <a:t>Pseudomonas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-ом, биливердин, метилен плав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Љубичасти урин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(порфириј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Calibri"/>
              </a:rPr>
              <a:t>Браон или црн урин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(лаксативи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0000cc"/>
                </a:solidFill>
                <a:latin typeface="Calibri"/>
              </a:rPr>
              <a:t>Бол као симптом бубрежних болести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357120" y="1143000"/>
            <a:ext cx="85010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Бубрежна колика, </a:t>
            </a: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праћена учесталим мокрењем, хематуријом, муком и повраћањем, често са знацима паралитичког илеус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Локализација бола указује на локализацију камен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Упала мокраћне бешике (супрапубични болови, дизуричне сметње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ГНФ (потмули, обострани болови у лумбалним ложама, праћени тамном мокраћом, благим едемима, главобољом, ХТА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ИТУ (једнострани или обострани болови, дизуричне сметње, повишена температура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Тупи, трајни болови у лумбалном пределу, праћени високом температуром, изразитом осетљивошћу бубрежних ложа (понекад црвенило и оток коже) знак су перинефритиса, запаљења бубрега или перинефритичког апсцес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300" spc="-1" strike="noStrike">
                <a:solidFill>
                  <a:srgbClr val="0000cc"/>
                </a:solidFill>
                <a:latin typeface="Calibri"/>
              </a:rPr>
              <a:t>Клиничко испољавање </a:t>
            </a:r>
            <a:r>
              <a:rPr b="1" lang="en-US" sz="3300" spc="-1" strike="noStrike">
                <a:solidFill>
                  <a:srgbClr val="0000cc"/>
                </a:solidFill>
                <a:latin typeface="Calibri"/>
              </a:rPr>
              <a:t>бубрежних</a:t>
            </a:r>
            <a:r>
              <a:rPr b="1" lang="sr-Latn-CS" sz="3300" spc="-1" strike="noStrike">
                <a:solidFill>
                  <a:srgbClr val="0000cc"/>
                </a:solidFill>
                <a:latin typeface="Calibri"/>
              </a:rPr>
              <a:t> болести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-903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 u="sng">
                <a:solidFill>
                  <a:srgbClr val="000000"/>
                </a:solidFill>
                <a:uFillTx/>
                <a:latin typeface="Calibri"/>
              </a:rPr>
              <a:t>Едеми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бубрежног порекла јављају се или због протеинурије или због смањења гломерулске филтрације или ређе због опструкције мокраћних путева, по правилу су на очним капцима, лицу или на екстремитетима и телу; бледи су, топли и тестасти, нису подложни утицају гравитације па се, обично, примете изјутр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90360" indent="-9036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Симптоми и знаци уремијског синдрома (</a:t>
            </a:r>
            <a:r>
              <a:rPr b="0" i="1" lang="sr-Latn-CS" sz="2500" spc="-1" strike="noStrike">
                <a:solidFill>
                  <a:srgbClr val="000000"/>
                </a:solidFill>
                <a:latin typeface="Calibri"/>
              </a:rPr>
              <a:t>Kussmaul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-ово дисање, уремијски задах, хеморагијски синдром, грчеви, најчешће у потколеницама, понекад и генерализовани, поремећај свести од сомноленције, преко сопора до коме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cc"/>
                </a:solidFill>
                <a:latin typeface="Calibri"/>
              </a:rPr>
              <a:t>ИСПИТИВАЊЕ БУБРЕЖНИХ ФУНКЦ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898989"/>
                </a:solidFill>
                <a:latin typeface="Calibri"/>
              </a:rPr>
              <a:t>Дијагностика бубрежних боле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ff0000"/>
                </a:solidFill>
                <a:latin typeface="Calibri"/>
              </a:rPr>
              <a:t>ИСПИТИВАЊЕ ФУНКЦИЈЕ ГЛОМЕРУ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cc"/>
                </a:solidFill>
                <a:latin typeface="Calibri"/>
              </a:rPr>
              <a:t>Испитивање бубрежних функ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Анатомија бубре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Бубрези су 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паран ретроперитонеални орган смештени у слабинском делу, непосредно уз кичмени сту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Оба бубрега су својим медијалним деловима приљубљена уз бок кичменог стуба (у висини 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XII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грудног, 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II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слабинског пршљена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Десни бубрег је за половину висине пршљенског тела ниже постављен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Растојање између горњих полова бубрега је 7-8 цм, а између доњих око 12 цм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Бубрези у дужину достижу 10-12 цм, у ширину 5-6 цм, а њихова дебљина је 3-4 цм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Тежина једног бубрега износи 120-200 г (леви бубрег је код оба пола нешто дужи и веће масе од десног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alibri"/>
              </a:rPr>
              <a:t>Испитивање функције гломеру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Јачина бубрежног протока плазме (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мера којом се целокупна количина неке супстанције, у јединици времена, излучи урином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ПАХ (?) (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излучује се ГФ и активном ТЕ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Изотопске методе; </a:t>
            </a:r>
            <a:r>
              <a:rPr b="0" lang="sr-Latn-CS" sz="2200" spc="-1" strike="noStrike" baseline="30000">
                <a:solidFill>
                  <a:srgbClr val="000000"/>
                </a:solidFill>
                <a:latin typeface="Calibri"/>
              </a:rPr>
              <a:t>125</a:t>
            </a:r>
            <a:r>
              <a:rPr b="0" i="1" lang="sr-Latn-CS" sz="2200" spc="-1" strike="noStrike">
                <a:solidFill>
                  <a:srgbClr val="000000"/>
                </a:solidFill>
                <a:latin typeface="Calibri"/>
              </a:rPr>
              <a:t>I-hipurat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нормална ЈБПП је 625</a:t>
            </a:r>
            <a:r>
              <a:rPr b="1" lang="sr-Latn-CS" sz="2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i="1" lang="sr-Latn-CS" sz="2200" spc="-1" strike="noStrike">
                <a:solidFill>
                  <a:srgbClr val="000000"/>
                </a:solidFill>
                <a:latin typeface="Calibri"/>
              </a:rPr>
              <a:t>ml/min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</a:rPr>
              <a:t>Јачина ГФ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Клиренс инулина (филтрује се у гломерулима а не реабсорбује нити екскретује у тубулима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Клиренс креатинина (излучује се у гломерулима, незнатно секретује у проксималним тубулима 20% веће вредности од реалних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Радионуклеидне методе (изотопски обележени егзогени маркери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alibri"/>
              </a:rPr>
              <a:t>Методе мерења ЈГФ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92844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Клиренс неке супстанце се дефинише као запремина плазме из које се у јединици времена потпуно oдстрани та супстанц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То је однос концентрације те супстанце излучене мокраћом у јединици времена  и концентрације те супстанце у плазми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Клиренси се израчунавају формулом: U x V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                                                                       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P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Постоји више од 40 формули на бази креатинина/цистатина: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Calibri"/>
              <a:buChar char="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Cockcroft-Gaul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формула (прикладна је за одрасле, лако се процењује ЈГФ),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Calibri"/>
              <a:buChar char="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MDRD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Modification of Diet in Renal Diseas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) формула,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Calibri"/>
              <a:buChar char="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CKD EPI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Epidemiology Collaboration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формула (практична код одраслих са ХББ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Calibri"/>
              <a:buChar char="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Формуле у којима се користи Цистатин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(у распону од 70-40) процењује се ЈГФ боље него формулама у којима се користи креатинин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traight Connector 4"/>
          <p:cNvSpPr/>
          <p:nvPr/>
        </p:nvSpPr>
        <p:spPr>
          <a:xfrm>
            <a:off x="5214960" y="2714760"/>
            <a:ext cx="642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alibri"/>
              </a:rPr>
              <a:t>Недостаци формула за еГФР израчунавањ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ису поуздани код болесник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а ЈГФ изнад 60 </a:t>
            </a:r>
            <a:r>
              <a:rPr b="0" i="1" lang="vi-VN" sz="3200" spc="-1" strike="noStrike">
                <a:solidFill>
                  <a:srgbClr val="000000"/>
                </a:solidFill>
                <a:latin typeface="Arial"/>
              </a:rPr>
              <a:t>ml/min/1,73 m</a:t>
            </a:r>
            <a:r>
              <a:rPr b="0" i="1" lang="vi-VN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а брзим променама серумског креатинина (АБ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Са променама у мишићној маси (кахексија, параплегиј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лађих од 18 год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а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alibri"/>
              </a:rPr>
              <a:t>Стања у којима се мења ГФР а нема обољења бубрег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рудноћ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Хипоперфузија бубре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ишак или мањак екстраћелијске течнос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естероидни антиреуматиц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Велики унос протеи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Гликем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рвни притисак и поједини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нтихипертензив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Calibri"/>
              </a:rPr>
              <a:t>Стања која доводе до промене креатинина и могуће погрешне процене ГФ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285840" y="1285920"/>
          <a:ext cx="8572320" cy="5429160"/>
        </p:xfrm>
        <a:graphic>
          <a:graphicData uri="http://schemas.openxmlformats.org/drawingml/2006/table">
            <a:tbl>
              <a:tblPr/>
              <a:tblGrid>
                <a:gridCol w="4286160"/>
                <a:gridCol w="4286160"/>
              </a:tblGrid>
              <a:tr h="1069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ање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Ефекат на  серумски креатинин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308124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етоацидоза, унос меса, лекови који инхибирају тубулску секрецију креатинина (циметидин, триметоприм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упстанце које се мере као креатинин: ацетат, лекови (цефокситин, флуцитозин)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ећавају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127800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мањење мишићне масе праћене кахексијом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мањују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alibri"/>
              </a:rPr>
              <a:t>Клиренс уре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лиренс уреје нема сталну вредност (зависи од диурезе, што је диуреза већа, клиренс уреје је већи и обрнуто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лиренс уреје варира између 30-90 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ml/mi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од изражене бубрежне инсуфицијенције распон диурезе се смањује па клиренс уреје мање варир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Клиренс уреје није добро мерило у ХБИ (уреја није добар параметар бубрежне функције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Calibri"/>
              </a:rPr>
              <a:t>Стања која доводе до промене концентрације уреј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214200" y="1357200"/>
          <a:ext cx="8715600" cy="5268960"/>
        </p:xfrm>
        <a:graphic>
          <a:graphicData uri="http://schemas.openxmlformats.org/drawingml/2006/table">
            <a:tbl>
              <a:tblPr/>
              <a:tblGrid>
                <a:gridCol w="4357800"/>
                <a:gridCol w="4357800"/>
              </a:tblGrid>
              <a:tr h="1067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Стањ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Ефекат на концентрацију уреј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2763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већавају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исок унос протеина, крвављење из дигестивног тракта, кортикостероиди, траума ткива, тетрациклини, температура, дехидратација, трудноћ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1438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мањењују 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3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скопротеинска дијета, обољење јетре, хиперхидратација</a:t>
                      </a:r>
                      <a:endParaRPr b="0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0" name=""/>
          <p:cNvGraphicFramePr/>
          <p:nvPr/>
        </p:nvGraphicFramePr>
        <p:xfrm>
          <a:off x="0" y="15840"/>
          <a:ext cx="9144000" cy="7155000"/>
        </p:xfrm>
        <a:graphic>
          <a:graphicData uri="http://schemas.openxmlformats.org/drawingml/2006/table">
            <a:tbl>
              <a:tblPr/>
              <a:tblGrid>
                <a:gridCol w="824040"/>
                <a:gridCol w="1349280"/>
                <a:gridCol w="3524040"/>
                <a:gridCol w="3446640"/>
              </a:tblGrid>
              <a:tr h="5180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99ff66"/>
                          </a:solidFill>
                          <a:latin typeface="Times New Roman"/>
                          <a:ea typeface="Times New Roman"/>
                        </a:rPr>
                        <a:t>ФАЗ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99ff66"/>
                          </a:solidFill>
                          <a:latin typeface="Times New Roman"/>
                          <a:ea typeface="Times New Roman"/>
                        </a:rPr>
                        <a:t>ХБ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99ff66"/>
                          </a:solidFill>
                          <a:latin typeface="Times New Roman"/>
                          <a:ea typeface="Times New Roman"/>
                        </a:rPr>
                        <a:t>ЈГФ</a:t>
                      </a:r>
                      <a:r>
                        <a:rPr b="1" lang="sr-Latn-CS" sz="1400" spc="-1" strike="noStrike">
                          <a:solidFill>
                            <a:srgbClr val="99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sr-Latn-CS" sz="1200" spc="-1" strike="noStrike">
                          <a:solidFill>
                            <a:srgbClr val="99ff66"/>
                          </a:solidFill>
                          <a:latin typeface="Times New Roman"/>
                          <a:ea typeface="Times New Roman"/>
                        </a:rPr>
                        <a:t>(ml/min/1.73 m</a:t>
                      </a:r>
                      <a:r>
                        <a:rPr b="1" lang="sr-Latn-CS" sz="1200" spc="-1" strike="noStrike" baseline="30000">
                          <a:solidFill>
                            <a:srgbClr val="99ff66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sr-Latn-CS" sz="1200" spc="-1" strike="noStrike">
                          <a:solidFill>
                            <a:srgbClr val="99ff66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99ff66"/>
                          </a:solidFill>
                          <a:latin typeface="Times New Roman"/>
                          <a:ea typeface="Times New Roman"/>
                        </a:rPr>
                        <a:t>КЛИНИЧКЕ МАНИФЕСТАЦИЈ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99ff66"/>
                          </a:solidFill>
                          <a:latin typeface="Times New Roman"/>
                          <a:ea typeface="Times New Roman"/>
                        </a:rPr>
                        <a:t>ТЕРАПИЈСКИ ПОСТУПЦ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0047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dada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≥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Нормална бубрежна функција са одређеним уринарним абнормалностима</a:t>
                      </a:r>
                      <a:r>
                        <a:rPr b="0" lang="ru-RU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хипертензија није ретка манифестациј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сматрање и контрола артеријског притис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30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dada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-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RS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Благо мањена бубрежна функција са одређеним уринарним абнормалностима-</a:t>
                      </a: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ТА, је честа манифестација као и умерен пораст нивоа ПТ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ff3300"/>
                          </a:solidFill>
                          <a:latin typeface="Times New Roman"/>
                          <a:ea typeface="Times New Roman"/>
                        </a:rPr>
                        <a:t>Контрола артеријског притиск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94796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dada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-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RS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Умерено смањена бубрежна функција</a:t>
                      </a:r>
                      <a:r>
                        <a:rPr b="0" lang="sr-Latn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sr-R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сутна ХТА, 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спорена апсорпција калцијума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граничено излучивање фосфата,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очљив је пораст концентрације ПТХ, поремећај метаболизма липида, изражена анемија, хипертрофија леве коморе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нтрола и лечење компликациј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30860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dada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-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Знатно умањена бубрежна функција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, много јаче изражени сви горе наведени симптоми са израженом метаболичком ацидозом, хиперкалиемија, смањен либид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ипрема за надокнаду бубрежних функција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248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adada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</a:t>
                      </a:r>
                      <a:r>
                        <a:rPr b="1" lang="sr-Latn-C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RS" sz="16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Клинички манифестна уремија</a:t>
                      </a:r>
                      <a:r>
                        <a:rPr b="0" lang="sr-Latn-C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r>
                        <a:rPr b="0" lang="sr-RS" sz="1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ви горе наведени симптоми са ретнцијом соли и воде што води ка срчаном</a:t>
                      </a:r>
                      <a:r>
                        <a:rPr b="0" lang="sr-R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застоју, анорексијиа, повраћање, пруритис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тивна депурациона терапи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ff0000"/>
                </a:solidFill>
                <a:latin typeface="Calibri"/>
              </a:rPr>
              <a:t>ИСПИТИВАЊЕ ФУНКЦИЈЕ ТУБУ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cc"/>
                </a:solidFill>
                <a:latin typeface="Calibri"/>
              </a:rPr>
              <a:t>Испитивање бубрежних функ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1" lang="sr-Latn-CS" sz="4400" spc="-1" strike="noStrike">
                <a:solidFill>
                  <a:srgbClr val="000000"/>
                </a:solidFill>
                <a:latin typeface="Calibri"/>
              </a:rPr>
              <a:t>ункције интерстицију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285840" y="1143000"/>
          <a:ext cx="8643960" cy="5405400"/>
        </p:xfrm>
        <a:graphic>
          <a:graphicData uri="http://schemas.openxmlformats.org/drawingml/2006/table">
            <a:tbl>
              <a:tblPr/>
              <a:tblGrid>
                <a:gridCol w="8643960"/>
              </a:tblGrid>
              <a:tr h="2643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ранспортне функције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внотежа електроли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анс течности/волуме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молалност серума/ур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идо-базна равнотежа (транспорт хлорида, регенерација бикарбоната, стварање амонијум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таболизам фосфат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лективна ресорпција проте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>
                        <a:alpha val="74000"/>
                      </a:srgbClr>
                    </a:solidFill>
                  </a:tcPr>
                </a:tc>
              </a:tr>
              <a:tr h="757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аболичке функције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уконеогене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>
                        <a:alpha val="68000"/>
                      </a:srgbClr>
                    </a:solidFill>
                  </a:tcPr>
                </a:tc>
              </a:tr>
              <a:tr h="2004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ормонске функције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таболизам витамина </a:t>
                      </a: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итропоеза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</a:t>
                      </a: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гулација крвног притиска (ренин-ангиотензин-алдостерон систем, ендотелини, простагландини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>
                        <a:alpha val="32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Нефр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57200" y="128556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сновна морфофункционална и секреторна јединица бубрега је нефро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Бубрег се састоји од 1-4 милиона нефро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фрони су изграђени из  бубрежних телашац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(corpusculum renalis)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 бубрежних цевчиц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(tubuli renal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 својој локализацији, грађи и дужини петљи разликују се два основна типа нефрона (кортикални и јукстамедуларн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Нефрони чији се гломерули налазе у унутрашњој трећини коре бубрега називају се јукстамедуларним, они су дужих петљи у односу на кортикалне нефроне који леже у спољашње две трећине реналне кор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93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alibri"/>
              </a:rPr>
              <a:t>Испитивање тубулских функц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57200" y="99972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Тубулске функциј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Гликозурија, реапсорпција аминокиселина, репсорпција фосфата, излучивања </a:t>
            </a:r>
            <a:r>
              <a:rPr b="0" i="1" lang="sr-Latn-CS" sz="18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(90-99% воде се реапсорбује у тубулима и одговарајућа количина </a:t>
            </a:r>
            <a:r>
              <a:rPr b="0" i="1" lang="sr-Latn-CS" sz="1800" spc="-1" strike="noStrike">
                <a:solidFill>
                  <a:srgbClr val="000000"/>
                </a:solidFill>
                <a:latin typeface="Calibri"/>
              </a:rPr>
              <a:t>NaCl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), клиренс литијума (у проксималним тубулима се реапсорбује),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</a:rPr>
              <a:t>β</a:t>
            </a:r>
            <a:r>
              <a:rPr b="0" lang="sr-CS" sz="1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-микроглобулин (филтрује се у гломерулима а реапсорбује у проксималним тубулима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Концентрациона способност бубре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роба жеђања, не дуже од 16-20 сати не пити воду </a:t>
            </a:r>
            <a:r>
              <a:rPr b="0" lang="sr-Latn-R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слана храна са доста протеина) осмоларитет урина ј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69-1309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Latn-CS" sz="1800" spc="-1" strike="noStrike">
                <a:solidFill>
                  <a:srgbClr val="000000"/>
                </a:solidFill>
                <a:latin typeface="Calibri"/>
              </a:rPr>
              <a:t>mOsm/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онцентрациона способност бубрега се испитуј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вазопресином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кон 8 сати осмоларитет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750-1150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Latn-CS" sz="1800" spc="-1" strike="noStrike">
                <a:solidFill>
                  <a:srgbClr val="000000"/>
                </a:solidFill>
                <a:latin typeface="Calibri"/>
              </a:rPr>
              <a:t>mOsm/l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Calibri"/>
              </a:rPr>
              <a:t>Ензимур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Ензими са м.т. мањом од 60.000 филтрују се у гломерулима и реапсорбују у проксималним тубулима, ако су у вишку могу се појавити у урин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Локализација ензима у ћелијама и њихова појава у урину указује на место лезиј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Испитивање стварања јона водоник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рењем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Latn-CS" sz="1800" spc="-1" strike="noStrike">
                <a:solidFill>
                  <a:srgbClr val="000000"/>
                </a:solidFill>
                <a:latin typeface="Calibri"/>
              </a:rPr>
              <a:t>pH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окраће, мерење концентрације бикарбоната у плазм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истемска ацидоза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 и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Latn-CS" sz="1800" spc="-1" strike="noStrike">
                <a:solidFill>
                  <a:srgbClr val="000000"/>
                </a:solidFill>
                <a:latin typeface="Calibri"/>
              </a:rPr>
              <a:t>pH</a:t>
            </a: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мокраће мањи од 5,3 искључује дефект у тубулској секрецији јона водони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Мерење концентрације бикарбоната у плазми и pH мокраћ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Метаболичка ацидоза се на почетку не манифестује смањењем pH крви већ смањењем бикарбонат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Ако је концентрација бикарбоната мања од 20 mmol/L тада је наредна анализа мерење pH ури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Смањена концентрација бикарбоната у плазми уз pH урина већи од 5,5 показује да је ацидоза последица оштећења закишељавања мокраћ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Испитивање концентрационе способности бубре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21428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Специфична густина мокраће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Одређивање осмотске концентрације (јутарњи урин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Осмотска концентрација већа од 800 mOsm/L искључује тубулски дефект за концентрацију урин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Концентрациона способност се одређује пробом жеђања (16-24 сати не уноси  течност уз нормално слану мешовиту исхрану-а; 869-1309 mOsm/L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Концентрациона способност се може проценити sc.вазопресином а 8 сати након тога мери се осмотска концентрација урина (750-1150 mOsm/L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4200" y="-360"/>
            <a:ext cx="8715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1" lang="sr-Latn-CS" sz="2700" spc="-1" strike="noStrike">
                <a:solidFill>
                  <a:srgbClr val="000000"/>
                </a:solidFill>
                <a:latin typeface="Calibri"/>
              </a:rPr>
              <a:t>оследице тубулоинтерстицијумских болест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42920" y="428760"/>
          <a:ext cx="8929800" cy="6413400"/>
        </p:xfrm>
        <a:graphic>
          <a:graphicData uri="http://schemas.openxmlformats.org/drawingml/2006/table">
            <a:tbl>
              <a:tblPr/>
              <a:tblGrid>
                <a:gridCol w="4098960"/>
                <a:gridCol w="4830840"/>
              </a:tblGrid>
              <a:tr h="4726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ремећај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зроц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65052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мањена јачина гломерулске филтрац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блитерација микроваскулатуре и опструкција тубу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nconi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синдро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ремећај проксималне тубулске реапсорпције глукозе, аминокиселина, фосфата и бикарбонат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46340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 startAt="3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иперхлоремијска ацидо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мањена продукција амонију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могућност ацидификације течности у сабирним тубулима (дистална ренална тубулска ацидоз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битак бикарбоната проксималним тубули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 startAt="4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отеинурија тубулског ти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95400" indent="-9540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способност реапсорпције протеина у проксималним тубули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1848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 startAt="5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олиурија, никтурија, изостенур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штећење тубула и крвних судова медул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 startAt="6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иперкалием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ефекти секреције калијума, резистенција на алдостеро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 startAt="7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убитак сол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штећење дисталних тубула са нарушеном реапсорпцијом натрију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372240"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 startAt="8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нем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адекватна продукција еритропоет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3" name=""/>
          <p:cNvGraphicFramePr/>
          <p:nvPr/>
        </p:nvGraphicFramePr>
        <p:xfrm>
          <a:off x="214200" y="142920"/>
          <a:ext cx="8715600" cy="6512040"/>
        </p:xfrm>
        <a:graphic>
          <a:graphicData uri="http://schemas.openxmlformats.org/drawingml/2006/table">
            <a:tbl>
              <a:tblPr/>
              <a:tblGrid>
                <a:gridCol w="4038840"/>
                <a:gridCol w="4676760"/>
              </a:tblGrid>
              <a:tr h="923760"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тандардни преглед мокраће (квалитативни и квантитативни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5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зглед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пецифична тежин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52560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емијски преглед мокраћ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4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Latn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H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протеини, глукоза, кетони, хемоглоб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обилиноген, билирубин, нитрити, леукоци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525600"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кроскопско испитивањ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0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истали: урати, калцијум фосфати, оксалати, лекови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фективни микроорганизми: бактерије, гљиве, трихомонас, нематод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906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Ћелије: ле, ер, тубул.овална масна тела,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стало: сперматозоиди, делови слузокоже, влакна, скроб, длака, ..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293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илиндри: хијалини, гранулирани, еритроцитни, леукоцитни, тубуларних ћелија, воштани, са липидним капи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cc"/>
                </a:solidFill>
                <a:latin typeface="Calibri"/>
              </a:rPr>
              <a:t>Дијагностички поступци</a:t>
            </a:r>
            <a:r>
              <a:rPr b="1" lang="sr-RS" sz="4400" spc="-1" strike="noStrike">
                <a:solidFill>
                  <a:srgbClr val="0000cc"/>
                </a:solidFill>
                <a:latin typeface="Calibri"/>
              </a:rPr>
              <a:t> анализе ури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Беланчевине у урину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Квалитативно (сулфосалицилном киселином, кувањем, тест тракама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Квантитативно (</a:t>
            </a:r>
            <a:r>
              <a:rPr b="0" i="1" lang="sr-Latn-CS" sz="2300" spc="-1" strike="noStrike">
                <a:solidFill>
                  <a:srgbClr val="000000"/>
                </a:solidFill>
                <a:latin typeface="Calibri"/>
              </a:rPr>
              <a:t>Biuret</a:t>
            </a: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sr-Latn-CS" sz="2300" spc="-1" strike="noStrike">
                <a:solidFill>
                  <a:srgbClr val="000000"/>
                </a:solidFill>
                <a:latin typeface="Calibri"/>
              </a:rPr>
              <a:t>Esbach</a:t>
            </a: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Уробилиноген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Гликозуриј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Кетонска тел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Хематуриј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При микроскопском прегледу седимента урина могу се у њему наћи бактерије, гљивице или сперматозоиди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Бактериолошко испитивање (</a:t>
            </a:r>
            <a:r>
              <a:rPr b="0" i="1" lang="sr-Latn-CS" sz="2300" spc="-1" strike="noStrike">
                <a:solidFill>
                  <a:srgbClr val="000000"/>
                </a:solidFill>
                <a:latin typeface="Calibri"/>
              </a:rPr>
              <a:t>UK</a:t>
            </a: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Урин на Левенштајн (</a:t>
            </a:r>
            <a:r>
              <a:rPr b="0" i="1" lang="sr-Latn-CS" sz="2300" spc="-1" strike="noStrike">
                <a:solidFill>
                  <a:srgbClr val="000000"/>
                </a:solidFill>
                <a:latin typeface="Calibri"/>
              </a:rPr>
              <a:t>PCR</a:t>
            </a: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cc"/>
                </a:solidFill>
                <a:latin typeface="Calibri"/>
              </a:rPr>
              <a:t>Дијагностички поступц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Урин</a:t>
            </a:r>
            <a:r>
              <a:rPr b="0" lang="ru-RU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«течна биопсија бубрега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Боја(бистра, светло-жута): црвена боја (хематурија-еритроцити, хемоглобинурија-повишен Хгб, миоглобинурија-оштећење мишића), порфирија, употреба лекова и уношење одређене хран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Мирис (амонијакалан мирис, устајали мирис, мирис гњилог воћа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Количина (1200-2000 </a:t>
            </a:r>
            <a:r>
              <a:rPr b="0" i="1" lang="sr-Latn-CS" sz="2700" spc="-1" strike="noStrike">
                <a:solidFill>
                  <a:srgbClr val="000000"/>
                </a:solidFill>
                <a:latin typeface="Calibri"/>
              </a:rPr>
              <a:t>ml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/24</a:t>
            </a:r>
            <a:r>
              <a:rPr b="0" i="1" lang="sr-Latn-CS" sz="2700" spc="-1" strike="noStrike" baseline="30000">
                <a:solidFill>
                  <a:srgbClr val="000000"/>
                </a:solidFill>
                <a:latin typeface="Calibri"/>
              </a:rPr>
              <a:t>h</a:t>
            </a:r>
            <a:r>
              <a:rPr b="0" lang="ru-RU" sz="27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cc"/>
                </a:solidFill>
                <a:latin typeface="Calibri"/>
              </a:rPr>
              <a:t>Хематур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Клинички значај хематурије огледа се у промени облика еритроци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Смежурани пролазе ГБ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Свежи настају у дисталним партијама мокраћних путе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cc"/>
                </a:solidFill>
                <a:latin typeface="Calibri"/>
              </a:rPr>
              <a:t>Седимент мокраћ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0000"/>
                </a:solidFill>
                <a:latin typeface="Calibri"/>
              </a:rPr>
              <a:t>епителне ћелије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(из површног епителног слоја мокраћних путева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0000"/>
                </a:solidFill>
                <a:latin typeface="Calibri"/>
              </a:rPr>
              <a:t>леукоцити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(већина су ПМНЛ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0000"/>
                </a:solidFill>
                <a:latin typeface="Calibri"/>
              </a:rPr>
              <a:t>еритроцити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(бубрежног или ванбубрежног порекла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0000"/>
                </a:solidFill>
                <a:latin typeface="Calibri"/>
              </a:rPr>
              <a:t>цилиндри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 (одливци тубула): хијалини-код сваке протеинурије, гранулисани-протеинска супстанца и дегенерисане тубулске ћелије, еритроцитни-доказ су да је крвављење бубрежног порекла,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леукоцитни-доказ запаљењског оштећења епитела тубул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CS" sz="2600" spc="-1" strike="noStrike">
                <a:solidFill>
                  <a:srgbClr val="000000"/>
                </a:solidFill>
                <a:latin typeface="Calibri"/>
              </a:rPr>
              <a:t>воштани-настају у патолошки проширеним тубулим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142920" y="162000"/>
          <a:ext cx="4357800" cy="6575400"/>
        </p:xfrm>
        <a:graphic>
          <a:graphicData uri="http://schemas.openxmlformats.org/drawingml/2006/table">
            <a:tbl>
              <a:tblPr/>
              <a:tblGrid>
                <a:gridCol w="4357800"/>
              </a:tblGrid>
              <a:tr h="39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абораторијски мониторинг ур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5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омерулска протеинурија (албумини и микроалбуминуриј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587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утна тубулска протеинур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99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ронична тубулска протеинур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69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мерена протеинурија, нитрити, ле естеразе, ле (неутрофили), цилиндри (ле, бакетријски)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869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ага протеинурија,</a:t>
                      </a:r>
                      <a:r>
                        <a:rPr b="0" lang="sr-Latn-R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sr-RS" sz="17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убулске епителне ћелије, цилиндри епителних ћелија, гранулирани, воштани, хијалини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597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ага протеинур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691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ематурија (еритроцити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емоглобин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73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оглоб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4645080" y="142920"/>
          <a:ext cx="4284720" cy="6602400"/>
        </p:xfrm>
        <a:graphic>
          <a:graphicData uri="http://schemas.openxmlformats.org/drawingml/2006/table">
            <a:tbl>
              <a:tblPr/>
              <a:tblGrid>
                <a:gridCol w="4284720"/>
              </a:tblGrid>
              <a:tr h="404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инички знача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860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лбумини се физиолошки ноћу мање излучују (нижа ТА и ГФ); Микроалбуминурија (код ДМ и КВБ) показује ране компликац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05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шки метаб. порем (ак.панкреатитис, опекотине, нефротоксични леков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52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ронични ПНФ, системске болести(саркоидоза, цироза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8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утни ПН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79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утна тубулска некро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655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НФ, ПББ, тубулски поремећаји, инфекције доњих партија уринарног тракта и бешик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70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лкулоза, бенигни и малигни тумори  бубрега и м.бешике, ГНФ, ПНФ, ИТИ, ПБ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72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емолиза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728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абдомиоли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cc"/>
                </a:solidFill>
                <a:latin typeface="Calibri"/>
              </a:rPr>
              <a:t>АНАМНЕЗА БОЛЕСНИКА СА БУБРЕЖНИМ БОЛЕСТИМ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898989"/>
                </a:solidFill>
                <a:latin typeface="Calibri"/>
              </a:rPr>
              <a:t>Дијагностика бубрежних боле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" name=""/>
          <p:cNvGraphicFramePr/>
          <p:nvPr/>
        </p:nvGraphicFramePr>
        <p:xfrm>
          <a:off x="214200" y="222120"/>
          <a:ext cx="4283280" cy="6332760"/>
        </p:xfrm>
        <a:graphic>
          <a:graphicData uri="http://schemas.openxmlformats.org/drawingml/2006/table">
            <a:tbl>
              <a:tblPr/>
              <a:tblGrid>
                <a:gridCol w="4283280"/>
              </a:tblGrid>
              <a:tr h="455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абораторијски мониторинг урин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еукоцитна естераз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Гликозуриј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етонска тела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90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илирубин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571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мфоцити, еозинофили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571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пителне ћелије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4269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Липидурија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77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илиндр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78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истали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4645080" y="214200"/>
          <a:ext cx="4284720" cy="6353280"/>
        </p:xfrm>
        <a:graphic>
          <a:graphicData uri="http://schemas.openxmlformats.org/drawingml/2006/table">
            <a:tbl>
              <a:tblPr/>
              <a:tblGrid>
                <a:gridCol w="4284720"/>
              </a:tblGrid>
              <a:tr h="438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инички знача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435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актеријска инфекци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12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М (хипергликемија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67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 контролу метаболичких процеса (више него за контролу бубрежних функција код ДМ, гладовања, или када се из исхране елиминишу угљени хидрати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2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.и хронични хепатитис, цироза јетре, холестаза, холангитис, холециститис и друга хепатоцелуларна обољења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дбацивање трансплантаираног бубрега, АТИН и ХТИН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ТУ, након катетеризације бешике, неоплазма, радиотерапи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398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С, слободне масне кап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8222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емодинамске промене у бубрезима, акутне или активне бубрежне болести, ГНФ, ТИН, ак.туб.некроза, нефротоксичне супстанц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  <a:tr h="798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аложе се када је концентрација соли већа од прага растворљив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bbb5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/>
          </p:nvPr>
        </p:nvSpPr>
        <p:spPr>
          <a:xfrm>
            <a:off x="456840" y="145800"/>
            <a:ext cx="4040280" cy="63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Нефритички седиме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6840" y="928440"/>
            <a:ext cx="4040280" cy="4071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173160" indent="-173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Црвена, браон или замућена мокраћ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Позитиван тест на хемоглобин и протеине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Еритроцити и ер.цилиндри (понекад и гранулирани и хијалини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Ово је тзв. ”активан седимент”, корелира са биоптичким налазом пролиферације, ле.инфилтрације, налазом полумесеца и поља некрозе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644720" y="142560"/>
            <a:ext cx="4041720" cy="63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Нефротски седиме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644720" y="928440"/>
            <a:ext cx="4041720" cy="40719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Светла или жућкаста боја урин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Протеинурија преко 3,5 гр и липидурија и блага микрохематуриј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Хијалини и ле цилиндри, овална масна тел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Ово је тзв. ”оскудан, благ или бениган седимент”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Ретки ер.цилиндри и тубуларне ћелије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5"/>
          <p:cNvSpPr/>
          <p:nvPr/>
        </p:nvSpPr>
        <p:spPr>
          <a:xfrm>
            <a:off x="428760" y="5072040"/>
            <a:ext cx="8286480" cy="1714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6"/>
          <p:cNvSpPr/>
          <p:nvPr/>
        </p:nvSpPr>
        <p:spPr>
          <a:xfrm>
            <a:off x="428760" y="5000760"/>
            <a:ext cx="828648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Хронични седимент: Прогресивна болест гломерула се карактерише фиброзом, седимент је мање абнормалан, смањује се протеинурија, хематурија, пиурија и цилиндруриј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У ПНФ ле. цил.са бактеријама; У инф.доњих м.пут.ле. цил. нема;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У АТН туб.ћелије, туб.и гранулирани цилиндри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ff0000"/>
                </a:solidFill>
                <a:latin typeface="Calibri"/>
              </a:rPr>
              <a:t>ПОРЕМЕЋАЈ ВОДЕ И ЕЛЕКТРОЛИ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cc"/>
                </a:solidFill>
                <a:latin typeface="Calibri"/>
              </a:rPr>
              <a:t>Испитивање бубрежних функц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86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alibri"/>
              </a:rPr>
              <a:t>Проценат телесне вод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142920" y="1143000"/>
          <a:ext cx="8929800" cy="5614920"/>
        </p:xfrm>
        <a:graphic>
          <a:graphicData uri="http://schemas.openxmlformats.org/drawingml/2006/table">
            <a:tbl>
              <a:tblPr/>
              <a:tblGrid>
                <a:gridCol w="2232000"/>
                <a:gridCol w="2233440"/>
                <a:gridCol w="2232000"/>
                <a:gridCol w="2232360"/>
              </a:tblGrid>
              <a:tr h="662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олумен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% ТТ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70 кг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90 кг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1141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купна телесна в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2 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4 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7639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раћелијска в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8 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 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763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кстраћелијска в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1141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ерстицијумска в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,5 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,5 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143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нтраваскуларна в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5 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,5 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alibri"/>
              </a:rPr>
              <a:t>Равнотежа воде у организм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285840" y="1000080"/>
          <a:ext cx="8572320" cy="5643720"/>
        </p:xfrm>
        <a:graphic>
          <a:graphicData uri="http://schemas.openxmlformats.org/drawingml/2006/table">
            <a:tbl>
              <a:tblPr/>
              <a:tblGrid>
                <a:gridCol w="1857240"/>
                <a:gridCol w="1571760"/>
                <a:gridCol w="1643040"/>
                <a:gridCol w="1214280"/>
                <a:gridCol w="1143000"/>
                <a:gridCol w="1143000"/>
              </a:tblGrid>
              <a:tr h="622440">
                <a:tc gridSpan="2" rowSpan="2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Унос (мл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5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Губитак (мл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2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ин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редњ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акс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603000">
                <a:tc row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да у течном облик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 rowSpan="2"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0-1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ри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722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еце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9237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ода из хран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00-1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лућ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325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таболичка в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-4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но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9241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купно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0-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купн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cc"/>
                </a:solidFill>
                <a:latin typeface="Calibri"/>
              </a:rPr>
              <a:t>Осмолалност и осмотска равнотеж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Осмолалност течности је концентрација свих растворених материја у њој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Осмотска равнотежа се успоставља проласком воде кроз ћелијску мембран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Промене у серумској осмолалности покрећу течност у ћелијама и изван њих и утичу на функцију и волумен ћелиј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Главне екстрацелуларне честице су </a:t>
            </a:r>
            <a:r>
              <a:rPr b="0" i="1" lang="sr-Latn-RS" sz="30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i="1" lang="sr-Latn-RS" sz="3000" spc="-1" strike="noStrike">
                <a:solidFill>
                  <a:srgbClr val="000000"/>
                </a:solidFill>
                <a:latin typeface="Calibri"/>
              </a:rPr>
              <a:t>C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sr-Latn-RS" sz="3000" spc="-1" strike="noStrike">
                <a:solidFill>
                  <a:srgbClr val="000000"/>
                </a:solidFill>
                <a:latin typeface="Calibri"/>
              </a:rPr>
              <a:t>HCO3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, док су </a:t>
            </a:r>
            <a:r>
              <a:rPr b="0" i="1" lang="sr-Latn-RS" sz="30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и органски фосфати (АТП, креатин-фосфат и фосфолипиди) доминантни у интрацелуларној течност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cc"/>
                </a:solidFill>
                <a:latin typeface="Calibri"/>
              </a:rPr>
              <a:t>Осмолалност и осмотска равнотеж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Промене количине воде у организму се клинички манифестују као хипернатремија и хипонатремиј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Промене концентрације </a:t>
            </a:r>
            <a:r>
              <a:rPr b="0" i="1" lang="sr-Latn-RS" sz="27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се клинички манифестују као поремећаји количине ИЦТ, ЕЦТ и ИВ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Унос воде се одвија преко механизма жеђи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која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настаје преко осморецептора у хипоталамусу које стимулише пораст концентрације растворених материја у плазм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Елиминација воде одвија се путем урина, столице и испаравањем - преко коже и респираторног тракт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cc"/>
                </a:solidFill>
                <a:latin typeface="Calibri"/>
              </a:rPr>
              <a:t>Осмолалност и осмотска равнотеж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Бубрежна екскреција воде: аргинин-васопресин или антидиурет</a:t>
            </a:r>
            <a:r>
              <a:rPr b="0" lang="sr-RS" sz="3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ки хормон се синтетише у хипоталамусу, а излучује га задњи режањ хипофиз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У дисталним тубулима проузрокује реапсорпцију воде из лумена дисталног тубул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Главни стимулус за секрецију АДХ је хиперосмоларност екстрацелуларне течности која доводи до промена волумена осморецепторских ћелија хипоталамуса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праг за лучење АДХ је 280 - 290 </a:t>
            </a:r>
            <a:r>
              <a:rPr b="0" i="1" lang="sr-Latn-RS" sz="3000" spc="-1" strike="noStrike">
                <a:solidFill>
                  <a:srgbClr val="000000"/>
                </a:solidFill>
                <a:latin typeface="Calibri"/>
              </a:rPr>
              <a:t>mOsmol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i="1" lang="sr-Latn-RS" sz="3000" spc="-1" strike="noStrike">
                <a:solidFill>
                  <a:srgbClr val="000000"/>
                </a:solidFill>
                <a:latin typeface="Calibri"/>
              </a:rPr>
              <a:t>kg</a:t>
            </a:r>
            <a:r>
              <a:rPr b="0" lang="sr-Latn-RS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alibri"/>
              </a:rPr>
              <a:t>Хиповолем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071720"/>
            <a:ext cx="822960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Повећана филтрација осмотски активних материја (глукозе, манитола и уреје, недостатак алдостерона, </a:t>
            </a:r>
            <a:r>
              <a:rPr b="0" i="1" lang="sr-Latn-RS" sz="2700" spc="-1" strike="noStrike">
                <a:solidFill>
                  <a:srgbClr val="000000"/>
                </a:solidFill>
                <a:latin typeface="Calibri"/>
              </a:rPr>
              <a:t>diabetes insipidus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, дијареја и повраћање, фебрилност, хипервентилација, топлотни удар, физички напор, секвестрација воде у "трећи простор“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) доводи до хиповолемиј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Хиповолемија и хипотензија, преко барорецептора, доводе до констрикције аферентних артериола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повећа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њ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активности система ренин-ангиотензин-алдостерон, што смањује гломеруларну филтрацију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Ангиотензин II и алдостерон повећавају реапсорпцију натријум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alibri"/>
              </a:rPr>
              <a:t>Клиничка слика хиповолем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071720"/>
            <a:ext cx="8229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Жеђ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мањен тургор коже, суве слузокоже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лабост, грчеви мишића, бол у стомаку и груди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остурална хипотензија и тахикардија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, о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лабљен пулс в.југулари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Хиповолемијски шок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бледи и хладни екстремитети, цијаноза, олигурија, хипотензија, тахикардија, конфузија, ступор, ко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асте однос уреа/креатин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Јавља се метаболичка ацидоза или алкалоз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Хематокрит је сниже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ска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онцентрација 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у 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урин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Осмолалност и спец</a:t>
            </a:r>
            <a:r>
              <a:rPr b="0" lang="sr-RS" sz="2400" spc="-1" strike="noStrike">
                <a:solidFill>
                  <a:srgbClr val="000000"/>
                </a:solidFill>
                <a:latin typeface="Calibri"/>
              </a:rPr>
              <a:t>ифична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тежина урина су високе, осим када је узрок хиповолемије </a:t>
            </a:r>
            <a:r>
              <a:rPr b="0" i="1" lang="sr-Latn-RS" sz="2400" spc="-1" strike="noStrike">
                <a:solidFill>
                  <a:srgbClr val="000000"/>
                </a:solidFill>
                <a:latin typeface="Calibri"/>
              </a:rPr>
              <a:t>diabetes insipidu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Calibri"/>
              </a:rPr>
              <a:t>Анамнеза болесника са бубрежним болестим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00008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Основу дијагнозе ББ чини правилно прикупљање свих релевантних података (аутоанамнеза и хетероанамнеза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Важно је утврдити ток болести (акутна или хронична форма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Важне су информације о ноћном умокравању или честим ИУТ у детињству (аномалије мокраћних канала), инфекције горњих дисајних путева или коже (постинфективни ГНФ или хронични ГНФ), о наглој појави ХТА у раној младости (реноваскуларна ХТА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Антибиотик или унос новог лека може условити различите форме ТИН, а дуготрајна употреба аналгетика аналгезичну нефропатију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Неке хроничне болести (ХТА, ДМ) могу бити узрок ХБИ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Calibri"/>
              </a:rPr>
              <a:t>Системске болести везивног ткива могу допринети развоју БИ, као и ТБЦ, РА, гихт, ММ, гојазност, опструктивна болест уринарног тракт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cc"/>
                </a:solidFill>
                <a:latin typeface="Calibri"/>
              </a:rPr>
              <a:t>Терапија </a:t>
            </a:r>
            <a:r>
              <a:rPr b="1" lang="en-US" sz="4400" spc="-1" strike="noStrike">
                <a:solidFill>
                  <a:srgbClr val="0000cc"/>
                </a:solidFill>
                <a:latin typeface="Calibri"/>
              </a:rPr>
              <a:t>хиповолем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докнад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воде, оралним путем или и.в. 0.9% </a:t>
            </a:r>
            <a:r>
              <a:rPr b="0" i="1" lang="sr-Latn-RS" sz="3200" spc="-1" strike="noStrike">
                <a:solidFill>
                  <a:srgbClr val="000000"/>
                </a:solidFill>
                <a:latin typeface="Calibri"/>
              </a:rPr>
              <a:t>NaCl</a:t>
            </a:r>
            <a:r>
              <a:rPr b="0" i="1" lang="sr-RS" sz="3200" spc="-1" strike="noStrike">
                <a:solidFill>
                  <a:srgbClr val="000000"/>
                </a:solidFill>
                <a:latin typeface="Calibri"/>
              </a:rPr>
              <a:t>, у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тешким случајевима 0.45% </a:t>
            </a:r>
            <a:r>
              <a:rPr b="0" i="1" lang="sr-Latn-RS" sz="3200" spc="-1" strike="noStrike">
                <a:solidFill>
                  <a:srgbClr val="000000"/>
                </a:solidFill>
                <a:latin typeface="Calibri"/>
              </a:rPr>
              <a:t>NaC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да је хиповолемија удружена са хипонатремијом може се користити 3% </a:t>
            </a:r>
            <a:r>
              <a:rPr b="0" i="1" lang="sr-Latn-RS" sz="3200" spc="-1" strike="noStrike">
                <a:solidFill>
                  <a:srgbClr val="000000"/>
                </a:solidFill>
                <a:latin typeface="Calibri"/>
              </a:rPr>
              <a:t>NaC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73160" indent="-173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колико се ради о крварењу 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трансфуз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alibri"/>
              </a:rPr>
              <a:t>Хипонатрем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700" spc="-1" strike="noStrike">
                <a:solidFill>
                  <a:srgbClr val="000000"/>
                </a:solidFill>
                <a:latin typeface="Calibri"/>
              </a:rPr>
              <a:t>Дефиниција: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Т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је стање у коме је ниво </a:t>
            </a:r>
            <a:r>
              <a:rPr b="0" i="1" lang="sr-Latn-RS" sz="27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у плазми &lt; 135 </a:t>
            </a:r>
            <a:r>
              <a:rPr b="0" i="1" lang="sr-Latn-RS" sz="2700" spc="-1" strike="noStrike">
                <a:solidFill>
                  <a:srgbClr val="000000"/>
                </a:solidFill>
                <a:latin typeface="Calibri"/>
              </a:rPr>
              <a:t>mmol/L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, настаје као последица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терапиј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диуретицима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код е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дематозн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их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стања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ко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БИ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код с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индром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повећане секреције АДХ (СИАДХ)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код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Адисонова болест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у п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римарн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ој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полидипсиј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1" lang="sr-RS" sz="2700" spc="-1" strike="noStrike">
                <a:solidFill>
                  <a:srgbClr val="000000"/>
                </a:solidFill>
                <a:latin typeface="Calibri"/>
              </a:rPr>
              <a:t>л.слика</a:t>
            </a:r>
            <a:r>
              <a:rPr b="1" lang="sr-Latn-RS" sz="27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Због мањка </a:t>
            </a:r>
            <a:r>
              <a:rPr b="0" i="1" lang="sr-Latn-RS" sz="27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у ЕЦТ, вода улази у ћелије, посебно у ћелије мозга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, д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олази до појаве можданог едема, са главобољом, мучнином, летаргијом, ступором, конвулзијама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, к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ада ниво </a:t>
            </a:r>
            <a:r>
              <a:rPr b="0" i="1" lang="sr-Latn-RS" sz="27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&lt; 120 </a:t>
            </a:r>
            <a:r>
              <a:rPr b="0" i="1" lang="sr-Latn-RS" sz="2700" spc="-1" strike="noStrike">
                <a:solidFill>
                  <a:srgbClr val="000000"/>
                </a:solidFill>
                <a:latin typeface="Calibri"/>
              </a:rPr>
              <a:t>mmol/L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настаје кома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alibri"/>
              </a:rPr>
              <a:t>Хипонатрем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Дијагноза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Концентрација натријума у крви је ниска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ниска 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смолалност плазме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смолалност и специфична тежина урина је ниска, осим код СИАДХ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Лечење</a:t>
            </a:r>
            <a:r>
              <a:rPr b="1" lang="sr-RS" sz="27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Хипо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sr-Latn-RS" sz="2700" spc="-1" strike="noStrike">
                <a:solidFill>
                  <a:srgbClr val="000000"/>
                </a:solidFill>
                <a:latin typeface="Calibri"/>
              </a:rPr>
              <a:t>Na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са хиповолемијом (повраћање, топлотни удар, Адисонова болест) лечимо и.в. давањем физиолошког раствора </a:t>
            </a:r>
            <a:r>
              <a:rPr b="0" i="1" lang="sr-Latn-RS" sz="2700" spc="-1" strike="noStrike">
                <a:solidFill>
                  <a:srgbClr val="000000"/>
                </a:solidFill>
                <a:latin typeface="Calibri"/>
              </a:rPr>
              <a:t>NaCl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. Хипо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sr-Latn-RS" sz="27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у едематозним стањима лечимо диуретицима Хенлеове петље. Хипо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0" i="1" lang="sr-Latn-RS" sz="27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у примарној полидипсији, СИАДХ и бубрежној инсуфицијенцији лечимо рестрикцијом уноса воде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alibri"/>
              </a:rPr>
              <a:t>Хипернатрием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0640" indent="-350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700" spc="-1" strike="noStrike">
                <a:solidFill>
                  <a:srgbClr val="000000"/>
                </a:solidFill>
                <a:latin typeface="Calibri"/>
              </a:rPr>
              <a:t>Дефиниција: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Ниво </a:t>
            </a:r>
            <a:r>
              <a:rPr b="0" i="1" lang="sr-Latn-RS" sz="27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у плазми &gt; 145 </a:t>
            </a:r>
            <a:r>
              <a:rPr b="0" i="1" lang="sr-Latn-RS" sz="2700" spc="-1" strike="noStrike">
                <a:solidFill>
                  <a:srgbClr val="000000"/>
                </a:solidFill>
                <a:latin typeface="Calibri"/>
              </a:rPr>
              <a:t>mmol/L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50640" indent="-350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Узроци: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повећан унос соли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смањен осећај жеђи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губитак воде из организма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, п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овећан унос соли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при претераном давању раствора хипертоног </a:t>
            </a:r>
            <a:r>
              <a:rPr b="0" i="1" lang="sr-Latn-RS" sz="2700" spc="-1" strike="noStrike">
                <a:solidFill>
                  <a:srgbClr val="000000"/>
                </a:solidFill>
                <a:latin typeface="Calibri"/>
              </a:rPr>
              <a:t>NaCl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i="1" lang="sr-Latn-RS" sz="2700" spc="-1" strike="noStrike">
                <a:solidFill>
                  <a:srgbClr val="000000"/>
                </a:solidFill>
                <a:latin typeface="Calibri"/>
              </a:rPr>
              <a:t>NaHCO</a:t>
            </a:r>
            <a:r>
              <a:rPr b="0" i="1" lang="sr-Latn-RS" sz="27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sr-RS" sz="2700" spc="-1" strike="noStrike" baseline="-25000">
                <a:solidFill>
                  <a:srgbClr val="000000"/>
                </a:solidFill>
                <a:latin typeface="Calibri"/>
              </a:rPr>
              <a:t>;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Смањена жеђ- примарна хиподипсија настаје због оштећења осморецептора у хипоталамусу</a:t>
            </a:r>
            <a:r>
              <a:rPr b="0" lang="sr-Latn-RS" sz="27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губитак воде при физичком напору, топлотном удару, фебрилним стањима, дијареји и повраћању, при употреби диуретика, у </a:t>
            </a:r>
            <a:r>
              <a:rPr b="0" i="1" lang="sr-Latn-RS" sz="2700" spc="-1" strike="noStrike">
                <a:solidFill>
                  <a:srgbClr val="000000"/>
                </a:solidFill>
                <a:latin typeface="Calibri"/>
              </a:rPr>
              <a:t>diabetes insipidus-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у, </a:t>
            </a:r>
            <a:r>
              <a:rPr b="0" i="1" lang="sr-Latn-RS" sz="2700" spc="-1" strike="noStrike">
                <a:solidFill>
                  <a:srgbClr val="000000"/>
                </a:solidFill>
                <a:latin typeface="Calibri"/>
              </a:rPr>
              <a:t>diabetes mellitus-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у и полиуричној фази </a:t>
            </a:r>
            <a:r>
              <a:rPr b="0" lang="sr-RS" sz="2700" spc="-1" strike="noStrike">
                <a:solidFill>
                  <a:srgbClr val="000000"/>
                </a:solidFill>
                <a:latin typeface="Calibri"/>
              </a:rPr>
              <a:t>АБИ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alibri"/>
              </a:rPr>
              <a:t>Хипернатрием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Клиничка слика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није драматична уколико болесник пије довољно воде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у супротном настаје жеђ, слабост, конвулзије, летаргија, ступор, кома, смрт (</a:t>
            </a:r>
            <a:r>
              <a:rPr b="0" i="1" lang="sr-Latn-RS" sz="2600" spc="-1" strike="noStrike">
                <a:solidFill>
                  <a:srgbClr val="000000"/>
                </a:solidFill>
                <a:latin typeface="Calibri"/>
              </a:rPr>
              <a:t>Na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у плазми &gt; 180 </a:t>
            </a:r>
            <a:r>
              <a:rPr b="0" i="1" lang="sr-Latn-RS" sz="2600" spc="-1" strike="noStrike">
                <a:solidFill>
                  <a:srgbClr val="000000"/>
                </a:solidFill>
                <a:latin typeface="Calibri"/>
              </a:rPr>
              <a:t>mmol/L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Дијагноза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Мерењем концентрације натријума у крв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Лечење</a:t>
            </a:r>
            <a:r>
              <a:rPr b="1" lang="sr-RS" sz="26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Надокна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да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вод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по формули: [(концентрација </a:t>
            </a:r>
            <a:r>
              <a:rPr b="0" i="1" lang="sr-Latn-RS" sz="26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– 140)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140] 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(0.4 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тежина); Пребрза надокнада течности може довести до едема мозга</a:t>
            </a:r>
            <a:r>
              <a:rPr b="0" lang="sr-Latn-RS" sz="26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sr-R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вода се надокнађује у облику 5% раствора гликозе, ређе у виду физиолошког раствора или назогастричном сондом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alibri"/>
              </a:rPr>
              <a:t>Метаболизам калијум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285840" y="1071360"/>
            <a:ext cx="857232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алијум је главни интрацелуларни катјон. Ниво К+ у ЕЦТ је 3.5 - 5.0 </a:t>
            </a:r>
            <a:r>
              <a:rPr b="0" i="1" lang="sr-Latn-RS" sz="3200" spc="-1" strike="noStrike">
                <a:solidFill>
                  <a:srgbClr val="000000"/>
                </a:solidFill>
                <a:latin typeface="Calibri"/>
              </a:rPr>
              <a:t>mmol/L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, а у ИЦТ око 150 </a:t>
            </a:r>
            <a:r>
              <a:rPr b="0" i="1" lang="sr-Latn-RS" sz="3200" spc="-1" strike="noStrike">
                <a:solidFill>
                  <a:srgbClr val="000000"/>
                </a:solidFill>
                <a:latin typeface="Calibri"/>
              </a:rPr>
              <a:t>mmol/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 метаболикој ацидози </a:t>
            </a:r>
            <a:r>
              <a:rPr b="0" i="1" lang="sr-Latn-R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улази у ћелију у замену за </a:t>
            </a:r>
            <a:r>
              <a:rPr b="0" i="1" lang="sr-Latn-RS" sz="32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у метаболичкој алкалози, калијум улази у ћелије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Оштећење ћелија доводи до изласка калијума у ЕЦТ</a:t>
            </a:r>
            <a:r>
              <a:rPr b="0" lang="sr-Latn-RS" sz="32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К+ се елиминише из организма путем бубрега. Секрецију калијума регулише алдостерон и концентрација </a:t>
            </a:r>
            <a:r>
              <a:rPr b="0" i="1" lang="sr-Latn-RS" sz="3200" spc="-1" strike="noStrike">
                <a:solidFill>
                  <a:srgbClr val="000000"/>
                </a:solidFill>
                <a:latin typeface="Calibri"/>
              </a:rPr>
              <a:t>K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у плазм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cc"/>
                </a:solidFill>
                <a:latin typeface="Calibri"/>
              </a:rPr>
              <a:t>Хипокалием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214280"/>
            <a:ext cx="8229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Ниво </a:t>
            </a:r>
            <a:r>
              <a:rPr b="0" i="1" lang="sr-Latn-RS" sz="21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у плазми &lt; 3.5 </a:t>
            </a:r>
            <a:r>
              <a:rPr b="0" i="1" lang="sr-Latn-RS" sz="2100" spc="-1" strike="noStrike">
                <a:solidFill>
                  <a:srgbClr val="000000"/>
                </a:solidFill>
                <a:latin typeface="Calibri"/>
              </a:rPr>
              <a:t>mmol/L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Узроци: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Употреба диуретика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Лечење дијабетесне коме инсулином+гликозом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β2-адренергички агонисти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лаксативи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назогастрична сукција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Дијализа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Трансфузија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Нагли раст ћелија (тумори)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вилозни аденом црева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ВИП-оми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Знојење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дијареја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повраћање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Примарни хипералдостеронизам и Кушингов синдром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Хиперренинемија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ренална тубуларна ацидоза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метаболичка алкалоз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Клиничка слика</a:t>
            </a:r>
            <a:r>
              <a:rPr b="1" lang="sr-RS" sz="21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Слабост, пареза и парализа мишића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укључујући дијафрагму, паралитички илеус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ЕКГ промене: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Проширење </a:t>
            </a:r>
            <a:r>
              <a:rPr b="0" i="1" lang="sr-Latn-RS" sz="2100" spc="-1" strike="noStrike">
                <a:solidFill>
                  <a:srgbClr val="000000"/>
                </a:solidFill>
                <a:latin typeface="Calibri"/>
              </a:rPr>
              <a:t>QRS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негативан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талас, </a:t>
            </a:r>
            <a:r>
              <a:rPr b="0" i="1" lang="sr-Latn-RS" sz="2100" spc="-1" strike="noStrike">
                <a:solidFill>
                  <a:srgbClr val="000000"/>
                </a:solidFill>
                <a:latin typeface="Calibri"/>
              </a:rPr>
              <a:t>ST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депресија, изражен У-талас, и вентрикуларна аритмија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Дијагноза: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На основу ЕКГ-а, одређивања нивоа К+у крви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Лечење: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Орална надокнада калијума: </a:t>
            </a:r>
            <a:r>
              <a:rPr b="0" i="1" lang="sr-Latn-RS" sz="2100" spc="-1" strike="noStrike">
                <a:solidFill>
                  <a:srgbClr val="000000"/>
                </a:solidFill>
                <a:latin typeface="Calibri"/>
              </a:rPr>
              <a:t>KCl, </a:t>
            </a:r>
            <a:r>
              <a:rPr b="0" lang="sr-Latn-RS" sz="2100" spc="-1" strike="noStrike">
                <a:solidFill>
                  <a:srgbClr val="000000"/>
                </a:solidFill>
                <a:latin typeface="Calibri"/>
              </a:rPr>
              <a:t>KHCO</a:t>
            </a:r>
            <a:r>
              <a:rPr b="0" lang="sr-Latn-RS" sz="21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i="1" lang="sr-Latn-RS" sz="21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-цитрат доводе до пада </a:t>
            </a:r>
            <a:r>
              <a:rPr b="0" i="1" lang="sr-Latn-RS" sz="2100" spc="-1" strike="noStrike">
                <a:solidFill>
                  <a:srgbClr val="000000"/>
                </a:solidFill>
                <a:latin typeface="Calibri"/>
              </a:rPr>
              <a:t>pH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код пацијента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; и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м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аксимално 20 </a:t>
            </a:r>
            <a:r>
              <a:rPr b="0" i="1" lang="sr-Latn-RS" sz="2100" spc="-1" strike="noStrike">
                <a:solidFill>
                  <a:srgbClr val="000000"/>
                </a:solidFill>
                <a:latin typeface="Calibri"/>
              </a:rPr>
              <a:t>mmol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sr-Latn-RS" sz="2100" spc="-1" strike="noStrike">
                <a:solidFill>
                  <a:srgbClr val="000000"/>
                </a:solidFill>
                <a:latin typeface="Calibri"/>
              </a:rPr>
              <a:t>KCl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/ путем инфузије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400" spc="-1" strike="noStrike">
                <a:solidFill>
                  <a:srgbClr val="0000cc"/>
                </a:solidFill>
                <a:latin typeface="Calibri"/>
              </a:rPr>
              <a:t>Хиперкалием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1430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7480" indent="-1774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Ниво калијума &gt;5.0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mmol/l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100" spc="-1" strike="noStrike">
                <a:solidFill>
                  <a:srgbClr val="000000"/>
                </a:solidFill>
                <a:latin typeface="Calibri"/>
              </a:rPr>
              <a:t>Узроци: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Разарање ћелија 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хемолиз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тумор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рабдомиолиз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мишићно напрезањ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; Метаболичк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ацидоз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АБИ и ХБИ,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литијаз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; Употребе лекова (дигиталис, диуретици који штеде калијум, </a:t>
            </a:r>
            <a:r>
              <a:rPr b="0" i="1" lang="sr-Latn-RS" sz="2100" spc="-1" strike="noStrike">
                <a:solidFill>
                  <a:srgbClr val="000000"/>
                </a:solidFill>
                <a:latin typeface="Calibri"/>
              </a:rPr>
              <a:t>ACE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инхибитори…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Клиничка слика</a:t>
            </a:r>
            <a:r>
              <a:rPr b="1" lang="sr-RS" sz="21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Губитак </a:t>
            </a:r>
            <a:r>
              <a:rPr b="0" i="1" lang="sr-Latn-RS" sz="21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-таласа, проширење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QRS, AV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–блок и блок гране, висок Т-талас 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, в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ентрикуларна фибрилација и асистолија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ада ниво калијума пређе 7,5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mmol/L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може доћи до смртног исход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Calibri"/>
              </a:rPr>
              <a:t>Дијагноза</a:t>
            </a:r>
            <a:r>
              <a:rPr b="1" lang="sr-RS" sz="2100" spc="-1" strike="noStrike">
                <a:solidFill>
                  <a:srgbClr val="000000"/>
                </a:solidFill>
                <a:latin typeface="Calibri"/>
              </a:rPr>
              <a:t>: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Тежина хиперкалијемије се процењује на основу концентрације К+ у плазми и ЕКГ-промен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7480" indent="-1774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100" spc="-1" strike="noStrike">
                <a:solidFill>
                  <a:srgbClr val="000000"/>
                </a:solidFill>
                <a:latin typeface="Calibri"/>
              </a:rPr>
              <a:t>Лечење: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Лечити основну болест или уклонити лек који доводи до хиперкалиемије; Хемодијализа је резервисана за најтеже случајеве; </a:t>
            </a:r>
            <a:r>
              <a:rPr b="0" i="1" lang="sr-Latn-RS" sz="2100" spc="-1" strike="noStrike">
                <a:solidFill>
                  <a:srgbClr val="000000"/>
                </a:solidFill>
                <a:latin typeface="Calibri"/>
              </a:rPr>
              <a:t>Ca-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глуконат и.в. смањује раздражљивост ћелијске мембране; Инсулин у 5- или 10% раствору гликозе доводи до уласка калијума у ћелије. 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i="1" lang="sr-Latn-RS" sz="2100" spc="-1" strike="noStrike">
                <a:solidFill>
                  <a:srgbClr val="000000"/>
                </a:solidFill>
                <a:latin typeface="Calibri"/>
              </a:rPr>
              <a:t>NaHCO</a:t>
            </a:r>
            <a:r>
              <a:rPr b="0" i="1" lang="sr-Latn-RS" sz="21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sr-RS" sz="21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као и β-2 адренергички агонисти; Диуретици Хенлеове петље; </a:t>
            </a:r>
            <a:r>
              <a:rPr b="0" lang="sr-RS" sz="21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мола која везује калијум у цревим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alibri"/>
              </a:rPr>
              <a:t>Регулација излучивања натријум хлори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Најважнији регулаторни систем за волумен ЕЋТ с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Симпатички нервни систе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Ренин-ангиотензин-алдостеро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Атријални натриуретски пепти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Вазопресин-АД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Ови системи мењају своју активност при савкој промени волумена а та промена регулише волумен утицајем на излучивање натријума мокраћо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cc"/>
                </a:solidFill>
                <a:latin typeface="Calibri"/>
              </a:rPr>
              <a:t>Регулаторни механизми хомеостазе воде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857160"/>
            <a:ext cx="82296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Calibri"/>
              </a:rPr>
              <a:t>Механизми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Неурогени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РА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Атријални натриуретски пептид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Антидиурезни хормон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Calibri"/>
              </a:rPr>
              <a:t>Повећање жеђи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Смањење секреције алдостерон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Повећање секреције АНП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Смањење секреције АД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Смањење симпатичке стумулације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0000"/>
                </a:solidFill>
                <a:latin typeface="Calibri"/>
              </a:rPr>
              <a:t>Смањење жеђи доводи до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Повећања секреције алдостерон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Смањење секреције АНП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Повећање АДХ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Calibri"/>
              <a:buChar char="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Повећање симпатичке стимулације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cc"/>
                </a:solidFill>
                <a:latin typeface="Calibri"/>
              </a:rPr>
              <a:t>Анамнеза болесника са бубрежним болестим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000080"/>
            <a:ext cx="83296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У фамилијарној анамнези наследне болести бубрега (Алпортов синдром, полицистична болест бубрега, ренална гликозурија, Фанцонијев синдром, цистинурија, БЕН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ад у шуми и пољу условљавају контакте са глодарима (лептоспире, стрептококе или вирусна хеморагијска грозниц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ад на високој температури може изазвати екстремни губитак течности АБИ, рабдомиолиза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Радници који раде у хемијској и тешкој индустрији спадају у ризичну групу због утицаја нефротоксичних супстанц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И медицински радници спадају у ризичну популацију због контаката са инфективним болесницима (хепатотропни вируси, ХИВ инфекције) и потенцијално инфективним материјал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alibri"/>
              </a:rPr>
              <a:t>Антидиуретски хормо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Синтетише се у хипоталамусу а лучи у неурохипофиз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Ослобађа се као одговор на високу осмолалност и смањен волумен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Повећава пропустљивост дисталних тубула бубрег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Низак АДХ повећава волумен урина и смањује осмолалност урин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Висок АДХ смањује волумен излучене мокраће а повећава осмолалност урин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Он је снажан вазоконстриктор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alibri"/>
              </a:rPr>
              <a:t>Регулација осмолалитета телесних теч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ада је унос течности мали, бубрег чува воду стварањем малих количина концентрованог ур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Када је унос течности велики проток урина се може повећати  са значајно нижим осмолалитетом од плазм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ве варијације у излучивању урина не мењају значајно излучивање дневног оптерећења супстанца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Ови процеси су под утицајем АД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alibri"/>
              </a:rPr>
              <a:t>Регулација осмолалитета телесних течно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Клиренс осмотски активних супстанци изражава се волуменом плазме која се очисти у једној минути: C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</a:rPr>
              <a:t>osm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осмолалност мокраће x волумен мокраће у мину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              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осмотска концентрација плазм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Клиренс слободне воде подразумева укупан волумен плазме који се очисти од вишка вод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Израчунава се тако што се прво одреди осмоларни клиренс а онда се добијена вредност одузме од волумена мокраће излученог у једној мину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Формула за израчунавање клиренса слободне воде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=волумен мокраће у минути 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s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Straight Connector 4"/>
          <p:cNvSpPr/>
          <p:nvPr/>
        </p:nvSpPr>
        <p:spPr>
          <a:xfrm>
            <a:off x="571680" y="2857680"/>
            <a:ext cx="61434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alibri"/>
              </a:rPr>
              <a:t>Метаболичка ацидо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Метаболичка ацидоза је пораст количине апсолутне телесне киселине, било од прекомерне производње или од прекомерног губитка бикарбоната,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Na 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Узроци метаболичке ацидозе укључују лактатну ацидозу, дијабетичку кетоацидозу и губитак бикарбоната дијарејом, бубрезима или гастроинтестиналним трактом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убрези чувају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Na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тако што га мењују за излучени јон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или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K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У присуству оптерећења водоником, </a:t>
            </a: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јони прелазе из ванћелијске течности у интраћелијску течнос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alibri"/>
              </a:rPr>
              <a:t>Метаболичка ацидо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Да би се тај процес реализовао,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се креће изван ћелије у екстраћелијску течност ради одржавања електронеутралности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Код тешке ацидозе може настати потпуни губитак залиха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упркос хиперкалемији у серум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Због тога се и.в.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даје пацијентима са дијабетичком кетоацидозом у раном третману, упркос често повишеном нивоу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у ​​серуму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Спољне и унутрашње равнотеже </a:t>
            </a:r>
            <a:r>
              <a:rPr b="0" i="1" lang="en-US" sz="26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су регулисане тако да одржавају концентрацију ванћелијске течности од 3,5 до 5,5 mEq/L и укупни телесни садржај око 50 mEq/kg (40 mEq/kg код жена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alibri"/>
              </a:rPr>
              <a:t>Метаболичка алкало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071720"/>
            <a:ext cx="822960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Настаје као последица примарног пораста 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HCO</a:t>
            </a:r>
            <a:r>
              <a:rPr b="0" i="1" lang="en-US" sz="23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уз или без компензаторног повећања 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pCO</a:t>
            </a:r>
            <a:r>
              <a:rPr b="0" i="1" lang="en-US" sz="23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pH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може бити повишен или скоро уредан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Узрок већином лежи у дуготрајном повраћању, хиповолемији, узимању диуретика и хипокалијемији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За одржавање алкалозе мора бити оштећено и бубрежно излучивање 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HCO</a:t>
            </a:r>
            <a:r>
              <a:rPr b="0" i="1" lang="en-US" sz="23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У тежим случајевима јавља се главобоља, тетанија и летаргиј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Клиничку дијагнозу потврђује анализа гасова у артеријској крви и електролита у серуму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Метаболичку алкалозу карактерише накупљање 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HCO</a:t>
            </a:r>
            <a:r>
              <a:rPr b="0" i="1" lang="en-US" sz="23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због губљења киселина, уноса база, унутарћелијског померања 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или задржавања </a:t>
            </a:r>
            <a:r>
              <a:rPr b="0" i="1" lang="en-US" sz="2300" spc="-1" strike="noStrike">
                <a:solidFill>
                  <a:srgbClr val="000000"/>
                </a:solidFill>
                <a:latin typeface="Calibri"/>
              </a:rPr>
              <a:t>HCO</a:t>
            </a:r>
            <a:r>
              <a:rPr b="0" i="1" lang="en-US" sz="23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alibri"/>
              </a:rPr>
              <a:t>Метаболичка алкало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071720"/>
            <a:ext cx="822960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уготрајна метаболичка алкалоза говори за повећану реапсорпцију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HCO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у бубрезима јер се нормално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HCO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тамо слободно филтрира и излучу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еплеција волумена и хипокалијемија су главни подражаји за повећану реапсорпцију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HCO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према томе, хипокалијемија је и узрок и посљедица метаболичке алкалоз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имптоми блаже алкалемије обично одражавају узрочно стањ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Тежа алкалемија повећава везивање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a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са протеинима, а хипокалцијемија онда узрокује главобољу, летаргију и неуромишићну пренадражљивост, с делиријем, тетанијом и конвулзија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alibri"/>
              </a:rPr>
              <a:t>Респираторна ацидо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285840" y="999720"/>
            <a:ext cx="857232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Респираторна ацидоза карактерише се порастом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PCO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, као последица хиповентилације, са или без компензаторног повишења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HCO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pH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је обично снижен, али може бити нормалан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Клиничка слика се манифестује главобољом, конфузијом, поспаношћу и ступором, болесници могу имати испаде меморије, сметње спавања, јављају се поремећаји хода, тремор, слабљење дубоких рефлекса, миоклони грчеви, груби тремор, едем папиле видног живца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Лечи се основна болест, уз давање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и примену механичке вентилације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Код хроничне респираторне ацидоза хиперкапнија се мора регулисати постепено, вишесатно, јер пребрзо снижење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PCO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може проузроковати постхиперкапнијску алкалозу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Нагли пораст можданог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pH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 изазива конвулзије и води у смрт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Давање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NaHCO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је махом контраиндиковано јер </a:t>
            </a:r>
            <a:r>
              <a:rPr b="0" i="1" lang="en-US" sz="2100" spc="-1" strike="noStrike">
                <a:solidFill>
                  <a:srgbClr val="000000"/>
                </a:solidFill>
                <a:latin typeface="Calibri"/>
              </a:rPr>
              <a:t>HCO</a:t>
            </a:r>
            <a:r>
              <a:rPr b="0" i="1" lang="en-US" sz="2100" spc="-1" strike="noStrike" baseline="-25000">
                <a:solidFill>
                  <a:srgbClr val="000000"/>
                </a:solidFill>
                <a:latin typeface="Calibri"/>
              </a:rPr>
              <a:t>3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може повисити PCO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Calibri"/>
              </a:rPr>
              <a:t>2 </a:t>
            </a: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у серуму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alibri"/>
              </a:rPr>
              <a:t>Респираторна алкало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999720"/>
            <a:ext cx="822960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Примарно снижење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CO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уз или без компензаторног снижења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HCO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;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је повишен или готово нормала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Узроци леже у повећаној фреквенцији или дубини дисања (хипервентилација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Клинички: хиперпнеја или тахипнеј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Лечење је каузално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Респираторна алкалоза је одраз примарног снижења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CO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(хипокапнија) због хипервентилације, као одговор на хипоксију, метаболичку ацидозу и повећане метаболичке захтев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Вишак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HCO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се неутрализира екстраћелијским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H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за пар мин, али се темељита компензација успоставља након 2–3 дана, када бубрези смањују излучивање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H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alibri"/>
              </a:rPr>
              <a:t>Респираторна алкалоз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285840" y="1071720"/>
            <a:ext cx="8572320" cy="505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Респираторна алкалоза доводи до вртоглавице, периферних парестезија, грчева и синкоп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Често су једини симптоми тахипнеја или хиперпнеја, у тежим се случајевима јављају карпопедални спазм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Препознавање респираторне алкалозе и примерене бубрежне компензације засноване су на анализи ацидобазног статуса и налазу серумских електролит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Могу се наћи и блага хипофосфатемија и хипокалијемија због помака у ћелије, као и снижење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због повећаног везивања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a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за протеин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Респираторна алкалоза не угрожава живот па интервенције ради повишења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pH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нису оправдан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Често се повећава инхалаторна концентрација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CO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 поновним удисањем издахнутог ваздух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cc"/>
                </a:solidFill>
                <a:latin typeface="Calibri"/>
              </a:rPr>
              <a:t>Питања у а</a:t>
            </a:r>
            <a:r>
              <a:rPr b="1" lang="sr-Latn-CS" sz="4000" spc="-1" strike="noStrike">
                <a:solidFill>
                  <a:srgbClr val="0000cc"/>
                </a:solidFill>
                <a:latin typeface="Calibri"/>
              </a:rPr>
              <a:t>намнез</a:t>
            </a:r>
            <a:r>
              <a:rPr b="1" lang="sr-RS" sz="4000" spc="-1" strike="noStrike">
                <a:solidFill>
                  <a:srgbClr val="0000cc"/>
                </a:solidFill>
                <a:latin typeface="Calibri"/>
              </a:rPr>
              <a:t>и код сумње на </a:t>
            </a:r>
            <a:r>
              <a:rPr b="1" lang="sr-Latn-CS" sz="4000" spc="-1" strike="noStrike">
                <a:solidFill>
                  <a:srgbClr val="0000cc"/>
                </a:solidFill>
                <a:latin typeface="Calibri"/>
              </a:rPr>
              <a:t>бубрежн</a:t>
            </a:r>
            <a:r>
              <a:rPr b="1" lang="sr-RS" sz="4000" spc="-1" strike="noStrike">
                <a:solidFill>
                  <a:srgbClr val="0000cc"/>
                </a:solidFill>
                <a:latin typeface="Calibri"/>
              </a:rPr>
              <a:t>е</a:t>
            </a:r>
            <a:r>
              <a:rPr b="1" lang="sr-Latn-CS" sz="4000" spc="-1" strike="noStrike">
                <a:solidFill>
                  <a:srgbClr val="0000cc"/>
                </a:solidFill>
                <a:latin typeface="Calibri"/>
              </a:rPr>
              <a:t> болест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85840" y="1499760"/>
            <a:ext cx="85723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а ли нормално мокри (количински и тегобе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а ли мокри често (дан-ноћ), да ли мокри мање или обилно и када (дан/ноћ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а ли има сметње (болове) при мокрењ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а ли има промене у боји и изгледу мокраћ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а ли има појаву крви у мокраћ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од жена питати за менструални циклус (када је била прва менструација, да ли је уредна, колико траје, да ли је обилна, болна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а ли је имала порођаје и колико, да ли је имала мртворођене дец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а ли је имала побача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а ли је имала и да ли има друге поремећаје у току менструациј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14292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alibri"/>
              </a:rPr>
              <a:t>Терапијске могућ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457200" y="1143000"/>
          <a:ext cx="8043840" cy="5357880"/>
        </p:xfrm>
        <a:graphic>
          <a:graphicData uri="http://schemas.openxmlformats.org/drawingml/2006/table">
            <a:tbl>
              <a:tblPr/>
              <a:tblGrid>
                <a:gridCol w="4022640"/>
                <a:gridCol w="4021200"/>
              </a:tblGrid>
              <a:tr h="107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3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сход 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3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Интервенција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107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жиљавање гломерул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За сада без могућности лечењ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07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споравање прогресије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иљни притисак, АЦЕ, АРБ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07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ревенција и лечење компликациј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СА, везачи фосфата, вит. Д, аналози, калцимиметиц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07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мањење кардиоваскуларног ризика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5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ижи циљни притисак, АЦЕи, АРБ, статини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cc"/>
                </a:solidFill>
                <a:latin typeface="Calibri"/>
              </a:rPr>
              <a:t>Радиолошке методе испитивања болести бубрег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-176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Нативни снимак уротракт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Интравенска и инфузиона урографиј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етроградна и антероградна урографија (цистографија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Ретроградна и микциона цистографиј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Ангиографија крвних судова бубрег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Компјутеризована томографиј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Магнетна резонанца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Сонографиј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76040" indent="-1760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libri"/>
              </a:rPr>
              <a:t>Допплер сонографија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cc"/>
                </a:solidFill>
                <a:latin typeface="Calibri"/>
              </a:rPr>
              <a:t>Радиолошко испитивање без контраст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Променама на костима (РОД, литичке ил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бластичне метастазе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Променама на меким ткивима облитерација псоаса је знак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локалне инфилтрације,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крвављења, тумора или урином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Ваздух, илеус или опструкциј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Калцификације 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Rectangle 7"/>
          <p:cNvSpPr/>
          <p:nvPr/>
        </p:nvSpPr>
        <p:spPr>
          <a:xfrm>
            <a:off x="642960" y="1428840"/>
            <a:ext cx="7286760" cy="714240"/>
          </a:xfrm>
          <a:prstGeom prst="rect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ffffff"/>
                </a:solidFill>
                <a:latin typeface="Calibri"/>
              </a:rPr>
              <a:t>Нативни снимак може дати податке о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642960"/>
            <a:ext cx="8229600" cy="118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cc"/>
                </a:solidFill>
                <a:latin typeface="Calibri"/>
              </a:rPr>
              <a:t>Интравенска урограф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на величине и изгледа бубре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Испитивање рекурентне уринарне опструк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ткривање и локализација калкулу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на суспектне уринарне опструкц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на узрока хематуриј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cc"/>
                </a:solidFill>
                <a:latin typeface="Calibri"/>
              </a:rPr>
              <a:t>ЕХО бубре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Процена величине бубрега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Скрининг за хидронефрозу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Диференцира масе у бубрегу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Процена периреналног простора за апсцес или хематом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Локализује бубрег за неинвазивне процедуре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РПЦ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Процењује резидуални урин (&gt;100 мл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Процена тромбозе реналне вене (Доплер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Процењује бубрежни проток (Доплер)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5712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cc"/>
                </a:solidFill>
                <a:latin typeface="Calibri"/>
              </a:rPr>
              <a:t>Компјутеризована томографиј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аља процена бубрежних ма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Раздвајање масе од калцифика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на нефункционишућег бубре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на трауме бубре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ијагноза феохромоцитома у надбубрег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56760" y="571680"/>
            <a:ext cx="8286840" cy="12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cc"/>
                </a:solidFill>
                <a:latin typeface="Calibri"/>
              </a:rPr>
              <a:t>Магнетна резонанц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о допуна ЦТ у процени реналних ма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ао алтернатива за ЦТ у пацијената који не подносе контрастна средств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Евалуација суспектног феохромоцитом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оцена тромбозе реналне вене и васкуларних поремећаја бубре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Diagram 1" descr=""/>
          <p:cNvPicPr/>
          <p:nvPr/>
        </p:nvPicPr>
        <p:blipFill>
          <a:blip r:embed="rId1"/>
          <a:stretch/>
        </p:blipFill>
        <p:spPr>
          <a:xfrm>
            <a:off x="500040" y="920880"/>
            <a:ext cx="8358120" cy="566244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1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alibri"/>
              </a:rPr>
              <a:t>АНГИОГРАФ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7" name="Picture 6" descr="Сродна слика"/>
          <p:cNvPicPr/>
          <p:nvPr/>
        </p:nvPicPr>
        <p:blipFill>
          <a:blip r:embed="rId2"/>
          <a:stretch/>
        </p:blipFill>
        <p:spPr>
          <a:xfrm>
            <a:off x="785880" y="2714760"/>
            <a:ext cx="23572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cc"/>
                </a:solidFill>
                <a:latin typeface="Calibri"/>
              </a:rPr>
              <a:t>Радионуклеидне метод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8564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Статичка сцинтиграф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Динамска сцинтиграф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Радиограф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Нуклеарно-медицинске методе за одређивање клирен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cc"/>
                </a:solidFill>
                <a:latin typeface="Calibri"/>
              </a:rPr>
              <a:t>Оклузија леве реналне артер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6840" y="1714320"/>
            <a:ext cx="297180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Реновазографиј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Content Placeholder 9" descr="20170914_090529.jpg"/>
          <p:cNvPicPr/>
          <p:nvPr/>
        </p:nvPicPr>
        <p:blipFill>
          <a:blip r:embed="rId1"/>
          <a:srcRect l="0" t="14463" r="0" b="5970"/>
          <a:stretch/>
        </p:blipFill>
        <p:spPr>
          <a:xfrm>
            <a:off x="500040" y="2714760"/>
            <a:ext cx="3030480" cy="321444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214520" y="1571400"/>
            <a:ext cx="414324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Динамска сцинтиграфија са сепаратним клиренсима и радиоренограмо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4" name="Content Placeholder 10" descr="20170914_090211.jpg"/>
          <p:cNvPicPr/>
          <p:nvPr/>
        </p:nvPicPr>
        <p:blipFill>
          <a:blip r:embed="rId2"/>
          <a:srcRect l="0" t="49831" r="0" b="9526"/>
          <a:stretch/>
        </p:blipFill>
        <p:spPr>
          <a:xfrm>
            <a:off x="4857840" y="3357720"/>
            <a:ext cx="303192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4000" spc="-1" strike="noStrike">
                <a:solidFill>
                  <a:srgbClr val="0000cc"/>
                </a:solidFill>
                <a:latin typeface="Calibri"/>
              </a:rPr>
              <a:t>ЗНАЦИ БУБРЕЖНИХ БОЛЕСТИ И МЕТОДЕ КЛИНИЧКИХ ПРЕГЛЕД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22160" y="290628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898989"/>
                </a:solidFill>
                <a:latin typeface="Calibri"/>
              </a:rPr>
              <a:t>Дијагностика бубрежних боле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cc"/>
                </a:solidFill>
                <a:latin typeface="Calibri"/>
              </a:rPr>
              <a:t>Биопсија бубре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Перкутана биопс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Трансјугуларна биопс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alibri"/>
              </a:rPr>
              <a:t>Отворена биопс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400" spc="-1" strike="noStrike">
                <a:solidFill>
                  <a:srgbClr val="0000cc"/>
                </a:solidFill>
                <a:latin typeface="Calibri"/>
              </a:rPr>
              <a:t>Индикација за биопсију бубрег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Нефротски синдр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Системски еритемски лупу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Брзопрогредирајући гломерулонефрити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Погоршање ф-је трансплантираног бубрег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симптоматска хематур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симптоматска протеинур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кутна инсуфицијенција бубрега нејасног узро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3600" spc="-1" strike="noStrike">
                <a:solidFill>
                  <a:srgbClr val="0000cc"/>
                </a:solidFill>
                <a:latin typeface="Calibri"/>
              </a:rPr>
              <a:t>Контраиндикациј</a:t>
            </a:r>
            <a:r>
              <a:rPr b="1" lang="sr-RS" sz="3600" spc="-1" strike="noStrike">
                <a:solidFill>
                  <a:srgbClr val="0000cc"/>
                </a:solidFill>
                <a:latin typeface="Calibri"/>
              </a:rPr>
              <a:t>е</a:t>
            </a:r>
            <a:r>
              <a:rPr b="1" lang="sr-Latn-CS" sz="3600" spc="-1" strike="noStrike">
                <a:solidFill>
                  <a:srgbClr val="0000cc"/>
                </a:solidFill>
                <a:latin typeface="Calibri"/>
              </a:rPr>
              <a:t> за биопсију бубрег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Апсолутне (поремећај крвављења и немогућност сарадње са болесником, нерегулисана хипертензија, хипотензиј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</a:rPr>
              <a:t>Релативне (смањени бубрези око 9 цм, екстремна гојазност, цисте на месту где се врши биопсија, пијелонефритис, апсцес бубрега, хидронефроз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57120" y="457200"/>
            <a:ext cx="8329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cc"/>
                </a:solidFill>
                <a:latin typeface="Calibri"/>
              </a:rPr>
              <a:t>Компликације биопсије бубрег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9528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икроскопско крвавље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акроскопско крвављењ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ериренални хемато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ртериовенска фистул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вреда околних орга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фректом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мр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920"/>
            <a:ext cx="822960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4000" spc="-1" strike="noStrike">
                <a:solidFill>
                  <a:srgbClr val="0000cc"/>
                </a:solidFill>
                <a:latin typeface="Calibri"/>
              </a:rPr>
              <a:t>Знаци бубрежних болестик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71280" y="571680"/>
          <a:ext cx="9001440" cy="6188040"/>
        </p:xfrm>
        <a:graphic>
          <a:graphicData uri="http://schemas.openxmlformats.org/drawingml/2006/table">
            <a:tbl>
              <a:tblPr/>
              <a:tblGrid>
                <a:gridCol w="4500720"/>
                <a:gridCol w="4500720"/>
              </a:tblGrid>
              <a:tr h="4219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имптоми и знац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линичка стањ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420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еда боја кож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Акутни ГНФ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723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епељасто-жута боја коже,смањен тургор, трагови чеша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рминална Б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алцификације меких ткива, Кусмаулово дисање, мишићни грчеви, конвулзије, амонијакални задах из уста, сомноленција, ко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рминална Б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7239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сечасто лице, грчеви, конвулзије, централна расподела масног ткива, ак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Терапија кортикостероиди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420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Едем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Испупчење предњег трбушног зи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Увећани бубрези, препуњена м.беши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4204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Бледи нок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  <a:tr h="422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Цртаста крвављења у нокти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Васкулити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1022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Крвављење у унутрашњим органима или телесним отворима, хиперемија конјунктива, петехијална осп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ХУС, ХГБ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e8d0d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9-06T18:02:46Z</dcterms:created>
  <dc:creator>Windows User</dc:creator>
  <dc:description/>
  <dc:language>en-US</dc:language>
  <cp:lastModifiedBy>MISEL</cp:lastModifiedBy>
  <dcterms:modified xsi:type="dcterms:W3CDTF">2019-09-07T21:04:55Z</dcterms:modified>
  <cp:revision>29</cp:revision>
  <dc:subject/>
  <dc:title>Slide 1</dc:title>
</cp:coreProperties>
</file>